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5f5f5f"/>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25D3-D05F-46D4-8D96-ED36BF2B3A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242E-53C5-4EFD-A4FD-EFEFB9C73C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a para el presentador</a:t>
            </a:r>
            <a:r>
              <a:rPr b="0" lang="en-US" sz="1200" spc="-1" strike="noStrike">
                <a:solidFill>
                  <a:srgbClr val="000000"/>
                </a:solidFill>
                <a:latin typeface="Arial"/>
              </a:rPr>
              <a:t>:  Usted debe leer el Material Informativo para el Participante de esta Unidad antes de hacer esta presentación. Asimismo, puede ver el video sobre la práctica SIGP que es parte de esta Unida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ípicamente, el conocimiento espacial indígena (CEI) cubre las siguientes áreas en escenarios rura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ción de recursos: cubierta y uso de la tierra, fuentes de agua, habit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o, control y acceso de recursos: caza, pesca, agricultura, pastoreo, minería, recolección y cosecha silvestre,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gares de significado histórico, cultural y religioso, tierras ancestrales y áreas sagrad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ción de peligro, por ejemplo,  derrumbes, inundaciones, enfermedades como la mala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224A-A7ED-4C37-B09C-E40B7F7A2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participación efectiva es clave para una buena práctica SIG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as para el presenta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lista no es exhaus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ted puede elaborar en el concepto de participación y específicamente en los “niveles de participación”. Para esto, puede leer y distribuir el material informativo “La Escalera de Participación” que se incluye en esta Unidad.</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129D-C3BD-4D14-95FB-3F9590E04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 brinda mayor información sobre los métodos de mapeo mencionados en esta diapositiva en el Módulo M06 y en los Módulos específicos indicados entre paréntesis.</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AA2F-7C64-490C-95F2-E5E765BA63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e tema se discute en detalle en el Módulo M05.</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31ED-4C9C-4616-8350-294876890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F504-9A92-4EF6-9003-7343CDB63F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79DF-073F-4E13-967D-D09F4A58FC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participativa / participación / participación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 saber más sobre los diferentes niveles de participación, puede consultar el material informativo  “La Escalera de Participaciónr” disponible en esta Unida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clic para agregar notas.</a:t>
            </a:r>
            <a:endParaRPr b="0" lang="en-US" sz="1200" spc="-1" strike="noStrike">
              <a:solidFill>
                <a:srgbClr val="000000"/>
              </a:solidFill>
              <a:latin typeface="Arial"/>
            </a:endParaRPr>
          </a:p>
        </p:txBody>
      </p:sp>
      <p:sp>
        <p:nvSpPr>
          <p:cNvPr id="12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4737-9A5D-4A4A-8280-1DD94C9498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2C84-8D06-48B3-B0F2-0ECB21EDEF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3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98E5-BA1C-47BD-9ED7-E6BFE6842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30E6-7C11-4F61-80BD-B9ABE8554A5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
        <p:nvSpPr>
          <p:cNvPr id="14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CBDF-EC3C-45D9-BEFB-213CB56EED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o-determinación, por ejemplo, protección de los derechos y títulos de tierras y recursos ancestr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stión o y resolución de conflictos:</a:t>
            </a:r>
            <a:r>
              <a:rPr b="1" lang="en-GB" sz="1200" spc="-1" strike="noStrike">
                <a:solidFill>
                  <a:srgbClr val="000000"/>
                </a:solidFill>
                <a:latin typeface="Arial"/>
              </a:rPr>
              <a:t> </a:t>
            </a:r>
            <a:r>
              <a:rPr b="0" lang="en-GB" sz="1200" spc="-1" strike="noStrike">
                <a:solidFill>
                  <a:srgbClr val="000000"/>
                </a:solidFill>
                <a:latin typeface="Arial"/>
              </a:rPr>
              <a:t>entre grupos comunitarios locales y entre las comunidades y las autoridades locales con relación al acceso, uso, control y distribución de recursos nat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rvación del patrimonio cultural intangible y construcción de identidad. Esto es importante entre pueblos indígenas y comunidade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D7DBE-EA93-4C6A-980E-CD04EB1B4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en gobierno: con relación a la transparencia y toma de decisiones concens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moción de equidad: con relación a la etnicidad, cultura, género y justicia ambiental.</a:t>
            </a:r>
            <a:endParaRPr b="0" lang="en-US" sz="1200" spc="-1" strike="noStrike">
              <a:solidFill>
                <a:srgbClr val="000000"/>
              </a:solidFill>
              <a:latin typeface="Arial"/>
            </a:endParaRPr>
          </a:p>
        </p:txBody>
      </p:sp>
      <p:sp>
        <p:nvSpPr>
          <p:cNvPr id="15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AE09-1B8C-489A-99B7-E7EB0D54B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BE8736-8F5E-4055-AAE2-BD9F1A91F37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D373E75-82A5-478D-A9DA-7217F786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0499A4D3-782D-4CE4-93C9-4C4F3B77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AC8A3EDA-6B62-4BD5-8E7B-E73D58EACC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9304620-5C48-4206-8F74-226DC90AC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F15AAED-EB79-420C-BAB6-E23921B83A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488D586-08FF-4947-9E4E-5105AEE71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CF11EFC-4855-4A20-B1C6-B915C37F0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C80A3A6-9CB8-4A37-B8CF-6A3673F52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14B45D4-2C40-47EA-A555-0E04002C7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6BA4BAD-920A-4543-ABE6-308A2C4C2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FF7C33A-E830-4425-BA34-D05414132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46520CD-470D-43E8-AE7D-B9084465E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84D58B9-8E77-4FF0-AD66-2DF10B403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BBA0D4C-9683-48DC-8AD2-0B2C696FD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D45778E-4A90-4E1D-9BDD-6CC67C3B66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84A4871-F2B2-4D33-9810-91FE311AB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F5D4640-F679-4BB3-A8E4-BFFEED4C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B880094A-4C36-48E9-B805-EC0E2C122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21C3B387-4624-446F-98A9-20217997B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27A2932F-6012-41E7-9DC8-8EE897948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FF81422-5334-407B-99D8-13068EBA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E1A2A7A-72CE-4296-B47D-E4C80E752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F2B5B58-7BA0-45A9-A070-EC91A8A8E5B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4A19-2690-4202-A229-9A69C657F6D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B012-9518-4DE6-A03E-C115B0A0CC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sentación de la Práctica SIGP</a:t>
            </a:r>
            <a:endParaRPr b="0" lang="en-US" sz="4400" spc="-1" strike="noStrike">
              <a:solidFill>
                <a:srgbClr val="cc3300"/>
              </a:solidFill>
              <a:latin typeface="Arial"/>
            </a:endParaRPr>
          </a:p>
        </p:txBody>
      </p:sp>
      <p:sp>
        <p:nvSpPr>
          <p:cNvPr id="90" name="Rectangle 4"/>
          <p:cNvSpPr/>
          <p:nvPr/>
        </p:nvSpPr>
        <p:spPr>
          <a:xfrm>
            <a:off x="3301560" y="5143680"/>
            <a:ext cx="26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Giacomo Rambaldi</a:t>
            </a:r>
            <a:endParaRPr b="0" lang="en-US" sz="1800" spc="-1" strike="noStrike">
              <a:solidFill>
                <a:srgbClr val="0000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1U01</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strucci</a:t>
            </a:r>
            <a:r>
              <a:rPr b="0" lang="en-GB" sz="4400" spc="-1" strike="noStrike">
                <a:solidFill>
                  <a:srgbClr val="cc3300"/>
                </a:solidFill>
                <a:latin typeface="Arial"/>
              </a:rPr>
              <a:t>ó</a:t>
            </a:r>
            <a:r>
              <a:rPr b="0" lang="en-US" sz="4400" spc="-1" strike="noStrike">
                <a:solidFill>
                  <a:srgbClr val="cc3300"/>
                </a:solidFill>
                <a:latin typeface="Arial"/>
              </a:rPr>
              <a:t>n a partir del Conocimiento Espacial Indígena</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tribuci</a:t>
            </a:r>
            <a:r>
              <a:rPr b="0" lang="en-GB" sz="3200" spc="-1" strike="noStrike">
                <a:solidFill>
                  <a:srgbClr val="5f5f5f"/>
                </a:solidFill>
                <a:latin typeface="Arial"/>
              </a:rPr>
              <a:t>ó</a:t>
            </a:r>
            <a:r>
              <a:rPr b="0" lang="en-US" sz="3200" spc="-1" strike="noStrike">
                <a:solidFill>
                  <a:srgbClr val="5f5f5f"/>
                </a:solidFill>
                <a:latin typeface="Arial"/>
              </a:rPr>
              <a:t>n de recursos.</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o, control y acceso a los recursos.</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ugares de significado hist</a:t>
            </a:r>
            <a:r>
              <a:rPr b="0" lang="en-GB" sz="3200" spc="-1" strike="noStrike">
                <a:solidFill>
                  <a:srgbClr val="5f5f5f"/>
                </a:solidFill>
                <a:latin typeface="Arial"/>
              </a:rPr>
              <a:t>ó</a:t>
            </a:r>
            <a:r>
              <a:rPr b="0" lang="en-US" sz="3200" spc="-1" strike="noStrike">
                <a:solidFill>
                  <a:srgbClr val="5f5f5f"/>
                </a:solidFill>
                <a:latin typeface="Arial"/>
              </a:rPr>
              <a:t>rico, cultural y religioso.</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mbres, cosmovisiones, creaci</a:t>
            </a:r>
            <a:r>
              <a:rPr b="0" lang="en-GB" sz="3200" spc="-1" strike="noStrike">
                <a:solidFill>
                  <a:srgbClr val="5f5f5f"/>
                </a:solidFill>
                <a:latin typeface="Arial"/>
              </a:rPr>
              <a:t>ó</a:t>
            </a:r>
            <a:r>
              <a:rPr b="0" lang="en-US" sz="3200" spc="-1" strike="noStrike">
                <a:solidFill>
                  <a:srgbClr val="5f5f5f"/>
                </a:solidFill>
                <a:latin typeface="Arial"/>
              </a:rPr>
              <a:t>n y mitos, de origen indígena.</a:t>
            </a:r>
            <a:endParaRPr b="0" lang="en-US" sz="3200" spc="-1" strike="noStrike">
              <a:solidFill>
                <a:srgbClr val="5f5f5f"/>
              </a:solidFill>
              <a:latin typeface="Arial"/>
            </a:endParaRPr>
          </a:p>
          <a:p>
            <a:pPr marL="343080" indent="-343080">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rcepci</a:t>
            </a:r>
            <a:r>
              <a:rPr b="0" lang="en-GB" sz="3200" spc="-1" strike="noStrike">
                <a:solidFill>
                  <a:srgbClr val="5f5f5f"/>
                </a:solidFill>
                <a:latin typeface="Arial"/>
              </a:rPr>
              <a:t>ó</a:t>
            </a:r>
            <a:r>
              <a:rPr b="0" lang="en-US" sz="3200" spc="-1" strike="noStrike">
                <a:solidFill>
                  <a:srgbClr val="5f5f5f"/>
                </a:solidFill>
                <a:latin typeface="Arial"/>
              </a:rPr>
              <a:t>n de peligros.</a:t>
            </a:r>
            <a:endParaRPr b="0" lang="en-US" sz="3200" spc="-1" strike="noStrike">
              <a:solidFill>
                <a:srgbClr val="5f5f5f"/>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mportancia de la “P”</a:t>
            </a:r>
            <a:endParaRPr b="0" lang="en-US" sz="4400" spc="-1" strike="noStrike">
              <a:solidFill>
                <a:srgbClr val="cc3300"/>
              </a:solidFill>
              <a:latin typeface="Arial"/>
            </a:endParaRPr>
          </a:p>
        </p:txBody>
      </p:sp>
      <p:sp>
        <p:nvSpPr>
          <p:cNvPr id="112" name=""/>
          <p:cNvSpPr txBox="1"/>
          <p:nvPr/>
        </p:nvSpPr>
        <p:spPr>
          <a:xfrm>
            <a:off x="324000" y="1599840"/>
            <a:ext cx="8362800" cy="4853160"/>
          </a:xfrm>
          <a:prstGeom prst="rect">
            <a:avLst/>
          </a:prstGeom>
          <a:noFill/>
          <a:ln w="0">
            <a:noFill/>
          </a:ln>
        </p:spPr>
        <p:txBody>
          <a:bodyPr anchor="t">
            <a:normAutofit/>
          </a:bodyPr>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na participación genuina de abajo hacia arriba debería atravesar el proceso: </a:t>
            </a:r>
            <a:endParaRPr b="0" lang="en-US" sz="32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 la comprensión de los marcos legales y regulatorios existente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stableciendo los objetivos de los proyectos. </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efiniendo estrategia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ligiendo métodos de mapeo apropiado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olectando, manejando, analizando, datos espaciales.</a:t>
            </a:r>
            <a:endParaRPr b="0" lang="en-US" sz="2800" spc="-1" strike="noStrike">
              <a:solidFill>
                <a:srgbClr val="5f5f5f"/>
              </a:solidFill>
              <a:latin typeface="Arial"/>
            </a:endParaRPr>
          </a:p>
          <a:p>
            <a:pPr lvl="1" marL="743040" indent="-28584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unicando, creando redes, defendien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erramientas, Métodos y  Tecnologías</a:t>
            </a:r>
            <a:endParaRPr b="0" lang="en-US" sz="4400" spc="-1" strike="noStrike">
              <a:solidFill>
                <a:srgbClr val="cc3300"/>
              </a:solidFill>
              <a:latin typeface="Arial"/>
            </a:endParaRPr>
          </a:p>
        </p:txBody>
      </p:sp>
      <p:sp>
        <p:nvSpPr>
          <p:cNvPr id="114" name=""/>
          <p:cNvSpPr txBox="1"/>
          <p:nvPr/>
        </p:nvSpPr>
        <p:spPr>
          <a:xfrm>
            <a:off x="468000" y="1700280"/>
            <a:ext cx="8496360" cy="489744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de terreno y croquis (M08).</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a escala y topografía (M09).</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odelado participativo en 3D (M10).</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utilizando imágenes aéreas y captadas a distancia (M11).</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SIG para la práctica de SIGP (M12).</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5f5f5f"/>
                </a:solidFill>
                <a:latin typeface="Arial"/>
              </a:rPr>
              <a:t>Mapeo participativo basado en Internet (M13).</a:t>
            </a:r>
            <a:endParaRPr b="0" lang="en-US" sz="3200" spc="-1" strike="noStrike">
              <a:solidFill>
                <a:srgbClr val="5f5f5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diciones Favorables y Desfavorables</a:t>
            </a:r>
            <a:endParaRPr b="0" lang="en-US" sz="4400" spc="-1" strike="noStrike">
              <a:solidFill>
                <a:srgbClr val="cc33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arcos legales y regulatori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ctitudes y comportamient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mbientes físicos como infraestructur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abilidade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ursos humanos y financiero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cus de control en el proceso.</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cus de control en el acceso y uso de los datos, por ejemplo, conocimiento es pod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a Gama de Consecuencias</a:t>
            </a:r>
            <a:endParaRPr b="0" lang="en-US" sz="4400" spc="-1" strike="noStrike">
              <a:solidFill>
                <a:srgbClr val="cc3300"/>
              </a:solidFill>
              <a:latin typeface="Arial"/>
            </a:endParaRPr>
          </a:p>
        </p:txBody>
      </p:sp>
      <p:sp>
        <p:nvSpPr>
          <p:cNvPr id="118" name=""/>
          <p:cNvSpPr txBox="1"/>
          <p:nvPr/>
        </p:nvSpPr>
        <p:spPr>
          <a:xfrm>
            <a:off x="324000" y="1341360"/>
            <a:ext cx="8820000" cy="5516640"/>
          </a:xfrm>
          <a:prstGeom prst="rect">
            <a:avLst/>
          </a:prstGeom>
          <a:noFill/>
          <a:ln w="0">
            <a:noFill/>
          </a:ln>
        </p:spPr>
        <p:txBody>
          <a:bodyPr anchor="t">
            <a:normAutofit/>
          </a:bodyPr>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articipación  genuina. No apariencias.</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Etica en la práctica. Una condición necesaria!</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ta tecnología vs baja tecnología: una combinación?</a:t>
            </a:r>
            <a:endParaRPr b="0" lang="en-US" sz="3200" spc="-1" strike="noStrike">
              <a:solidFill>
                <a:srgbClr val="5f5f5f"/>
              </a:solidFill>
              <a:latin typeface="Arial"/>
            </a:endParaRPr>
          </a:p>
          <a:p>
            <a:pPr marL="343080" indent="-34308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lgunas preguntas clave: </a:t>
            </a:r>
            <a:endParaRPr b="0" lang="en-US" sz="32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De quién es el SIG?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Las preguntas abordadas, de quién son?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ién establece la agenda?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é sucederá cuando se vayan los expertos o se acaben los fondos de los donantes? </a:t>
            </a:r>
            <a:endParaRPr b="0" lang="en-US" sz="2400" spc="-1" strike="noStrike">
              <a:solidFill>
                <a:srgbClr val="5f5f5f"/>
              </a:solidFill>
              <a:latin typeface="Arial"/>
            </a:endParaRPr>
          </a:p>
          <a:p>
            <a:pPr lvl="1" marL="743040" indent="-2858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Qué les queda a aquellos que generaron los datos y compartieron sus conocimiento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lujo de la Presentación</a:t>
            </a:r>
            <a:endParaRPr b="0" lang="en-US" sz="4400" spc="-1" strike="noStrike">
              <a:solidFill>
                <a:srgbClr val="cc33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Perspectiva históric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cerca de la práctica Participativa SIG (SIGP) .</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municación como ingrediente clave.</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textos.</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struyendo a partir del conocimiento espacial indígen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La importancia de la “P”.</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erramientas, métodos y tecnologías en la práctica.</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Condiciones favorables y desfavorables.</a:t>
            </a:r>
            <a:endParaRPr b="0" lang="en-US" sz="2600" spc="-1" strike="noStrike">
              <a:solidFill>
                <a:srgbClr val="5f5f5f"/>
              </a:solidFill>
              <a:latin typeface="Arial"/>
            </a:endParaRPr>
          </a:p>
          <a:p>
            <a:pPr marL="343080" indent="-343080">
              <a:lnSpc>
                <a:spcPct val="90000"/>
              </a:lnSpc>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Una gama de consecuencias.</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5" descr=""/>
          <p:cNvPicPr/>
          <p:nvPr/>
        </p:nvPicPr>
        <p:blipFill>
          <a:blip r:embed="rId1"/>
          <a:stretch/>
        </p:blipFill>
        <p:spPr>
          <a:xfrm>
            <a:off x="901800" y="1279440"/>
            <a:ext cx="7377120" cy="7242120"/>
          </a:xfrm>
          <a:prstGeom prst="rect">
            <a:avLst/>
          </a:prstGeom>
          <a:ln w="0">
            <a:noFill/>
          </a:ln>
        </p:spPr>
      </p:pic>
      <p:sp>
        <p:nvSpPr>
          <p:cNvPr id="96" name="TextBox 6"/>
          <p:cNvSpPr/>
          <p:nvPr/>
        </p:nvSpPr>
        <p:spPr>
          <a:xfrm>
            <a:off x="1928880" y="5786280"/>
            <a:ext cx="51433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f7f7f"/>
                </a:solidFill>
                <a:latin typeface="Arial"/>
              </a:rPr>
              <a:t>Imágenes cortesía de: Giacomo Rambaldi, CTA; </a:t>
            </a:r>
            <a:br>
              <a:rPr sz="1600"/>
            </a:br>
            <a:r>
              <a:rPr b="0" lang="en-GB" sz="1600" spc="-1" strike="noStrike">
                <a:solidFill>
                  <a:srgbClr val="7f7f7f"/>
                </a:solidFill>
                <a:latin typeface="Arial"/>
              </a:rPr>
              <a:t>y CyberTracker Conservation; </a:t>
            </a:r>
            <a:br>
              <a:rPr sz="1600"/>
            </a:br>
            <a:r>
              <a:rPr b="0" lang="en-GB" sz="1600" spc="-1" strike="noStrike">
                <a:solidFill>
                  <a:srgbClr val="7f7f7f"/>
                </a:solidFill>
                <a:latin typeface="Arial"/>
              </a:rPr>
              <a:t>Composición de Imágenes: Luigi Assom, C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erspectiva Histórica</a:t>
            </a:r>
            <a:endParaRPr b="0" lang="en-US" sz="4400" spc="-1" strike="noStrike">
              <a:solidFill>
                <a:srgbClr val="cc3300"/>
              </a:solidFill>
              <a:latin typeface="Arial"/>
            </a:endParaRPr>
          </a:p>
        </p:txBody>
      </p:sp>
      <p:sp>
        <p:nvSpPr>
          <p:cNvPr id="98" name=""/>
          <p:cNvSpPr txBox="1"/>
          <p:nvPr/>
        </p:nvSpPr>
        <p:spPr>
          <a:xfrm>
            <a:off x="468000" y="1413000"/>
            <a:ext cx="8472600" cy="51847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980s</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étodos de Evaluación Participativa Rural (EPR).</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Mapeo de terreno y croquis, mapeo transecto.</a:t>
            </a:r>
            <a:endParaRPr b="0" lang="en-US" sz="24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990s </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ecnologías de información geográfica innovadoras: </a:t>
            </a:r>
            <a:endParaRPr b="0" lang="en-US" sz="28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istemas de información geográfica (SIG).</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istemas de posicionamiento global (SPG).</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Software de análisis de teledetección de imágenes.  </a:t>
            </a:r>
            <a:endParaRPr b="0" lang="en-US" sz="2400" spc="-1" strike="noStrike">
              <a:solidFill>
                <a:srgbClr val="5f5f5f"/>
              </a:solidFill>
              <a:latin typeface="Arial"/>
            </a:endParaRPr>
          </a:p>
          <a:p>
            <a:pPr lvl="2" marL="1143000" indent="-228600">
              <a:lnSpc>
                <a:spcPct val="90000"/>
              </a:lnSpc>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Acceso libre a datos e imágenes espaciales en línea.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cerca de la Práctica Participativa de SIG</a:t>
            </a:r>
            <a:endParaRPr b="0" lang="en-US" sz="40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IG participativa es una práctica emerg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bin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l Aprendizaje Participativo y la Acción (APA).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Tecnologías de la información geográfic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municación / medi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plicaciones de la Web 2.0.</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cerca de la Práctica Participativa de SIG</a:t>
            </a:r>
            <a:endParaRPr b="0" lang="en-US" sz="40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práctica se orienta a empoderar a la comunidad a través de aplicaciones de tecnologías geoespaciales que sea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Medid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mpulsadas por la demand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Fáciles de usa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tegrad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Comunicaci</a:t>
            </a:r>
            <a:r>
              <a:rPr b="0" lang="en-GB" sz="4000" spc="-1" strike="noStrike">
                <a:solidFill>
                  <a:srgbClr val="cc3300"/>
                </a:solidFill>
                <a:latin typeface="Arial"/>
              </a:rPr>
              <a:t>ó</a:t>
            </a:r>
            <a:r>
              <a:rPr b="0" lang="en-US" sz="4000" spc="-1" strike="noStrike">
                <a:solidFill>
                  <a:srgbClr val="cc3300"/>
                </a:solidFill>
                <a:latin typeface="Arial"/>
              </a:rPr>
              <a:t>n: Ingrediente Clave</a:t>
            </a:r>
            <a:endParaRPr b="0" lang="en-US" sz="40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oducir, georreferenciar y visualizar el conocimiento espacial indígena ayuda a las comunidades 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nvolucrarse en diálogos de igual a igual.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Promover sus problemas y preocupaciones ante autoridades de nivel más alt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bordar fuerzas económica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extos</a:t>
            </a:r>
            <a:endParaRPr b="0" lang="en-US" sz="4400" spc="-1" strike="noStrike">
              <a:solidFill>
                <a:srgbClr val="cc33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uto-determin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Gestión y resolución de conflicto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vestigación colaborativ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lanificación y gestión colaborativa del uso de recurs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servación del patrimonio cultural intangibl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nstrucción de identidad.</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exto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Buen gobiern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ear conciencia y ayudar en la educación y aprendizaje soc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nejo de peligros y reducción de riesgos basados en la comunida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Promoción de la equid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como Rambaldi</dc:creator>
  <dc:description/>
  <dc:language>en-US</dc:language>
  <cp:lastModifiedBy>Valeria</cp:lastModifiedBy>
  <dcterms:modified xsi:type="dcterms:W3CDTF">2010-06-15T12:55:29Z</dcterms:modified>
  <cp:revision>20</cp:revision>
  <dc:subject/>
  <dc:title>Presentación - Introducción a la práctica SIG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