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5f5f5f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DCF4-76BD-4FBC-AA96-1F27F499F2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5f5f5f"/>
                </a:solidFill>
                <a:latin typeface="Arial"/>
              </a:rPr>
              <a:t>Apoye la difusión de “buenas prácticas” para generar, manejar, analizar y comunicar información espa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28BE-BB86-49CA-80DB-E7B7752612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es de hacer esta presentación, favor leer el Material Informativo 4T de la Unidad M01U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5f5f5f"/>
                </a:solidFill>
                <a:latin typeface="Arial"/>
              </a:rPr>
              <a:t>Apoye la difusión de “buenas prácticas” para generar, manejar, analizar y comunicar información espa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B885-E10C-4ABB-9637-402879160F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Hacer clic para agregar no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5f5f5f"/>
                </a:solidFill>
                <a:latin typeface="Arial"/>
              </a:rPr>
              <a:t>Apoye la difusión de “buenas prácticas” para generar, manejar, analizar y comunicar información espa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B26F-7396-459E-AAA3-95939016D1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Hacer clic para agregar no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media de 2:16-minutos disponible en la biblioteca de videos del Kit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. Nigel Crawhall, Director de la Secretaría del Comité de Coordinación de los Pueblos Indígenas de Africa (IPACC), una red pan-Africana, introduce el Kit de Capacitación sobre el Manejo y Comunicación de la Información Espacial Participativa y describe su valor en la promoción de buenas prácticas y añadir autoridad al conocimiento lo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5f5f5f"/>
                </a:solidFill>
                <a:latin typeface="Arial"/>
              </a:rPr>
              <a:t>Apoye la difusión de “buenas prácticas” para generar, manejar, analizar y comunicar información espa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A027-3A53-4412-93F9-44F4CCE32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te Kit de Capacitación no incluye capacitación en la formulación del proyecto. Sin embargo, puede encontrar algunos lineamientos en el material informativo electrónic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5f5f5f"/>
                </a:solidFill>
                <a:latin typeface="Arial"/>
              </a:rPr>
              <a:t>Apoye la difusión de “buenas prácticas” para generar, manejar, analizar y comunicar información espa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12AB-EAD3-41E5-8AC7-0B66608DA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el material informativo “Lista de Recursos Adicionales” de las Unidades M01U01 y M01U03, hay información sobre este sitio y otros simil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5f5f5f"/>
                </a:solidFill>
                <a:latin typeface="Arial"/>
              </a:rPr>
              <a:t>Apoye la difusión de “buenas prácticas” para generar, manejar, analizar y comunicar información espa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8384-B547-4654-B3D1-33117CEA9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Haga clic para agregar no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5f5f5f"/>
                </a:solidFill>
                <a:latin typeface="Arial"/>
              </a:rPr>
              <a:t>Apoye la difusión de “buenas prácticas” para generar, manejar, analizar y comunicar información espa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9E71-D580-4F55-BD3C-614FE55E80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Haga clic para agregar no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Header Placeholder 3"/>
          <p:cNvSpPr/>
          <p:nvPr/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5f5f5f"/>
                </a:solidFill>
                <a:latin typeface="Arial"/>
              </a:rPr>
              <a:t>Apoye la difusión de “buenas prácticas” para generar, manejar, analizar y comunicar información espa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2912-3093-4B68-B4A6-77F462358D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37FFE-29C8-4D81-B666-488D46F097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B23BB-A987-49FA-8B40-0E25FBC5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0640B-0785-46B6-B4E2-AE6F9EAE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4E4AC-C318-4EAA-A647-7945B0853D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298C9-D4C9-445A-A6DA-0F1B6F57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63F99-6602-4158-A829-D724C0E4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A4F48-475E-4913-BB94-1B1AE177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99038-26A3-44A3-9C22-9E8595E2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576A6-0092-413A-88F5-39A98280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C20DD-EC1F-409E-915F-6DF79606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1255F-FD2E-432B-9C4C-E703C009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45B92-946B-49CA-AA9B-176CB112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05E27-8F86-40BF-8CAA-39747BEA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E43A6-5A83-4B2E-B582-D86FE2F9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C95E8-01F9-4F86-BCF5-982B339C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68FA1-9630-4612-9EE9-73F524FC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4CF16-ABC2-4EDF-8504-5D185542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CBE9E-30B5-4300-9117-A8405B4C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8A335-8081-4B79-888B-1DB0B046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2686B-0630-43C3-9077-D457F8CA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ED04B-3179-4A89-A0A5-13679EF4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D8B47-AA6B-4F92-B970-F8CF810D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40003-80FA-4C5A-8624-54930FF1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FC553-5C00-4596-9234-1A7D09E7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7721-084A-4B83-8E3A-A9F936A41E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9717-E825-429F-965C-A22B758D99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articipatorygis.blogspot.com/" TargetMode="External"/><Relationship Id="rId2" Type="http://schemas.openxmlformats.org/officeDocument/2006/relationships/hyperlink" Target="http://participatorygis.blogspot.com/" TargetMode="External"/><Relationship Id="rId3" Type="http://schemas.openxmlformats.org/officeDocument/2006/relationships/hyperlink" Target="http://pgis.cta.int/" TargetMode="External"/><Relationship Id="rId4" Type="http://schemas.openxmlformats.org/officeDocument/2006/relationships/hyperlink" Target="http://pgis.cta.int/" TargetMode="External"/><Relationship Id="rId5" Type="http://schemas.openxmlformats.org/officeDocument/2006/relationships/hyperlink" Target="http://www.nativemaps.org/" TargetMode="External"/><Relationship Id="rId6" Type="http://schemas.openxmlformats.org/officeDocument/2006/relationships/hyperlink" Target="http://www.nativemaps.org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2857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¿Cómo fomentar la adopción  y el mejoramiento del </a:t>
            </a:r>
            <a:br>
              <a:rPr sz="4400"/>
            </a:b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Kit de Capacitación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308040" y="5143680"/>
            <a:ext cx="26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Por: Giacomo Rambal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dad: M01U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lujo de la Presentaci</a:t>
            </a: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ó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nsejos prácticos para crear conciencia interna y para vender ide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¿Cómo mantenerse actualizado y comunicado con los pares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aneras de contribuir en el mejoramiento del Kit de Capacitación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5" name="Picture 4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Creando Conciencia Intern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Debates de evaluación con colegas y supervisor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eminarios “brown bag” (bolsa de refrigerio)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formes para quienes están a cargo de hacer las políticas y tomar decision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Volant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8" name="Picture 4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Presentación del Kit de Capacitaci</a:t>
            </a:r>
            <a:r>
              <a:rPr b="0" lang="en-GB" sz="4000" spc="-1" strike="noStrike">
                <a:solidFill>
                  <a:srgbClr val="cc3300"/>
                </a:solidFill>
                <a:latin typeface="Arial"/>
              </a:rPr>
              <a:t>ón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rcRect l="1363" t="44915" r="20763" b="11977"/>
          <a:stretch/>
        </p:blipFill>
        <p:spPr>
          <a:xfrm>
            <a:off x="2500200" y="2000160"/>
            <a:ext cx="4071960" cy="342900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Venda sus Idea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ara implementar un programa de capacitación, usted deberá poder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Responder a la demand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Evaluar las necesidades de capacitación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Preparar el currículo de capacitació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dentificar a expertos en recurso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Crear una propuesta de proyect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Buscar financiamiento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Manteniéndose al Día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32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participatorygis.blogspot.com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: blog que ofrece las últimas noticias sobre la práctic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32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GB" sz="3200" spc="-1" strike="noStrike" u="sng">
                <a:solidFill>
                  <a:srgbClr val="cc3300"/>
                </a:solidFill>
                <a:uFillTx/>
                <a:latin typeface="Arial"/>
                <a:hlinkClick r:id="rId4"/>
              </a:rPr>
              <a:t>pgis.cta.int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: iniciativas de CTA sobre el mapeo participativ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3200" spc="-1" strike="noStrike" u="sng">
                <a:solidFill>
                  <a:srgbClr val="cc3300"/>
                </a:solidFill>
                <a:uFillTx/>
                <a:latin typeface="Arial"/>
                <a:hlinkClick r:id="rId6"/>
              </a:rPr>
              <a:t>www.nativemaps.org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: brinda apoyo a los pueblos indígenas que están enfrentando reclamos de tierras, negociaciones de tratados y desarrollo de recurs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Compartir entre Profesional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5f5f5f"/>
                </a:solidFill>
                <a:uFillTx/>
                <a:latin typeface="Arial"/>
              </a:rPr>
              <a:t>http://www.ppgis.net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: Foro abierto sobre Sistemas y Tecnologías de Información Geográfica Participativ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Puerta de enlace para tener acceso a listas de discusión en inglés, francés, portugués y español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¿Cómo contribuir en el mejoramiento del  Kit de Capacitación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06028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mparta sus experiencias y lecciones aprendidas al usar el Kit de Capacitación en </a:t>
            </a:r>
            <a:r>
              <a:rPr b="0" lang="en-GB" sz="3200" spc="-1" strike="noStrike" u="sng">
                <a:solidFill>
                  <a:srgbClr val="5f5f5f"/>
                </a:solidFill>
                <a:uFillTx/>
                <a:latin typeface="Arial"/>
              </a:rPr>
              <a:t>http://www.ppgis.net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Use el “Formato de Evaluación de Materiales (Materials Evaluation Form)”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nvíe retroalimentación a </a:t>
            </a:r>
            <a:r>
              <a:rPr b="0" lang="en-GB" sz="3200" spc="-1" strike="noStrike" u="sng">
                <a:solidFill>
                  <a:srgbClr val="5f5f5f"/>
                </a:solidFill>
                <a:uFillTx/>
                <a:latin typeface="Arial"/>
              </a:rPr>
              <a:t>pgis-tk@cta.in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4:18:28Z</dcterms:created>
  <dc:creator>Giacomo</dc:creator>
  <dc:description/>
  <cp:keywords>pgis training kit</cp:keywords>
  <dc:language>en-US</dc:language>
  <cp:lastModifiedBy>Valeria</cp:lastModifiedBy>
  <dcterms:modified xsi:type="dcterms:W3CDTF">2010-06-15T13:13:50Z</dcterms:modified>
  <cp:revision>38</cp:revision>
  <dc:subject/>
  <dc:title>Presentacion - Adopción y Mejoramiento del Kit de Capacit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ContentTypeId">
    <vt:lpwstr>0x010100524DE4F4C995CC49A2E3EBF903E298A700444F003324912E469596FEA97841A527</vt:lpwstr>
  </property>
  <property fmtid="{D5CDD505-2E9C-101B-9397-08002B2CF9AE}" pid="7" name="Keywords">
    <vt:lpwstr>pgis, training kit</vt:lpwstr>
  </property>
  <property fmtid="{D5CDD505-2E9C-101B-9397-08002B2CF9AE}" pid="8" name="Slides">
    <vt:lpwstr>1</vt:lpwstr>
  </property>
  <property fmtid="{D5CDD505-2E9C-101B-9397-08002B2CF9AE}" pid="9" name="Subject">
    <vt:lpwstr/>
  </property>
  <property fmtid="{D5CDD505-2E9C-101B-9397-08002B2CF9AE}" pid="10" name="_Author">
    <vt:lpwstr>Giacomo Rambaldi</vt:lpwstr>
  </property>
  <property fmtid="{D5CDD505-2E9C-101B-9397-08002B2CF9AE}" pid="11" name="_Category">
    <vt:lpwstr/>
  </property>
  <property fmtid="{D5CDD505-2E9C-101B-9397-08002B2CF9AE}" pid="12" name="_Comments">
    <vt:lpwstr/>
  </property>
</Properties>
</file>