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80A9-BFC4-4B6A-975A-8BEFD9B386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9AC4-67EF-404E-B10C-F2E5DC78D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e el Material Informativo para el Participante de esta uni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D4C3-0B8C-4545-937A-E6344529A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CD8C-B520-4D05-AA74-688B42840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D2D4-FF28-4BCB-B4A3-33EFB3EEE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0334-72C4-4344-9283-7EBCF2BEB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C399-9970-4820-9552-6A7456964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En qué sentido aprenden los adultos en forma distinta a la de los niños? Ver Ejercicio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11F3-F485-47D0-8AFF-923C5DAF3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CD86-0681-4A56-80F1-41616A65B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68E-D96D-484D-96CE-2209D3174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CF4B-4C2C-4A21-980C-BD41A1D21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A969-2386-42A4-91EC-B43822A54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2D7-D238-404C-8982-1B97A3FCE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A27-40A1-43E0-BBC3-CD3A0D442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25ED-205B-4B9A-89D0-8400C2793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E2D-E397-4712-9AE3-53E58A5E6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5F88-741E-42A0-830C-46B980649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Preguntar a los participantes qué saben sobre Aprendizaje Abierto y a Distancia, Recursos Educativos Abiertos, Software Libre y de Código Abierto (FLOSS) y Creative Commons (C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B0BF-0BC3-46FA-A5EE-F2864CB273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ABEC-34D1-4D4C-9E16-94EF0C893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E986-379E-40FB-B7FF-462931391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A806-AE38-4178-B542-1572C4660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87A5-4C78-4319-935E-711028E08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0CA-C18D-475A-8AEA-2280C05674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162-7075-4239-A678-16CF3B2F4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Este es el contexto de la Unidad M03U01 y de todo el Módulo M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5699-37FA-422D-BEC4-91F1ABB0B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E65B-B91F-4845-A7FB-9D574F7E6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506-3D22-44E9-B302-A4A3F342F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ntinuar con un ejercicio sobre Estilos Personales (Ejercicio No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3159-09B0-46D1-B403-92E92FA5D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D9E4-36FC-42FF-8354-8F13D7194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Dirija la atención de los participantes hacia la referéncia y continúe a la siguiente filmi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24E-C3E0-4226-A21C-79301C075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l aprendizaje sigue una progresión continua de experiencia-acción-reflex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266D-0795-42AA-8306-6F82F026C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Qué conceptos y perspectivas sobre el aprendizaje conocemos? Ver Ejercicio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ADFF-21C8-4610-AF8E-F71880261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536-F2C9-49AA-9896-EC63F8C72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AB10-EB63-4F0B-828A-BE476EDE9E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4930-3804-4BCE-8D43-1B2978E5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83DF-2344-45B2-ACFF-450E9D4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7601-D610-4CCD-9ECA-36669C875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E84AB-E15B-42DC-BB3A-767796DC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FB062-57E6-4525-A754-5654BCE0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F90F8-0441-49B0-8EEE-C0719E13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A5D38-BD15-4D35-B27C-1FBCB203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8C506-BF72-436A-91AB-667BF5FC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1CD54-C1B2-43FB-A685-DC648E23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67CFA-BD46-4D7E-8A3A-9735F263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A980-8518-4EA2-86D8-81327257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1550F-BA23-4DD6-8FF1-9A52DCE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B4166-C606-4443-86AE-F421F485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EB557-CD6D-4936-8FF6-65106975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175D5-60A1-419A-B977-FB02F104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0888D-4E4E-4C67-A74F-F82457B4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335E-D409-4187-9727-3F96CA7E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B6C5-D814-4FB2-B46C-06C2F5BA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1666-2B87-4F36-BEAF-93229A88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C2FA-D4D8-4B2A-98FE-969F4E1A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703E-809A-4DE9-88E1-CF871D70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EFDD-0183-4670-875F-F0F90DB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8EEC-C830-475A-9E27-ED713736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CE5E-622E-43C8-B463-019BB51CA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EEF4-2CBB-469D-B5C6-398926BCB9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worldagroforestrycentre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básico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50800" y="515772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3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señanza y aprendizaj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señanza hace que otras personas desarrollen habilidades y conocimien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prendizaje es un concepto más amplio, y ..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estudiantes no están necesariamente vinculados con una organización educativ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ducación y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ducación es amplia y gener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es corta y específica, y tiene objetivos concis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étodos de aprendizaj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radicional: capacitación formal presenci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prendizaje Abierto y a Distancia: </a:t>
            </a:r>
            <a:br>
              <a:rPr sz="3200"/>
            </a:b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a nueva tecnologí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ecnologías de información y comunicación, refuerzan el aprendizaj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étodos de aprendizaj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ejor método combina varios sentid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étodos deben seleccionarse de acuerdo con los objetivos de aprendizaje.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del 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Los adultos aprenden de manera distinta a los niños.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Es responsabilidad de los estudiantes alcanzar los objetivos.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Los adultos controlan su propio aprendizaje. 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100" spc="-1" strike="noStrike">
                <a:solidFill>
                  <a:srgbClr val="5f5f5f"/>
                </a:solidFill>
                <a:latin typeface="Arial"/>
              </a:rPr>
              <a:t>Los adultos necesitan ver la relevancia de la capacitación.</a:t>
            </a:r>
            <a:endParaRPr b="0" lang="en-US" sz="31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debe relacionarse con la experiencia laboral de los adulto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 fomentarse la participación activ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que brinda satisfacción estimula el aprendizaj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Ningún método de capacitación por sí mismo es el mejor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 útil tener una variedad de métodos.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métodos deben relacionarse con el contenido del aprendizaje (conocimiento, habilidades y actitudes)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 los adultos les gusta descubrir o idear soluciones (i.e. aprendizaje vivencial)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 los adultos les gusta comparar los logros con los estándar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ejercicios en grupo con frecuencia son más eficaces que el aprendizaje individual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prendizaje individual podría llenar las necesidades específicas de los estudiantes individual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os adultos necesitan ver todo el cuadro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Todos los aspectos de la capacitación deben relacionarse unos con otros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a capacitación debe seguir un orden lógico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El programa de moverse de: 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- 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 general a lo específico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-  lo sencillo a lo complejo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-  lo fácil a lo difíci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iclo de aprendizaje vivenci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nceptos y perspectivas del aprendizaj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incipios del aprendizaje de adulto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sarrollos recient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debe estar dentro de las habilidades de los  participant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teriales de capacitación deben ser específicos a los temas de la misma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mbiente y el tono de la capacitación deben ser alentadores y placenter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dad de concentración de los adultos es de 1½ ho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oncentración es mejor en la mañana, disminuye hacia el mediodía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oncentración es baja después del almuerzo, puede aumentar más tard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de Knowles para el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rendizaje de adulto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3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adultos necesitan saber por qué necesitan aprend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experiencias previas se convierten en importantes recursos para el aprendizaje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adultos aprenden a lidiar con una situ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orientación de los adultos hacia el aprendizaje se centra en la vi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motivación para los estudiantes adultos es intern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sarrollos recie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Aprendizaje Abierto y a Distancia (AAD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AD puede llenar las crecientes necesidades de aprendizaj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xisten muchos enfoques al A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Aprendizaje Abierto y a Distancia (AAD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racterísticas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eparación entre estudiantes y docentes en tiempo y/o espacio,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creditación institucional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so de paquetes multimedia (p. ej. Impresos, radio, computadora)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Aprendizaje Abierto y a Distancia (AAD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racterísticas 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municación de dos vías entre los estudiantes y los tutores, 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eracción presencial periódica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so de procesos industrializados en operaciones AAD de gran escal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Aprendizaje Abierto y a Distancia (AAD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tros término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ducación por correspondencia,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ducación continua,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prendizaje flexible y distribuido,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aprendizaje asistido por medios electrónicos o </a:t>
            </a:r>
            <a:r>
              <a:rPr b="0" i="1" lang="es-AR" sz="2800" spc="-1" strike="noStrike">
                <a:solidFill>
                  <a:srgbClr val="5f5f5f"/>
                </a:solidFill>
                <a:latin typeface="Arial"/>
              </a:rPr>
              <a:t>e-learning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 y aprendizaje virtual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ducación por medio de tecnologí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Recursos Educativos Abiertos (REA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REA ofrecen nuevas perspectivas sobre el aprendizaj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cepto de REA es una nueva (r)evolu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REA extienden el acceso al aprendizaje a todo el mund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Recursos Educativos Abiertos (REA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REA son materiales de aprendizaje digitalizados para la libre utilización y reutilización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ocas o ninguna restricción de derechos de autor (como FLOSS)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REA incluyen cursos completos, materiales del curso… y el Kit de Capacitación en SIGP.</a:t>
            </a:r>
            <a:r>
              <a:rPr b="0" lang="es-AR" sz="3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Kit de capacitación para gestión y comunicación participativas de información territorial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pacitación de instructores sobre fundamentos de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Recursos Educativos Abiertos (REA)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brecha divisoria del conocimiento quizás es más grave que la digit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mpartir gratis de los REA permite una difusión más amplia y rápida de la inform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reative Commons (C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oncepto de licencias de derechos de autor abiert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n 2002 se puso oficialmente a disposición del públic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mueve la creatividad en el dominio público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spectro de posibilidades entre todos los derechos reservados y libre de derechos.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os autores mantienen sus derechos de autor permitiendo a la vez ciertos usos de su obr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reative Commons (C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licencias CC pueden combina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jemplo 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ttribution - Share Alike (BY-SA). (Reconocimiento - Compartir bajo la misma licencia)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iclo de aprendizaje vivenci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Experiential Learning Cycle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179280" y="1700280"/>
            <a:ext cx="4202280" cy="3606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4288320" y="2421000"/>
            <a:ext cx="469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, B. and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eni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.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in agroforestry - A toolkit for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ág. 2.21. ISBN 92 9059 151 x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ld Agroforestry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d Nations Aven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irobi, Keni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worldagroforestrycentre.or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rco para el 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Experiential Learning Cycle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179280" y="1700280"/>
            <a:ext cx="4202280" cy="3606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5013000" y="3346560"/>
            <a:ext cx="279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bservación reflex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Gener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iencia nuev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rco para el aprendizaje de adul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ceptos y perspectivas del aprendizaje </a:t>
            </a: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comendaciones gener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eventos de capacitación deben ser cor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participación de las partes interesadas es importa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n promoverse el fortalecimiento de la capacidad institucional y la capacitación de instructo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ocimiento e inform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conocimiento y la información no son separab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y el aprendizaje transforman la información en conocimien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Rainer Zachmann</cp:lastModifiedBy>
  <dcterms:modified xsi:type="dcterms:W3CDTF">2010-02-18T18:08:04Z</dcterms:modified>
  <cp:revision>240</cp:revision>
  <dc:subject/>
  <dc:title>Presentación - Principios básicos de capci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