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808080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CA54-1FE8-40B6-B7D4-36DE44F298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60B9-0805-44F3-AD0C-0FF08C4F6C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utilizar esta presentación, estudie el Material Informativo para el Participante de esta Uni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21B9-5476-42BC-AFA7-034D830171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E569-6B6D-4919-9EAD-1C8DBA6532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6C2C-E024-4BBB-A9F9-7817500F07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presentar esta sección, haga una lluvia de ideas con los participantes sobre palabras clave relacionadas con esta pregunt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¿</a:t>
            </a: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Qué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foques de ENC podemos aplicar?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Ver Ejercicio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. 1. Escriba palabras clave en un rotafolio y luego continúe con la present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A692-5E79-4A0F-9A09-6245886F3D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6321-0933-45CB-BCA6-0A728DFC7C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DBF4-CF8F-4AA1-AC28-71AEA4AFDF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ta con los participantes sobre los usos y las limitaciones de cada método de E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75DD-1B90-4332-BD41-162083F7EF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ta con los participantes sobre los usos y las limitaciones de cada método de E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749A-4247-48D5-B040-003070F987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ta con los participantes sobre los usos y las limitaciones de cada método de E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25FD-C411-4B5E-BAAD-40EBD781FF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ta con los participantes sobre los usos y las limitaciones de cada método de E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8378-82C4-492D-8574-3A66E4E75B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ta con los participantes sobre los usos y las limitaciones de cada método de E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5B72-DBE8-4174-ADE2-EACA709A78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DF09-724D-424F-9D08-1FF31EBB02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ta con los participantes sobre los usos y las limitaciones de cada método de E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01FF-3AE7-4160-84F9-10FB503888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417D-ADC6-4231-B7DE-B3B5B2AF78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presentar esta sección, haga una lluvia de ideas con los participantes sobre palabras clave relacionadas con esta pregunt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¿Cómo realizaría usted una entrevista semi-estructurada sobre a) el arte de la entrevista; y b) el contenid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"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Ver Ejercicio No. 1. Escriba palabras clave en un rotafolio y luego continúe con la present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3C5D-0B21-4AE2-A78B-35636F140C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tilice el Material Informativo MP para detal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0D14-3DF9-4EC3-917B-1E0A88FE9F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tilice el Material Informativo MP para detal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4350-1F5C-46AF-A0A8-C483678726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te es el contexto de la Unidad M03U02; continúe en la próxima film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7ADC-4F87-42E2-8908-CF4938DFCD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te es el contexto de la Unidad M03U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ABFE-9B6E-4214-9485-BC7CE68771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presentar esta sección, haga una lluvia de ideas con los participantes sobre palabras clave relacionadas con esta pregunt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¿Por qué necesitamos evaluar las necesidades de capacitación? Ver Ejercicio No. 1. Escriba palabras clave en un rotafolio y luego continúe con la present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1291-36F3-4388-9903-576060C1BA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252A-D079-4877-80A5-F532C7BF82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913A-99DE-4FF6-BC89-E5990C248B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309D-49C9-43F8-ABDE-AA73B9632F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B583A-6DF5-45AA-8DF8-747F66CAC5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6129C-1971-461D-9735-F5AB12DA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5459C-37CA-4805-83C9-70A37082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08F4C-930D-4C9C-9EF1-A515714601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358A7-6ECC-4CA6-8C53-792F70DF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DAD56-77AF-496B-A748-537DAB26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99FC8-D8CA-4A6F-8014-30507CDD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051D5-C819-44E4-81BD-DA3C4EEE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00802-AC0E-468E-B5B7-8B87E707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46B72-E038-4F25-802D-2917B94D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80D69-E235-4AFF-BA83-FFD3E99A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BC887-E129-44F8-B5C9-41BC8C15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BF9AE-66BF-4368-A1E6-FADED583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782B4-73FD-4921-9777-45473742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53454-E9CE-4EE7-8E2D-E55E570E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B02D5-980B-4414-A436-8C761B32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78590-C3CE-4911-866D-F8083CE3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3C496-7337-4B40-AC70-FF5BCD04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29230-C48B-4B5B-80AE-F072A604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AA7D9-7671-4757-B85D-9F959785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7A675-18EB-4434-8390-DB0FCFED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88827-0676-466D-A2DF-8203154F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9A716-B0B9-47CD-A6F4-49CF1330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49AD-7C41-4AB5-80D0-7F40BD29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C772-5D42-4CD3-AED3-E1C69A20F4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E928-5D5E-4988-AF57-5B14B1B0FC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valuación de Necesidades de Capacitación </a:t>
            </a:r>
            <a:br>
              <a:rPr sz="4400"/>
            </a:b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(ENC)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18760" y="515772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Rainer Zach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: M03U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¿Qué determina la ENC?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i existe una necesidad real de capacit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causas principales del desempeño deficient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nivel de desempeño deseado </a:t>
            </a:r>
            <a:br>
              <a:rPr sz="3200"/>
            </a:b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(p. ej. los resultados esperados de la capacitación)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¿Qué determina la ENC?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atos de línea base para planificar el contenido y el alcance de la capacit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poyo posible de partes interesadas, organizaciones concernidas y participantes potencia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4280" y="2130120"/>
            <a:ext cx="6715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nfoque de la Evaluación de Necesidades de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ertinenci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apacitadores deciden en qué medida estos pasos son pertinentes para la ENC: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dentificar a partes interesadas pertinentes al proceso de capacitación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eguntar sobre sus expectativas, preocupaciones, sugerencias, posibles conflictos de interés, etc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dentificar retos que requieran capacitació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actores para la ENC </a:t>
            </a:r>
            <a:br>
              <a:rPr sz="4000"/>
            </a:b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C depende de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5f5f5f"/>
                </a:solidFill>
                <a:latin typeface="Arial"/>
              </a:rPr>
              <a:t>el conocimiento presente;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5f5f5f"/>
                </a:solidFill>
                <a:latin typeface="Arial"/>
              </a:rPr>
              <a:t>el tiempo disponible y los costos involucrados; 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5f5f5f"/>
                </a:solidFill>
                <a:latin typeface="Arial"/>
              </a:rPr>
              <a:t>la confiabilidad y la importancia de la información;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5f5f5f"/>
                </a:solidFill>
                <a:latin typeface="Arial"/>
              </a:rPr>
              <a:t>el número y la localización de las personas involucradas;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5f5f5f"/>
                </a:solidFill>
                <a:latin typeface="Arial"/>
              </a:rPr>
              <a:t>la confidencialidad de los datos;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5f5f5f"/>
                </a:solidFill>
                <a:latin typeface="Arial"/>
              </a:rPr>
              <a:t>el clima cultural y social dentro de una organización.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álisis del trabaj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eguntar sobre la frecuencia del trabajo, la importancia y las dificultad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timar prioridad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ntrevista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oducen información a profundidad, antecedentes y sugerencias.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trevista individual es intensiva en trabaj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Grupos de personas pertinentes pueden ser entrevistados junt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segurarse de obtener los puntos de vista de todos, no sólo de las personas más elocuent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uestionari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Recolectan información específica de un grupo grande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uestionarios quizás no permitan la libre expres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Observacion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ara evaluar habilidades, actitudes y comportamiento bajo situaciones reale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observaciones consumen tiempo y son intensas en trabaj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uebas de habilidades y conocimient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ruebas de habilidades evalúan las habilidad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desempeño inapropiado quizás se deba  a la falta de conocimiento.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ruebas de conocimiento complementan las pruebas de habilidad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¿Por qué evaluar las necesidades de capacitación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foque de la ENC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trevista semi-estructurada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visiones de datos sobre el desempeñ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dentifican posibles brechas en el desempeño a través de revisiones de dat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desempeño insuficiente podría confundirse con factores externos que no pueden solucionarse mediante capacitac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clusiones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C asegura que la capacitación pueda ocuparse de los reto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Quizás se necesitan medidas no relacionadas con capacit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apacitadores discuten pasos con las instituciones y personas concernid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2130120"/>
            <a:ext cx="7775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ntrevista semi-estructurada (ESE)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La entrevist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entrevistas son útiles para recopilar inform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ero la entrevista requiere habilidades y técnic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ntrevista semi-estructurad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trevista semi-estructurada requiere tomar en cuenta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 arte de la entrevista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 contenido de la entrevista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guías para la toma de not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valuación de Necesidades de Capacitación (ENC) da una guía </a:t>
            </a:r>
            <a:br>
              <a:rPr sz="3200"/>
            </a:b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ara lograr un evento de capacitación productiv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Unidad M03U02 ayuda a planificar e implementar una ENC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C aclara si la capacitación es la solución a un problem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apacitadores deciden cómo los factores descritos son pertinentes para la EN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¿Por qué evaluar las necesidades de capacitación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¿Por qué evaluar las necesidades de capacitación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capacitación sobre SIGP es diversa y complej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C debe ser un proceso abierto, flexible y dinámic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 programa de capacitación depende del context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¿Por qué evaluar las necesidades de capacitación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C determina el desempeño actual y el deseado; la diferencia, o brecha, es el aprendizaje que se necesit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C incluye el ambiente político, económico, social y cultural y los recursos físicos y humanos disponibl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¿Por qué evaluar las necesidades de capacitación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C recopila información sobre el conocimiento, las habilidades y las actitudes necesarias para el trabaj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 necesaria la inclusión participativa de los estudiantes para asegurar un sentido de apropiación, compromiso y logro de los objetiv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cluir a las partes interesadas pertinent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artes interesadas ayudan a identificar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uentes de información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tos administrativos y técnico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Obstáculos posibles y propuestas de solucion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Giulia Pedone</dc:creator>
  <dc:description/>
  <cp:keywords>pgis training kit</cp:keywords>
  <dc:language>en-US</dc:language>
  <cp:lastModifiedBy>martens</cp:lastModifiedBy>
  <dcterms:modified xsi:type="dcterms:W3CDTF">2010-02-23T09:46:37Z</dcterms:modified>
  <cp:revision>202</cp:revision>
  <dc:subject/>
  <dc:title>Presentación - Evaluación de necesidades de capacitación   (ENC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