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808080"/>
                </a:solidFill>
                <a:latin typeface="Times New Roman"/>
              </a:rPr>
              <a:t>Apoyo a la difusión de buenas prácticas en la generación, la gestión, el análisis y la comunicación de información territor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6ABE-F893-4D64-AAB0-5AF7251B37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D0E7-3704-4739-98F7-07B975A8F0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ntes de utilizar esta presentación, estudie el Material Informativo para el Participante de esta Unida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9447-EB73-4E1C-AE14-540B674906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C7BB-62AF-4461-9F26-992E4355A5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533D-5B6C-4880-AF9B-BDD7D2CAC3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ntes de presentar esta sección, haga una lluvia de ideas con los participantes sobre palabras clave relacionadas con esta pregunta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 ¿</a:t>
            </a:r>
            <a:r>
              <a:rPr b="0" lang="es-CO" sz="1200" spc="-1" strike="noStrike">
                <a:solidFill>
                  <a:srgbClr val="000000"/>
                </a:solidFill>
                <a:latin typeface="Arial"/>
              </a:rPr>
              <a:t>Qué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nfoques de ENC podemos aplicar?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Ver Ejercicio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. 1. Escriba palabras clave en un rotafolio y luego continúe con la presentació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88BE-15FE-4C8F-B0BB-B197930F26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48E5-8E1E-4F83-BF49-4064274B59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9055-1EE6-4CBC-9898-EA0824C507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scuta con los participantes sobre los usos y las limitaciones de cada método de E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3B9C-A579-423C-A393-D5DEA119C8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scuta con los participantes sobre los usos y las limitaciones de cada método de E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9E23-7380-4F3C-9A40-C0B995DBD6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scuta con los participantes sobre los usos y las limitaciones de cada método de E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C037-B1E0-48B8-9A46-34DCD74950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scuta con los participantes sobre los usos y las limitaciones de cada método de E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2843-6E40-44CE-AA97-E7918E7B36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scuta con los participantes sobre los usos y las limitaciones de cada método de E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7F70-0D8E-425F-96E3-1B2F98023E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56AB-2487-425F-A3EF-BA0B4001CE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scuta con los participantes sobre los usos y las limitaciones de cada método de E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BF86-0474-49F5-8EF0-C41870A514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2DB3-2A3E-475D-B5FA-42A9659464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ntes de presentar esta sección, haga una lluvia de ideas con los participantes sobre palabras clave relacionadas con esta pregunta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 ¿Cómo realizaría usted una entrevista semi-estructurada sobre a) el arte de la entrevista; y b) el contenido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"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. Ver Ejercicio No. 1. Escriba palabras clave en un rotafolio y luego continúe con la presentació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3D92-E34A-43C4-AA33-E6ECD7CB7E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tilice el Material Informativo MP para detal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D9DB-2179-4CCC-9212-41051E6812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tilice el Material Informativo MP para detal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40FB-3FB2-4D89-9C77-D0AB24BEBD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ste es el contexto de la Unidad M03U02; continúe en la próxima filmi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1F18-ECD6-4897-99E9-367930560D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ste es el contexto de la Unidad M03U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A1E4-C47A-4D46-B285-E06D14A0EF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ntes de presentar esta sección, haga una lluvia de ideas con los participantes sobre palabras clave relacionadas con esta pregunta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 ¿Por qué necesitamos evaluar las necesidades de capacitación? Ver Ejercicio No. 1. Escriba palabras clave en un rotafolio y luego continúe con la present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4BDC-C3F2-427D-B7ED-ED27E68BC9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86FD-CA34-412D-B775-9CF0FB2D18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1487-6A88-46B7-8278-776FD4F913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F227-BFEC-411C-ACE7-808D9BF623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B7B7F-B909-4DD2-A99B-BB19941409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FBC49-6B10-412E-8DD2-10136C3C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3212A-68DE-4328-98A0-C06270EB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3C6B3-E177-4C44-A027-CFD164FC4B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9BEC02-771A-45B4-B81B-81D7E799C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F34FA0-87F6-43CD-B385-F4E02A2D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5FF791-9E28-4171-8CA4-C9ECA001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484F31-BE6E-40FA-A0F4-A7CD55D9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B11C2-60E3-497E-8739-5CD957DC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9C9DC8-71C3-4C02-AF66-2709CEE0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08A974-3AA0-4C24-A7D8-26824D89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D7CD4-FB10-4FE2-969B-DD4BD7DB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D9DF39-8E22-4C38-B149-6B1AD2E5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14301-B757-4D75-8981-BC11EE54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A5CEF-B1A2-43C7-8529-F0B32C12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A6B7E2-C9BE-4491-A08B-7C003DF7A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9DC9F-4738-4A23-B940-B63CEF2C6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4268C-7565-49AD-A880-2318FC86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72FD1-4D45-445B-8FEB-FD6C84BE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4C107-9D9F-4349-85B4-525999463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8A8FD-9050-4DF2-8F39-2850C43F3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05D24-B528-4BC8-B1E3-82CADF38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2EEC5-A125-45E2-9E71-662223F1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8D6FF-92A8-45B1-8EDF-D4E59CB7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creativecommons.org/licenses/by-nc-sa/3.0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0A68-6B1A-43DE-8C12-4950DAF346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6600"/>
                </a:solidFill>
                <a:latin typeface="Arial"/>
              </a:rPr>
              <a:t>Apoyo a la difusión de buenas prácticas en la generación, la gestión, el análisis y la comunicación de información terri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c_license_by-nc-s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B5DF-0DFA-4774-B6ED-17C71C86CF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3.0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Evaluación de Necesidades de Capacitación </a:t>
            </a:r>
            <a:br>
              <a:rPr sz="4400"/>
            </a:b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(ENC)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218760" y="515772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969696"/>
                </a:solidFill>
                <a:latin typeface="Arial"/>
              </a:rPr>
              <a:t>Por:  </a:t>
            </a: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Rainer Zachma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5f5f5f"/>
                </a:solidFill>
                <a:latin typeface="Arial"/>
              </a:rPr>
              <a:t>Unidad</a:t>
            </a: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: M03U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cc_license_by-nc-s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¿Qué determina la ENC? 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Si existe una necesidad real de capacitació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causas principales del desempeño deficient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nivel de desempeño deseado </a:t>
            </a:r>
            <a:br>
              <a:rPr sz="3200"/>
            </a:b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(p. ej. los resultados esperados de la capacitación)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¿Qué determina la ENC? 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Datos de línea base para planificar el contenido y el alcance de la capacitació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Apoyo posible de partes interesadas, organizaciones concernidas y participantes potencial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4280" y="2130120"/>
            <a:ext cx="6715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Enfoque de la Evaluación de Necesidades de Capacit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Pertinenci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capacitadores deciden en qué medida estos pasos son pertinentes para la ENC: 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Identificar a partes interesadas pertinentes al proceso de capacitación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Preguntar sobre sus expectativas, preocupaciones, sugerencias, posibles conflictos de interés, etc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Identificar retos que requieran capacitación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Factores para la ENC </a:t>
            </a:r>
            <a:br>
              <a:rPr sz="4000"/>
            </a:b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ENC depende de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5f5f5f"/>
                </a:solidFill>
                <a:latin typeface="Arial"/>
              </a:rPr>
              <a:t>el conocimiento presente;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5f5f5f"/>
                </a:solidFill>
                <a:latin typeface="Arial"/>
              </a:rPr>
              <a:t>el tiempo disponible y los costos involucrados; 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5f5f5f"/>
                </a:solidFill>
                <a:latin typeface="Arial"/>
              </a:rPr>
              <a:t>la confiabilidad y la importancia de la información;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5f5f5f"/>
                </a:solidFill>
                <a:latin typeface="Arial"/>
              </a:rPr>
              <a:t>el número y la localización de las personas involucradas;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5f5f5f"/>
                </a:solidFill>
                <a:latin typeface="Arial"/>
              </a:rPr>
              <a:t>la confidencialidad de los datos;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5f5f5f"/>
                </a:solidFill>
                <a:latin typeface="Arial"/>
              </a:rPr>
              <a:t>el clima cultural y social dentro de una organización.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Análisis del trabaj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reguntar sobre la frecuencia del trabajo, la importancia y las dificultad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stimar prioridad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Entrevista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roducen información a profundidad, antecedentes y sugerencias. 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entrevista individual es intensiva en trabaj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Grupos de personas pertinentes pueden ser entrevistados junto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Asegurarse de obtener los puntos de vista de todos, no sólo de las personas más elocuent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Cuestionario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Recolectan información específica de un grupo grande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cuestionarios quizás no permitan la libre expresión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Observacion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ara evaluar habilidades, actitudes y comportamiento bajo situaciones reales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observaciones consumen tiempo y son intensas en trabaj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Pruebas de habilidades y conocimient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pruebas de habilidades evalúan las habilidad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desempeño inapropiado quizás se deba  a la falta de conocimiento. 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pruebas de conocimiento complementan las pruebas de habilidad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Índic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¿Por qué evaluar las necesidades de capacitación?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nfoque de la ENC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ntrevista semi-estructurada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Revisiones de datos sobre el desempeñ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Identifican posibles brechas en el desempeño a través de revisiones de dato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desempeño insuficiente podría confundirse con factores externos que no pueden solucionarse mediante capacitación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Conclusiones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ENC asegura que la capacitación pueda ocuparse de los retos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Quizás se necesitan medidas no relacionadas con capacitació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capacitadores discuten pasos con las instituciones y personas concernida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2130120"/>
            <a:ext cx="7775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Entrevista semi-estructurada (ESE)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La entrevist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entrevistas son útiles para recopilar informació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ero la entrevista requiere habilidades y técnica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Entrevista semi-estructurad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entrevista semi-estructurada requiere tomar en cuenta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l arte de la entrevista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l contenido de la entrevista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guías para la toma de nota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Evaluación de Necesidades de Capacitación (ENC) da una guía </a:t>
            </a:r>
            <a:br>
              <a:rPr sz="3200"/>
            </a:b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ara lograr un evento de capacitación productivo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Unidad M03U02 ayuda a planificar e implementar una ENC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ENC aclara si la capacitación es la solución a un problema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capacitadores deciden cómo los factores descritos son pertinentes para la ENC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¿Por qué evaluar las necesidades de capacitación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¿Por qué evaluar las necesidades de capacitación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capacitación sobre SIGP es diversa y compleja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ENC debe ser un proceso abierto, flexible y dinámico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Un programa de capacitación depende del context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¿Por qué evaluar las necesidades de capacitación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ENC determina el desempeño actual y el deseado; la diferencia, o brecha, es el aprendizaje que se necesita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ENC incluye el ambiente político, económico, social y cultural y los recursos físicos y humanos disponibl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¿Por qué evaluar las necesidades de capacitación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ENC recopila información sobre el conocimiento, las habilidades y las actitudes necesarias para el trabaj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s necesaria la inclusión participativa de los estudiantes para asegurar un sentido de apropiación, compromiso y logro de los objetivo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ncluir a las partes interesadas pertinent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partes interesadas ayudan a identificar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fuentes de información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retos administrativos y técnicos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Obstáculos posibles y propuestas de solucione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09:09:28Z</dcterms:created>
  <dc:creator>Giulia Pedone</dc:creator>
  <dc:description/>
  <cp:keywords>pgis training kit</cp:keywords>
  <dc:language>en-US</dc:language>
  <cp:lastModifiedBy>martens</cp:lastModifiedBy>
  <dcterms:modified xsi:type="dcterms:W3CDTF">2010-02-23T09:46:37Z</dcterms:modified>
  <cp:revision>202</cp:revision>
  <dc:subject/>
  <dc:title>Presentación - Evaluación de necesidades de capacitación   (ENC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Document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