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808080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F208-509C-4116-A450-22C9ADCF84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9909-410D-48A0-90B1-A9059F564E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utilizar esta presentación, estudie el Material Informativo para el Participante de esta Unid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823A-387A-4516-9EB7-4D4415A3C8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E5BD-4647-4101-B4DC-3629F609B4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EDB8-5585-4700-A474-FBCA60EA9A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presentar esta sección, haga una lluvia de ideas con los participantes sobre palabras clave relacionadas con esta pregunta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¿</a:t>
            </a: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Qué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foques de ENC podemos aplicar?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Ver Ejercicio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. 1. Escriba palabras clave en un rotafolio y luego continúe con la present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FAF4-28C9-4E29-9BD0-7B908B35E5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77BE-5938-46B3-8EB4-2C66FD119F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290A-343D-4931-9BBD-0656EBEFE7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ta con los participantes sobre los usos y las limitaciones de cada método de E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DC24-9733-47BA-9B02-AB5F64A305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ta con los participantes sobre los usos y las limitaciones de cada método de E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597A-C473-416D-AAB9-834B6C5165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ta con los participantes sobre los usos y las limitaciones de cada método de E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9AFF-8DDB-4E54-AABD-2A1AFF4FB8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ta con los participantes sobre los usos y las limitaciones de cada método de E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8EEC-B6CD-43A9-824D-397411608F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ta con los participantes sobre los usos y las limitaciones de cada método de E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140C-7E3A-400A-A662-74B7FC81C4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87B9-6D80-46EB-A7F9-91093444E5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cuta con los participantes sobre los usos y las limitaciones de cada método de E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5FE0-E00E-4BB1-AB5B-4C05685E12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6925-229D-4D0B-B2F1-3C305F2FAA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presentar esta sección, haga una lluvia de ideas con los participantes sobre palabras clave relacionadas con esta pregunta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¿Cómo realizaría usted una entrevista semi-estructurada sobre a) el arte de la entrevista; y b) el contenid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"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 Ver Ejercicio No. 1. Escriba palabras clave en un rotafolio y luego continúe con la present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96B2-50A9-4267-9F84-04CBE15CD7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tilice el Material Informativo MP para detal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7EBC-C9B4-4871-8F3E-8ED3F5559B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tilice el Material Informativo MP para detal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85A3-7DD3-454B-9577-9ECB4BDCD1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te es el contexto de la Unidad M03U02; continúe en la próxima film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1E3C-CF55-4E42-A5B5-99B559F4E2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te es el contexto de la Unidad M03U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08E3-ED33-404C-9CC9-76B4BA4A91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presentar esta sección, haga una lluvia de ideas con los participantes sobre palabras clave relacionadas con esta pregunta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¿Por qué necesitamos evaluar las necesidades de capacitación? Ver Ejercicio No. 1. Escriba palabras clave en un rotafolio y luego continúe con la present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2F0E-3C37-4BDE-AD42-BE417ECDB1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0218-7647-4821-8D76-5154758915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E832-5AB0-49BC-B399-13E62D9B7E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D996-3B6E-48F8-BADD-66EBED4A76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3557B-F30A-40EC-9687-79EFB00577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3A255-3529-4E4B-9D25-B377443E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2CDD0-2302-4EC2-A791-BCD66C21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E6AD8-44C0-4E21-A74C-B77D0652B6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DE7FF-C3A6-48E2-90F0-C2300A2F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3FF1D-4582-4682-ADE4-E905872F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AD760-D2DA-4031-AC00-5772DDC3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84DA0-E7F6-4891-9A34-CA031B4E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8A0AD-6644-473A-B573-E00313EF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55B17-43AA-4671-B547-40827527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118E6-71F9-4178-81AF-71663820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FC593-20E5-4909-A8C0-84BE37C0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D6C37-3D8C-4F07-A34B-69CB9B2B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EDD07-6624-423F-A730-20DF183B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667FC-CEDF-49C6-908A-57408974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5C367-E363-4D9A-926B-D0800257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5571A-42B3-49D7-9732-D8788C64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3365D-154B-4BBE-AF03-C0DE727A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6E101-CD8C-4BA5-BC2F-A3F6BFB1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F50BD-E67F-4259-8C01-0859DA31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DCC17-F8A4-4B1B-81BD-D7D295C7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778D7-FF2D-4558-88B6-AB74C696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034DE-B811-4CFA-9737-C25B2190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EAA06-34BB-4022-B2C2-F1863172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E531-2CB8-443D-9474-A302E8E15B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5D2B-E180-4460-B43F-E34159C988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valuación de Necesidades de Capacitación </a:t>
            </a:r>
            <a:br>
              <a:rPr sz="4400"/>
            </a:b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(ENC)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18760" y="515772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969696"/>
                </a:solidFill>
                <a:latin typeface="Arial"/>
              </a:rPr>
              <a:t>Por: 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Rainer Zach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5f5f5f"/>
                </a:solidFill>
                <a:latin typeface="Arial"/>
              </a:rPr>
              <a:t>Unidad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: M03U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¿Qué determina la ENC? 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i existe una necesidad real de capacita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causas principales del desempeño deficient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nivel de desempeño deseado </a:t>
            </a:r>
            <a:br>
              <a:rPr sz="3200"/>
            </a:b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(p. ej. los resultados esperados de la capacitación)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¿Qué determina la ENC? 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atos de línea base para planificar el contenido y el alcance de la capacita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poyo posible de partes interesadas, organizaciones concernidas y participantes potencial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4280" y="2130120"/>
            <a:ext cx="6715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nfoque de la Evaluación de Necesidades de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ertinenci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apacitadores deciden en qué medida estos pasos son pertinentes para la ENC: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dentificar a partes interesadas pertinentes al proceso de capacitación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reguntar sobre sus expectativas, preocupaciones, sugerencias, posibles conflictos de interés, etc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Identificar retos que requieran capacitación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Factores para la ENC </a:t>
            </a:r>
            <a:br>
              <a:rPr sz="4000"/>
            </a:b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C depende de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5f5f5f"/>
                </a:solidFill>
                <a:latin typeface="Arial"/>
              </a:rPr>
              <a:t>el conocimiento presente;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5f5f5f"/>
                </a:solidFill>
                <a:latin typeface="Arial"/>
              </a:rPr>
              <a:t>el tiempo disponible y los costos involucrados; 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5f5f5f"/>
                </a:solidFill>
                <a:latin typeface="Arial"/>
              </a:rPr>
              <a:t>la confiabilidad y la importancia de la información;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5f5f5f"/>
                </a:solidFill>
                <a:latin typeface="Arial"/>
              </a:rPr>
              <a:t>el número y la localización de las personas involucradas;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5f5f5f"/>
                </a:solidFill>
                <a:latin typeface="Arial"/>
              </a:rPr>
              <a:t>la confidencialidad de los datos;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5f5f5f"/>
                </a:solidFill>
                <a:latin typeface="Arial"/>
              </a:rPr>
              <a:t>el clima cultural y social dentro de una organización.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nálisis del trabaj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eguntar sobre la frecuencia del trabajo, la importancia y las dificultad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stimar prioridad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ntrevista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oducen información a profundidad, antecedentes y sugerencias.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trevista individual es intensiva en trabaj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Grupos de personas pertinentes pueden ser entrevistados junt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segurarse de obtener los puntos de vista de todos, no sólo de las personas más elocuent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uestionari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Recolectan información específica de un grupo grande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uestionarios quizás no permitan la libre expresió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Observacion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ara evaluar habilidades, actitudes y comportamiento bajo situaciones reale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observaciones consumen tiempo y son intensas en trabaj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uebas de habilidades y conocimient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pruebas de habilidades evalúan las habilidad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desempeño inapropiado quizás se deba  a la falta de conocimiento.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pruebas de conocimiento complementan las pruebas de habilidad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Índi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¿Por qué evaluar las necesidades de capacitación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nfoque de la ENC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ntrevista semi-estructurada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Revisiones de datos sobre el desempeñ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Identifican posibles brechas en el desempeño a través de revisiones de dat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desempeño insuficiente podría confundirse con factores externos que no pueden solucionarse mediante capacitació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Conclusiones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C asegura que la capacitación pueda ocuparse de los reto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Quizás se necesitan medidas no relacionadas con capacita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apacitadores discuten pasos con las instituciones y personas concernida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2130120"/>
            <a:ext cx="7775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ntrevista semi-estructurada (ESE)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La entrevist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entrevistas son útiles para recopilar informa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ero la entrevista requiere habilidades y técnic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Entrevista semi-estructurad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trevista semi-estructurada requiere tomar en cuenta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l arte de la entrevista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el contenido de la entrevista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guías para la toma de not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valuación de Necesidades de Capacitación (ENC) da una guía </a:t>
            </a:r>
            <a:br>
              <a:rPr sz="3200"/>
            </a:b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ara lograr un evento de capacitación productiv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Unidad M03U02 ayuda a planificar e implementar una ENC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C aclara si la capacitación es la solución a un problem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apacitadores deciden cómo los factores descritos son pertinentes para la EN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¿Por qué evaluar las necesidades de capacitación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¿Por qué evaluar las necesidades de capacitación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capacitación sobre SIGP es diversa y complej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C debe ser un proceso abierto, flexible y dinámic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 programa de capacitación depende del context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¿Por qué evaluar las necesidades de capacitación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C determina el desempeño actual y el deseado; la diferencia, o brecha, es el aprendizaje que se necesit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C incluye el ambiente político, económico, social y cultural y los recursos físicos y humanos disponibl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¿Por qué evaluar las necesidades de capacitación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ENC recopila información sobre el conocimiento, las habilidades y las actitudes necesarias para el trabaj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s necesaria la inclusión participativa de los estudiantes para asegurar un sentido de apropiación, compromiso y logro de los objetiv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cluir a las partes interesadas pertinent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partes interesadas ayudan a identificar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fuentes de información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retos administrativos y técnicos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Obstáculos posibles y propuestas de solucion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Giulia Pedone</dc:creator>
  <dc:description/>
  <cp:keywords>pgis training kit</cp:keywords>
  <dc:language>en-US</dc:language>
  <cp:lastModifiedBy>martens</cp:lastModifiedBy>
  <dcterms:modified xsi:type="dcterms:W3CDTF">2010-02-23T09:46:37Z</dcterms:modified>
  <cp:revision>202</cp:revision>
  <dc:subject/>
  <dc:title>Presentación - Evaluación de necesidades de capacitación   (ENC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