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Times New Roman"/>
              </a:rPr>
              <a:t>Apoyo a la difusión de buenas prácticas en la generación, la gestión, el análisis y la comunicación de información territo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C437-3792-42E4-A8C8-9A9DB276B5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DC79-2453-42EA-B7FF-377807F2E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utilizar esta presentación, estudie el Material Informativo para el Participante de esta unida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D664-2D7E-4795-B244-FD31866CF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: ¿Cómo tenemos que preparar nuestras instalaciones para la capacitación?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C80E-4FFC-44F1-A789-4BC62A550B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CD68-D91D-4ED2-A614-5EB6B7271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81A6-4A20-4843-A823-4F5FD3209C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3B1F-6A38-4F6E-A7DD-1A490C39C0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E20C-6E66-4EFE-AE4B-B834C14AE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A6E-9304-41D4-BC25-1C5AC92664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: ¿Cómo programar las actividades de capacitación?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1E03-3E3A-425A-9C34-62B25BCAAF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CB6E-C6F8-47EE-BE63-05D3AD693E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Ver Apéndice 1 del Material Informativo para el Particip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3DF1-23E2-46C9-B333-104BFC1BB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Ver Apéndice 2 del Material Informativo para el Participa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1DB6-56F6-49E8-8DF1-489BE9C88A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E972-0795-4BF5-99EF-C7FA4442D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7A1E-E47A-4679-B6C6-382DE56B8F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F578-D1B0-4CFD-A77D-80D81E6A9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1724-5C27-4AA2-948B-1606D24F1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0340-8E78-4AA7-A290-43CB8D464E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9F43-B738-4FD9-89F0-E556E3B279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E59A-589B-4DBF-B224-0770BC3886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Cómo gestionar el tiemp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5795-E6AD-41DA-9271-519F91BA21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CD83-0FAF-4575-AC4D-AFAA350C4D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5C14-11A8-4A6F-976A-B6676F0BCA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3C04-3F49-413C-9B2F-D06A5F6F16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3F12-ABC2-4B4E-815C-7A4A2ABD7F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3365-A0FC-46F3-93E9-ADC3CF216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056-7F44-42E2-9B11-897A30631F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8BF8-2D71-4D0D-ABCB-013B8D5DA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 Unidad M03U05: Evaluación de la Capaci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4F78-7B10-45FA-BA81-15F015761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Cómo aplicar métodos de capacitación?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1066-4209-426A-8554-C824E2704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8ECF-AF5F-4428-8544-208B68ABB2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4D3C-A7CD-485D-8C5E-FC246D424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2150-DFED-441D-9042-94BD5BC15A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6E8E-EABC-4959-820E-FE4543EBBC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ntes de presentar esta sección, haga una lluvia de ideas con los participantes sobre palabras clave relacionadas con esta pregunt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 ¿Qué hay que considerar para la llegada y familiarización de los participanbtes?.  Ver Ejercicio No. 1. Escriba palabras clave en un rotafolio y luego continúe con la present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237A-3C67-4489-B00F-FB55D041CC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F6E4-6776-4ED4-B946-7A48FB955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2495-A38E-487B-ADA1-05B9BA505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FDD5-F0D9-43EA-AF4F-15EE191408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Opcional: Incluir aquí Ejercicio No.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16A0-0B0F-4527-8280-606113EC47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17DF-8289-4E6F-92FF-6A3C7DBA77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ADA3-2B80-434B-BEEE-1F3717DD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8C94-3DC0-4093-BAAC-A589294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7713-2941-4F5A-B973-2F722364C9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812FD-FEC1-491F-973A-1ACC1B16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63E53-AC7E-453F-B22E-23942930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25EE3-598D-4D28-AE93-9384BFDF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E6A6A-FEB2-4620-B11C-E58C1D7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C76EF-4E2B-441E-B7B2-9B885435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ADF1D-5395-47B5-97D8-2676726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89625-C40F-4ADA-B7F4-F2C2A437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D183-DF00-4215-82CE-F922D46F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EAFF1-304A-4B00-A06F-5EBF5955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63C7D-4041-4FB4-B288-CC89F4D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24346-1C68-42B8-AF6E-5717B507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398C5-A39E-4484-89BD-83A38EFD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04028-014A-44C7-AADE-C4A82C1D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0A69-5DFE-4EBF-9ADA-0B660C9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1480-3673-487B-9DE4-FCA1AACF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5D84-B765-431B-9475-62F916D1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4461-C4E4-47D2-94F6-C6D3ECC8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0C88-68B5-48E0-B323-2CA6864C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4CFCC-ABB5-4C24-8BE9-285A8AF2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9084-6197-48C8-B663-B1031A26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9653-B03C-4677-AE5B-9909BCF828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Arial"/>
              </a:rPr>
              <a:t>Apoyo a la difusión de buenas prácticas en la generación, la gestión, el análisis y la comunicación de información terr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B55D-A8D5-4086-ABFB-DE1AC49107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mplementación de un evento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18040" y="515772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Por: Rainer Zach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dad: M03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alaciones para la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alaciones para la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ambiente debe ser placentero, tranquilo y no permitir distraccion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articipantes y especialistas deben permanecer junt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alaciones para la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e necesita ventilación y buena ilumin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isponer asientos informalmen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vitar disponer asientos en filas en el aula de cla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actividades de grupo requieren bastante espaci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alaciones para la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organizadores deben proporcionar los materiales para el trabajo en grup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Quizás se necesiten facilidades para traducción-interpre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alaciones para la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filminas de retroproyector son preferibles bajo condiciones de luz diurn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royectores de video/a través de computadora también funcionan bie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diapositivas necesitan un cuarto oscurecid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stalaciones para la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e comprobarse el funcionamiento del equip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e haber disponibles servicios secretariales, instalaciones de comunicación y conexión a Internet durante y después de las horas de trabajo del curs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ben involucrar a los participantes en la programación y ejecución de las actividad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eferiblemente adaptar los arreglos logísticos a los requisitos del curso en lugar de adaptar el horario del curso a condiciones locales inconvenient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ben introducir a los participantes a los objetivos y programa del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ustituir la tradicional introducción al curso con una discusión participativa sobre las expectativ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ben programar tiempo inicial para una presentación del trabajo de los particip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uego, avanzar rápidamente al contenido del curs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legada y familiarizació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Instalaciones para la capacitació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gramación de las actividades de capacitació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Gestión del tiemp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plicación de métodos de capacitació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mponentes teóricos deben orientarse a la práctic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esentaciones deben combinarse con ejercicios y demostracion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gramar la teoría para la mañana y la práctica para la tard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Mantener las noches libres para actividades de aprendizaje social, como trabajo en grupo y discusion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iempo del curso no debe dedicarse a tareas de lectur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especialistas deben cubrir el contenido durante el tiempo del curs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organizadores deben mantener los fines de semana menos intensos, pero no abandonar a los participant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ogramar actividades del curso para sábad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frecer programas socioculturales para viernes por la noche, sábado por la tarde y doming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rabajo del curso no debe interrumpirse con viaj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jar programas menos formales, como excursiones, para el final del curs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Programación de las actividade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spués del curso, los participantes podrán sentirse altamente motivad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organizadores deben ayudar a los participantes a reintegrarse a la situación en su lugar de procedenci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presentaciones de grupo finales reorientan a los participantes.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stión del tie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stión del tie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Gestionar el tiempo en forma estricta e inteligen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enzar temprano (p. ej. 08:00)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urante las mañanas, se necesita al menos un receso de 30 minut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capacidad de concentración de los adultos es de 1½ hora. 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receso para el almuerzo podría tomar 1½ hor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stión del tie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s sesiones de la tarde no deben terminar después de las 17:00 hor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s útil contar con tiempo para interacción social y actividades deportiv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stión del tie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presentar a los especialist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no deben hacer esperar a los particip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omenzar cada actividad a la hora exact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Terminar a la hora planeada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uando el curso está bien planeado, la implementación no tendrá contratiempo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 ambiente placentero y tranquilo es esencial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l tiempo debe gestionarse en forma estricta e intelig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ben facilitar más que enseña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stión del tie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Uno o varios días antes o al final de una presentación podrá distribuirse material informativ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o distribuir el material informativo al inicio de una presentación pues los participantes leerán en lugar de escucha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stión del tie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articipantes no deben tomar nota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ben asegurarse de que el material informativo contiene toda la información pertinen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stión del tie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oordinadores deben monitorear las actividades continuament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No deben abandonar a los participantes y especialista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e haber disponibles arreglos alternativ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Gestión del tiemp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articipantes deben evaluar cada actividad inmediatamente después de que concluya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Cada día debe comenzar con una sesión informativa sobre las evaluaciones del día anterior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licación de método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licación de método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ben permitir la participación; facilitar más que enseña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Seleccionar métodos de capacitación de acuerdo con los objetiv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fatizar habilidades y capacitación en actitud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Obtener el conocimiento colectivo a través de lluvia de ideas y trabajo en grup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licación de método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ben ensayar sus actividades en el sitio de la capaci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Asegurarse de que todos los materiales estén disponibl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Revisar el tiemp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racticar el uso de instrumentos, equipo, etc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licación de método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deben leer, explicar y resumir las ayudas visuales totalm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capacitadores no deben incluir información que no puedan explicar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Aplicación de métodos de capacit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Los capacitadores deben estar de frente a la audiencia; nunca hablar hacia la pantalla.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Guiar a la audiencia descubriendo gradualmente partes de la información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Utilizar “animaciones” de modo que la información aparezca una a una en la presentación.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5f5f5f"/>
                </a:solidFill>
                <a:latin typeface="Arial"/>
              </a:rPr>
              <a:t>Utilizar punteros sólo cuando sea necesario.  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legada y familiar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legada y familiar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organizadores deben asegurarse de que los participantes lleguen con facilidad y segurida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Familiarizar a los participantes con el ambient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articipantes deben sentirse bien y cómodo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legada y familiar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En el momento de la inscripción, los organizadores debe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Verificar nuevamente los datos personales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Proporcionar información sobre el ambiente e instalacion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5f5f5f"/>
                </a:solidFill>
                <a:latin typeface="Arial"/>
              </a:rPr>
              <a:t>Distribuir el programa y los material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legada y familiar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organizadores deben programar la llegada para sábado, de modo que la capacitación pueda comenzar informalmente en doming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ermitir la familiarización entre los participant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articipantes deben hacer una visita de reconocimiento a las instalacion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legada y familiar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os participantes se presentan a sí mismos con información person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La información permanece visible durante el evento de capacitación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3300"/>
                </a:solidFill>
                <a:latin typeface="Arial"/>
              </a:rPr>
              <a:t>Llegada y familiariz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Podría organizarse una ceremonia de inauguración formal o informa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5f5f5f"/>
                </a:solidFill>
                <a:latin typeface="Arial"/>
              </a:rPr>
              <a:t>Debe haber disponibles comunicados de prensa e información sobre el curso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09:09:28Z</dcterms:created>
  <dc:creator>Giulia Pedone</dc:creator>
  <dc:description/>
  <cp:keywords>pgis training kit</cp:keywords>
  <dc:language>en-US</dc:language>
  <cp:lastModifiedBy>martens</cp:lastModifiedBy>
  <dcterms:modified xsi:type="dcterms:W3CDTF">2010-08-26T12:47:59Z</dcterms:modified>
  <cp:revision>365</cp:revision>
  <dc:subject/>
  <dc:title>Presentación - Implementación de un evento de capacitación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