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CC3F-7B5A-4CA5-ACCB-DBEAC1D38E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EBA0-07A1-4CAD-A8AD-22FDB9BF97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utilizar esta presentación, estudie el Material Informativo para el Participante de esta Unida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1374-3A35-4681-9C1C-9541795AD6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93C5-B50E-462F-91FD-58EC240F59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1F56-D60E-4F59-A35D-432A3BDDF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9A3B-E204-4AAD-B07D-E15D2FA524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d on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F563-4C3E-4C5A-BE77-DBD446111C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74F9-7241-415F-9786-E6F3238103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1F5A-BC20-4390-B4E7-7D32C025DC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8E8C-C321-40F5-AE63-3106FB9AD8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81D8-36C8-4197-80E6-9B7E0EB209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B513-C9E5-43D2-8607-C5638D67E6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54E7-EB4A-4F7E-B664-B245241CB1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úa en siguiente filmi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ED76-A8F8-4CB1-B40B-B21A52D27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9652-5C0D-4783-8885-B28CE24DF0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495D-F9BE-4A87-BCC0-DA42E07338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BF83-F05F-42C7-9571-B686DFAD46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a para el capacitador: en el Módulo M10 se encuentra una descripción completa de cómo utilizar un Muro de la Democrac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38CA-5B06-4701-8E2D-FF5E890883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acticar „tirar dados al tablero" por unos pocos minut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B79D-7042-4ADD-BD87-4AAD1575FC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: ¿Cómo aplicar las pruebas previas y posteriores? Ver Ejercicio No. 1. Escriba palabras clave en un rotafolio y luego continúe con la presen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7758-3FEA-4E46-B2BE-CB3ED1B60A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2523-0892-4F8A-A621-C159DCF915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úa en siguiente film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AE3A-78FF-4549-BE86-DDA28BC242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A099-5816-4DEB-8E4A-4A5134DBAB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80CA-8CD1-492D-99E0-8EF8057333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5098-97F4-422B-88D0-B032B24B83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4193-2D68-423B-8D4A-FD8788578A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6757-17F8-4238-B76F-8BE9CFDED4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9AA9-EEBD-49C5-BB73-DA278BEF7C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1D21-A174-4DCA-BA7E-118EA3A72C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9322-7C74-423F-B21E-D63CF01758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: ¿Cómo realizaría usted una prueba parcial? Ver Ejercicio No. 1. Escriba palabras clave en un rotafolio y luego continúe con la present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8ED0-DD4D-43F3-ABC2-E902DEDA40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4987-7873-4268-8A4B-56ABB2DC56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6B7C-8F9F-4577-BB17-81034CC729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80DF-6086-46CE-B557-97B4AF1DA4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D086-B524-4DC5-B569-CC675BA72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úa en siguiente filmin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627A-839B-482E-9641-84A5650D72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4EE0-17BE-4267-BB38-963DF73D97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: ¿Cuál es la función de la evaluación continua de la actividad? Ver Ejercicio No. 1. Escriba palabras clave en un rotafolio y luego continúe con la presen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0E63-5E70-4D53-82FC-829ABAD2DA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4201-E23E-46DB-B10E-AFAFF6D8B2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2FD6-4EC1-4810-9E6B-C2E1BC2685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2A6C-5583-4831-A552-1960B84613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E90A-9599-4C4D-AB0A-15C458C0B1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89B8-EB08-4711-9671-D8DE50E4BB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valuar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mediatamente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pués de cada actividad; sólo toma un minuto.  "Nombre" es opcional para permitr la aclaración de du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FF05-A0FB-4D54-8F47-1C2ABE023A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l dorso ofrece espacios para „Comentarios en general"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98EC-0D41-450B-83BD-670E72758C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Al final del día, los coordinadores deben recoger los formatos de evaluación y resumir los resultados en estos formatos de resum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DB81-6710-46F2-9914-9025017200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82A4-9D1F-42A4-871F-F963DD3A41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DD82-10D5-4A80-AFFA-2A444A117C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AC00-9D73-4486-8A87-A40966904B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414C-D0AC-4869-8A1C-B3EC44975D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C8C9-065B-4FCE-9E6D-8CD0258905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A174-8733-4830-9D78-470360710F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: ¿Cuáles son los componentes de un cuestionario final?  Ver Ejercicio No. 1. Escriba palabras clave en un rotafolio y luego continúe con la present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BB3F-9CC3-46AF-95E7-181F0F2BC5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8CE2-F43E-47AD-BBD6-82428162A0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71A4-9D55-4826-B768-64709AC28A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da a los participantes hacer un ejercicio corto sobre la primera pregun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8826-6796-47D3-9850-FAE16F41A1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361B-162E-4126-8F5F-22CC0C395A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: ¿Cuál es la relevancia de la evaluación? Ver Ejercicio No. 1. Escriba palabras clave en un rotafolio y luego continúe con la present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F196-B970-4A65-8BDE-DD30F6D8BD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153A-D503-4C5E-8F35-2080258E54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A851-F957-4802-8F1E-0EF658F025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9E48-2C3C-4706-AED2-FB3E09E18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E3B9-A098-4EA4-885E-9A217D5488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0BB2-0A34-473E-A258-DC90467014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da a los participantes hacer una Evaluación Final del Curso tentativ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C44B-D50D-4F1B-BAF3-A2666C0893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72DF-75A9-4CBA-B801-1AA3C6FAE3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D501-3973-4C9C-BC85-4E3ED339F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2E857-2C97-4B42-BB2D-C7F41F19F6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4CD31-B1D3-4243-89C1-F946CCDE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3EF8-8A13-40CF-9A0C-70DAA7A0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E8668-84D8-4EA3-9C3F-5453010D17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FEC7E-88DA-49CA-B37F-70E297C9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7766A-048E-45CC-9F1B-B8616726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54B1B-3A07-4A33-AF6D-83E99670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8D5C0-E556-4AB6-A2A2-DD196086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90031-CF0B-4812-B2C7-2666058A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26A8F-3E4B-451F-986C-78FB0DFE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27FB0-8D58-42C0-AE29-568BB5D2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0B26C-2144-4E09-A78D-7B9CAD22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48F65-677C-473D-B214-B8A9D200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780D7-91F1-4077-905B-9D704BFD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6121E-55BD-42DE-87F0-291E9914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A3F6B-DED8-4C65-AADB-CF56C472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09B2B-13F8-47D8-B8BE-EF7E717D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4D32A-FDA7-42CD-A489-B5442BDF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AF0A4-D7D4-4964-A404-48B3D378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AEB7-3D09-49CB-A829-5E0B00D2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B6402-6CEB-4164-8108-22B910BB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7609-05C7-4A5F-A1F8-184C5024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C3099-E351-4385-BFCB-89608303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E4365-DC49-485A-B712-FF09D351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8830-4416-421C-82DD-3A75B93093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0ADD-9DF1-4180-83A6-526CEA8B56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worldagroforestrycentre.org/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de la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18760" y="515772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Por 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dad: M03U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levancia de la evalu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Nivel 3 (= comportamiento) sigue la aplicación después de la capacit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Nivel 4 (= resultados) evalúa el impacto en las organizaciones de los participan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levancia de la evalu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a Unidad aborda los Niveles 1 y 2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Niveles 3 y 4 son actividades de seguimient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levancia de la evalu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valuación es una parte esencial e integral del currículo de capacitación, no únicamente el final de la capacit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levancia de la evalu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valuación ayuda a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terminar las necesidades de capacitación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pecificar los objetivos de la capacitación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justar los métodos y materiales de la capacitación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iminar contenidos innecesari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levancia de la evalu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valuación ayuda a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jecutar la capacitación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verificar logro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ar seguimiento a los participante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reducir los costos de la capacita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levancia de la evalu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valuar si los objetivos se cumplieron es tan importante como especificar los objetivos de la capacita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levancia de la evalu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os tipos de evaluación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valuación formativa para monitorear la capacita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valuación sumativa para medir los logr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levancia de la evalu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docentes y los organizadores a menudo evalúan de manera informal e inconscien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levancia de la evalu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ruebas objetivas están basadas en preguntas específicas a responde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ruebas del tipo ensayo abierto permiten  la expresión subjetiv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ruebas de capacidades prácticas son importantes para el SIGP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levancia de la evalu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evaluaciones formales incluyen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onitoreo del clima del curso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uebas previas y posteriore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uebas parciale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valuación continua de la actividad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valuación de la coordinación y los materiales del curso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valuación final del cur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Relevancia de la evaluació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onitoreo del clima del curs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uebas previas y posterior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uebas parciale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levancia de la evalu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evaluaciones no pretenden evaluar a las personas, sino monitorear el avance del cur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onitoreo del Clima del Curs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onitoreo del clima del curs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xisten muchos método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uro de la democracia”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Tablero de dardos para evaluación” es útil para monitorear los sentimientos de los participan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IMG_1442B&amp;W"/>
          <p:cNvPicPr/>
          <p:nvPr/>
        </p:nvPicPr>
        <p:blipFill>
          <a:blip r:embed="rId1"/>
          <a:stretch/>
        </p:blipFill>
        <p:spPr>
          <a:xfrm>
            <a:off x="826920" y="592200"/>
            <a:ext cx="7488360" cy="49831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442080" y="5650200"/>
            <a:ext cx="825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uro de la Democracia Multilingue utilizado en la conferencia Web2forDev 2007 en Roma, 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to: Anja Barth, CTA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de la Unidad M10U01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5762880" y="3654360"/>
            <a:ext cx="2849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ylor, B. y Beniest, J.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in agrofore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A toolkit for trai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2.176; ISBN 92 9059 151 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ld Agroforestry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ed Nations A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 Box 30677, GPO 0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www.worldagroforestrycentre.or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428760" y="2000160"/>
            <a:ext cx="5267160" cy="368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Previas y Posterio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previas y posterio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prueba previa evalúa el conocimiento inicial del participant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ueden utilizarse cuestionarios de selección múlti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reguntas de selección múltiple son difícil de diseñar, pero el análisis es fácil y objetiv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previas y posterio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reguntas de selección múltiple consisten de una “premisa” y varias alternativas de respuesta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premisa debe ser una oración concisa que conduzca directamente hacia las alternativ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previas y posterio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ncluir en la premisa tanta información como sea posible sobre el ítem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ormular la premisa en forma concisa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ada opción debe completar la premisa en forma gramaticalmente correct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previas y posterio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reguntas de selección múltiple consisten de una premisa y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n distractor definitivamente incorrecto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na respuesta correcta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otro(s) distractor(es) definitivamente incorrecto(s).</a:t>
            </a:r>
            <a:r>
              <a:rPr b="0" i="1" lang="es-AR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valuación continua de la actividad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valuación de la coordinación del curs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valuación de los materiales del curs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valuación final del curs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previas y posterio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jemplo: las preguntas de selección múltiple son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)  fáciles de diseñar 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s-AR" sz="2800" spc="-1" strike="noStrike">
                <a:solidFill>
                  <a:srgbClr val="5f5f5f"/>
                </a:solidFill>
                <a:latin typeface="Arial"/>
              </a:rPr>
              <a:t>distracto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b)  fáciles de responder 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s-AR" sz="2800" spc="-1" strike="noStrike">
                <a:solidFill>
                  <a:srgbClr val="5f5f5f"/>
                </a:solidFill>
                <a:latin typeface="Arial"/>
              </a:rPr>
              <a:t>distractor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)  relativamente objetivas 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s-AR" sz="2800" spc="-1" strike="noStrike">
                <a:solidFill>
                  <a:srgbClr val="5f5f5f"/>
                </a:solidFill>
                <a:latin typeface="Arial"/>
              </a:rPr>
              <a:t>respuesta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)  no ampliamente aplicables 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s-AR" sz="2800" spc="-1" strike="noStrike">
                <a:solidFill>
                  <a:srgbClr val="5f5f5f"/>
                </a:solidFill>
                <a:latin typeface="Arial"/>
              </a:rPr>
              <a:t>distracto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previas y posterio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100" spc="-1" strike="noStrike">
                <a:solidFill>
                  <a:srgbClr val="5f5f5f"/>
                </a:solidFill>
                <a:latin typeface="Arial"/>
              </a:rPr>
              <a:t>Sólo una opción debe ser la respuesta correcta.  </a:t>
            </a:r>
            <a:endParaRPr b="0" lang="en-US" sz="3100" spc="-1" strike="noStrike">
              <a:solidFill>
                <a:srgbClr val="5f5f5f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100" spc="-1" strike="noStrike">
                <a:solidFill>
                  <a:srgbClr val="5f5f5f"/>
                </a:solidFill>
                <a:latin typeface="Arial"/>
              </a:rPr>
              <a:t>Las respuestas correctas no deben ser evidentes. </a:t>
            </a:r>
            <a:endParaRPr b="0" lang="en-US" sz="3100" spc="-1" strike="noStrike">
              <a:solidFill>
                <a:srgbClr val="5f5f5f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100" spc="-1" strike="noStrike">
                <a:solidFill>
                  <a:srgbClr val="5f5f5f"/>
                </a:solidFill>
                <a:latin typeface="Arial"/>
              </a:rPr>
              <a:t>Todas las otras opciones, i.e. distractores, deben ser plausibles pero definitivamente incorrectas.  </a:t>
            </a:r>
            <a:endParaRPr b="0" lang="en-US" sz="3100" spc="-1" strike="noStrike">
              <a:solidFill>
                <a:srgbClr val="5f5f5f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100" spc="-1" strike="noStrike">
                <a:solidFill>
                  <a:srgbClr val="5f5f5f"/>
                </a:solidFill>
                <a:latin typeface="Arial"/>
              </a:rPr>
              <a:t>La extensión de las opciones no debe dar una pista para la respuesta</a:t>
            </a:r>
            <a:endParaRPr b="0" lang="en-US" sz="31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previas y posterio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os coordinadores deben hacer sólo preguntas pertinent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vitar preguntas formuladas negativamente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Organizar las respuestas en forma aleatoria.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os coordinadores no deben usar preguntas de selección múltiple cuando otras tipos de evaluaciones sean más apropiada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previas y posterio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ordinadores deben presentar la prueba previa al inicio del curs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ida a los participantes que sean sinceros y que no adivine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nalice inmediatamente la prueb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borde los resultados con los participantes y los especialist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ordinadores no deben regresar los cuestionari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previas y posterio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tilizar el mismo cuestionario para la prueba posterio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esentar la prueba posterior un día antes de que el curso finalic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nalizar la prueba de un día para otr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mparar los resultados de las pruebas previos y posteriores y presentarlos a los participantes y especialist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Parci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parci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ruebas parciales ayudan a asegurar que los especialistas cubran apropiadamente la materi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ordinadores no deben usar las pruebas parciales para calificar a los participant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parci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ordinadores deben utilizar los primeros 15 a 20 minutos de cada día para las pruebas parcia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Haga cuatro o cinco preguntas de temas cubiertos el día anterio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Haga preguntas tipo ensayo abiert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parci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ordinadores deben diseñar  preguntas y respuestas esperadas (¡ambas!) en colaboración con los especialist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ruebas parciales deben cubrir solamente el contenido relevante del curs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parci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ermita a los participantes utilizar libros etc. para colocarlos en una situación de la vida real donde pueden consultar las referenci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valuación es una parte esencial del currícul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valuación ayuda en muchos aspectos de la capacit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valuación muestra si se han logrado los objetiv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parci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ordinadores deben analizar las respuestas inmediatamente con los instructor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vuelva las pruebas a los participantes y discuta los resultad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Continua de la Activida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continua de la activida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participantes evalúan el cur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l inicio del curso, explique como utilizar la evalu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ida a los participantes que sean crític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continua de la activida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ada mañana, los coordinadores deben distribuir nuevos formatos de evalua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ida a los participantes que evalúen de inmediat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l final de cada actividad, escriba el título de la actividad en una pizarra para recordarle a los participantes que evalúe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continua de la activida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l final del día, los coordinadores deben recolectar los formatos de evalu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Resumir los resultados en los formatos de resume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continua de la activida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ordinadores deben incluir a los participantes en el procesamiento de las evaluacion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ida a los participantes que lleguen a conclusiones y las informen a la clase en la mañana siguiente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continua de la activida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ordinadores deben proporcionar los resúmenes a los especialistas y abordar los resultad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antenga copias en los archivos para planificaciones futur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14280" y="743040"/>
            <a:ext cx="850572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95200" y="692280"/>
            <a:ext cx="859788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6920" y="368280"/>
            <a:ext cx="75614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 herramientas de evaluación pueden ir desde pruebas objetivas hasta evaluaciones subjetiv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Ninguno de los procedimientos de evaluación descritos pretende calificar a los participantes o especialist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Evaluación de la Coordinación y de los Materiales del Curso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Evaluación de la coordinación del curso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especialistas evalúan el apoyo brindado por los coordinadores de curs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ordinadores deben adaptar la muestra a las necesidades específic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ida a los especialistas que devuelvan la evaluación después el cur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03280" y="566640"/>
            <a:ext cx="6431040" cy="5670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476360" y="549360"/>
            <a:ext cx="6335640" cy="583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de los materiales del curs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especialistas evalúan los materiales incluidos en el Kit de capacitación SIGP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uando utilice algún material SIGP (p. ej.,  Notas de la Unidad para el Capacitador, Ejercicios, Materiales informativos, Presentaciones en Power Point, etc.) regrese su evaluación al coordinador del curs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8560" y="549360"/>
            <a:ext cx="5546880" cy="5757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35280" y="549360"/>
            <a:ext cx="5545080" cy="575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Final del Curs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final del curs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ida a los participantes que evalúen la aceptabilidad general, fortalezas y debilidades del curso y brindar sugerenci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ordinadores deben adaptar la muestra a sus necesidad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final del curs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primera pregunta –opinión general del curso – se coloca de tal forma que las respuestas ideales resulten en un patrón diagonal del extremo izquierdo superior al extremo derecho inferio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imera pregunta</a:t>
            </a:r>
            <a:br>
              <a:rPr sz="44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41320" y="1558800"/>
            <a:ext cx="7416720" cy="4011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final del curs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aspecto importante es el equilibrio entre la teoría y la práctic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participantes por lo general critican tener demasiada teoría e insuficiente práctic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levancia de la Evalu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egunta 7</a:t>
            </a:r>
            <a:br>
              <a:rPr sz="44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11280" y="1892160"/>
            <a:ext cx="7775640" cy="3552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final del curs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eguntas como “¿Qué temas deben extenderse?”</a:t>
            </a:r>
            <a:r>
              <a:rPr b="0" i="1" lang="es-AR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no son conclusivas: los participantes desean extender casi tod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a mejor pregunta sería “¿Qué temas deberían reducirse u omitirse?”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final del curs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ordinadores no deben preguntar “¿Qué temas fueron los más útiles?”:</a:t>
            </a:r>
            <a:r>
              <a:rPr b="0" i="1" lang="es-AR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participantes encuentran útil casi tod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lugar de eso, preguntar “Qué temas fueron los menos útiles?”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ordinadores podrían preguntar “¿Qué nuevos temas deberían de incluirse en el futuro?”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final del curs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ordinadores deben entregar los cuestionarios a los participantes varios días antes del final del cur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Recopilar los cuestionarios el día antes de que finalice el cur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xtraer las conclusiones más relevantes durante la noch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iscutir las conclusiones con los participantes la siguiente mañan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final del curs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spués del curso, los coordinadores deben resumir los cuestionari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ncluir el resumen en el informe final del cur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Referirse a los resultados al planificar el siguiente cur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Última pregunta</a:t>
            </a:r>
            <a:br>
              <a:rPr sz="44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16000" y="1135080"/>
            <a:ext cx="6840720" cy="510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levancia de la evalu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valuación de los niveles de capacitación de Kirkpatrick 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Nivel 1 = reacció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Nivel 2 = aprendizaj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Nivel 3 = comportamiento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Nivel 4 = resultad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levancia de la evalu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Nivel 1 (= reacción) mide la satisfacción de los participant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más bajo nivel de medida, no obstante es important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cluye aspectos antes y después del curso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levancia de la evalu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Nivel 2 (= aprendizaje) mid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 adquisición de nuevos conocimiento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Mejora de capacidade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ambio de actitu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Giulia Pedone</dc:creator>
  <dc:description/>
  <cp:keywords>pgis training kit</cp:keywords>
  <dc:language>en-US</dc:language>
  <cp:lastModifiedBy>Rainer Zachmann</cp:lastModifiedBy>
  <dcterms:modified xsi:type="dcterms:W3CDTF">2010-06-30T10:22:39Z</dcterms:modified>
  <cp:revision>542</cp:revision>
  <dc:subject/>
  <dc:title>Presentación - Evaluación de la capacitación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