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Times New Roman"/>
              </a:rPr>
              <a:t>Apoyo a la difusión de buenas prácticas en la generación, la gestión, el análisis y la comunicación de información territorial </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940E-EDC8-41FB-A4ED-9A6463941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72D8-A65C-4841-9969-93F8BE1A09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8CEC-B1D7-433B-9166-89074337AA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9336-0FB6-430C-8F8D-E876DF9A76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84A1-1A2D-4C37-A1A8-AF5DFE9738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rritorio, lugar o localidad: una comunidad  puede verse como el lugar donde la gente comparte algo en común. Por ejemplo, la  aldea, río, bosque, escuela, centro de salud, etc. Este elemento compartido se entiende en términos geográfi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a:t>
            </a:r>
            <a:r>
              <a:rPr b="1" lang="es-AR" sz="1200" spc="-1" strike="noStrike">
                <a:solidFill>
                  <a:srgbClr val="000000"/>
                </a:solidFill>
                <a:latin typeface="Arial"/>
              </a:rPr>
              <a:t> </a:t>
            </a:r>
            <a:r>
              <a:rPr b="0" lang="es-AR" sz="1200" spc="-1" strike="noStrike">
                <a:solidFill>
                  <a:srgbClr val="000000"/>
                </a:solidFill>
                <a:latin typeface="Arial"/>
              </a:rPr>
              <a:t>en comunidades de interés o “electivas”, la gente comparte una característica común aparte del lugar.  Se enlazan por medio de factores como las creencias religiosas o la ocupación.  Así, podemos hablar de la “comunidad pastoralista”, la “comunidad agrícola” y la “comunidad cristia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tno-cultural: una comunidad podría  aglutinarse en torno a un origen y/o identidad compartidos.  </a:t>
            </a:r>
            <a:r>
              <a:rPr b="1" lang="es-AR" sz="1200" spc="-1" strike="noStrike">
                <a:solidFill>
                  <a:srgbClr val="000000"/>
                </a:solidFill>
                <a:latin typeface="Arial"/>
              </a:rPr>
              <a:t>YO SACARÍA ESTOS EJEMPLOS: Por ejemplo, tribu, raza)</a:t>
            </a:r>
            <a:r>
              <a:rPr b="0" lang="es-AR" sz="1200" spc="-1" strike="noStrike">
                <a:solidFill>
                  <a:srgbClr val="000000"/>
                </a:solidFill>
                <a:latin typeface="Arial"/>
              </a:rPr>
              <a:t> y prácticas socio-económicas compartidas. Por ejemplo, agrarias, pastoralismo nóm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dioma:</a:t>
            </a:r>
            <a:r>
              <a:rPr b="1" lang="es-AR" sz="1200" spc="-1" strike="noStrike">
                <a:solidFill>
                  <a:srgbClr val="000000"/>
                </a:solidFill>
                <a:latin typeface="Arial"/>
              </a:rPr>
              <a:t> </a:t>
            </a:r>
            <a:r>
              <a:rPr b="0" lang="es-AR" sz="1200" spc="-1" strike="noStrike">
                <a:solidFill>
                  <a:srgbClr val="000000"/>
                </a:solidFill>
                <a:latin typeface="Arial"/>
              </a:rPr>
              <a:t> una comunidad podría formarse en base a un idioma o dialecto compartido. Por ejemplo, la comunidad swahili-parlante, la comunidad franco-parlant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5C13-08C0-4056-89BB-3EA565FDF8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quí usted podría pedir primero a los participantes que compartan algunos supuestos que las personas tienen sobre participación.  Si mencionan algunos de los que están en sus filminas, déles crédito pero también permita que surjan nuevos.  Haga la sesión más interacti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comunidad es armoniosa, pero siempre existen diferencias internas, tensiones y luchas causadas por factores tales como el género, la edad, la clase, el origen étnico y la relig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comunidad es homogénea, pero se caracteriza por relaciones de poder desiguales entre los distintos grupos. Por ejemplo, mujeres, jóvenes, niños, personas sin tierra y terratenientes, con distintos niveles de po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comunidad es inclusiva y está dispuesta a participar, pero los miembros poderosos y articulados de la comunidad son los más favorecidos en los procesos participa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F2CA-4782-40A2-9FA8-53EBEBBA33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mapeo participativo, debido a su focalización en los recursos naturales, el uso de la tierra y el acceso a los recursos y su control, podría provocar reacciones distintas e incluso hostiles que podrían hacer que aquéllos que se sientan amenazados, como las personas sin tierra se retiren o permanezcan pas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oderosos, como los terratenientes podrían fácilmente dominar todo el proceso de mapeo e incluso influir sobre el propósito para el cual se utilizará el mapa, sin tomar en consideración el bienestar de las personas margin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empre es importante averiguar y entender la dinámica de poder de la comunidad ya sea a través de discusiones informales o la observación de los procesos comuni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697E-0537-4EFE-9538-797B2E112C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s preguntas no son para ser respondidas sino más bien son sugerencias o “leña para atizar” el pensamiento de los participantes para que reflexionen al respect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0404-AD9E-453B-AF8C-9B0903616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es un concepto rico que significa distintas cosas para distintas personas y organizaciones en distintos escenarios.  Para algunos, es un asunto de principio, para otros es una práctica, y para otros, es un fin en sí misma.  Todas estas interpretaciones tienen su méri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su libro, </a:t>
            </a:r>
            <a:r>
              <a:rPr b="0" i="1" lang="es-AR" sz="1200" spc="-1" strike="noStrike">
                <a:solidFill>
                  <a:srgbClr val="000000"/>
                </a:solidFill>
                <a:latin typeface="Arial"/>
              </a:rPr>
              <a:t>Beneficiaries, Consumers, Citizen: Perspectives on Participation for Poverty Reduction</a:t>
            </a:r>
            <a:r>
              <a:rPr b="0" lang="es-AR" sz="1200" spc="-1" strike="noStrike">
                <a:solidFill>
                  <a:srgbClr val="000000"/>
                </a:solidFill>
                <a:latin typeface="Arial"/>
              </a:rPr>
              <a:t>, Andrea Cornwall reflexiona sobre estas tres definiciones.  Ver lecturas adicionales sobre estos concepto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808080"/>
                </a:solidFill>
                <a:latin typeface="Arial"/>
              </a:rPr>
              <a:t>Apoyo a la difusión de buenas prácticas en la generación, la gestión, el análisis y la comunicación de información territorial </a:t>
            </a:r>
            <a:endParaRPr b="0" lang="en-US" sz="1000" spc="-1" strike="noStrike">
              <a:solidFill>
                <a:srgbClr val="000000"/>
              </a:solidFill>
              <a:latin typeface="Arial"/>
            </a:endParaRPr>
          </a:p>
        </p:txBody>
      </p:sp>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9A31-3C7A-4259-9896-1733876E7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pasiva: Agentes externos escuchan las opiniones  y definen los problemas y las solu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en la provisión de información: Las personas responden preguntas  planteadas por agentes externos inquisitivos que utilizan largas encuestas de cuestionario.  Los hallazgos de los procesos no son ni compartidos ni revisados para verificar su preci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por consulta: Las personas son consultadas por agentes externos. Sin embargo, los problemas y las soluciones son decididos sin su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por incentivos materiales: Las personas locales proporcionan los recursos, como  mano de obra a cambio de alimentos, dinero u otros incentivos materi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funcional: Se forman grupos para alcanzar objetivos predeterminados de un agente externo. Los grupos tienden a ser dependientes de iniciadores externos y podrían convertirse en auto-depend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ticipación interactiva: Se realiza un análisis conjunto, que lleva a planes de acción y a la formación de nuevos grupos locales o al fortalecimiento de los existentes. Los grupos toman el control sobre las decisiones locales y tienen un interés en mantener las estructuras y las prác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to-movilización: La participación ocurre al tomar iniciativas independientes de las instituciones externas. Estas movilizaciones auto-iniciadas y la acción colectiva quizás o quizás no desafíen las distribuciones desiguales de riqueza o po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F155C6-C06C-427D-AAB7-8797D8F291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74BB3173-2E9A-4510-BC65-2C0953CE0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2C196995-9332-4103-AE5C-D1F265F2A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57DDFAF6-9C84-4886-918F-F2AC69C471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97B4FFC-C7E4-41C1-BE15-2E8B5A57AF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FE4E182-1A21-4E4B-B13B-23DF6DF78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13F38E6-94A7-4419-8114-6B987849A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0AD36AA-CE6B-4817-81D1-12EC1E0CB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2F8B32F-3C42-4F04-A0FE-DFE56B5FE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586C06D-4578-4370-8749-E21F4C899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3D89377-51CF-453C-B19B-15A7D12B88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E752D08-9190-4DBB-923A-ADAF128C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56D91C7-4519-4976-A668-C6F5FD87D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F0509CF-B1A1-41C8-8C8D-EA6544353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FB72439-A40D-499E-96A6-7DB84746D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90B9AD17-A3DD-4DBE-BD2B-89043A6B5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8493CBD-AE8E-4091-BE88-3BAEFEB8DB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FEB610C-6199-48EB-9A13-F6E70D22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F8BCBE7-DAF7-49FC-9303-4A063511A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C4E80B6F-7310-45F7-8E78-8232B7B1E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9CBB741E-58B3-4AC5-BC15-4AE993C57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84D259F-BD6F-493D-9DC2-B424F159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B8D2254-5B9B-4E3D-AC7D-D3381C6AE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9CE60AC-CBB1-4D0A-B2F8-915D15C220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EBA2-92B7-4449-B807-900CB4AD7B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3416-5570-4BF7-8EE0-BF203142F6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Mito de la Comunidad</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Definición de Comunidad y Participación</a:t>
            </a:r>
            <a:endParaRPr b="0" lang="en-US" sz="3200" spc="-1" strike="noStrike">
              <a:solidFill>
                <a:srgbClr val="5f5f5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2" name="Rectangle 4"/>
          <p:cNvSpPr/>
          <p:nvPr/>
        </p:nvSpPr>
        <p:spPr>
          <a:xfrm>
            <a:off x="3355200" y="5181480"/>
            <a:ext cx="26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 Samuel M Musyoki</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dad: M04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squema de la Presentació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roduc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lejidades de la comun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gnificados de particip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5f5f5f"/>
                </a:solidFill>
                <a:latin typeface="Arial"/>
              </a:rPr>
              <a:t>La forma en que entendamos y enmarquemos “comunidad” y  “participación”  influye en gran medida sobre:</a:t>
            </a:r>
            <a:endParaRPr b="0" lang="en-US" sz="3000" spc="-1" strike="noStrike">
              <a:solidFill>
                <a:srgbClr val="5f5f5f"/>
              </a:solidFill>
              <a:latin typeface="Arial"/>
            </a:endParaRPr>
          </a:p>
          <a:p>
            <a:pPr lvl="1" marL="720720" indent="-2772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La manera en la cual preparamos e involucramos a las comunidades para participar en el proceso de mapeo participativo.   </a:t>
            </a:r>
            <a:endParaRPr b="0" lang="en-US" sz="2800" spc="-1" strike="noStrike">
              <a:solidFill>
                <a:srgbClr val="5f5f5f"/>
              </a:solidFill>
              <a:latin typeface="Arial"/>
            </a:endParaRPr>
          </a:p>
          <a:p>
            <a:pPr lvl="1" marL="720720" indent="-2772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 quién incluimos o no incluimos en el proceso.</a:t>
            </a:r>
            <a:endParaRPr b="0" lang="en-US" sz="2800" spc="-1" strike="noStrike">
              <a:solidFill>
                <a:srgbClr val="5f5f5f"/>
              </a:solidFill>
              <a:latin typeface="Arial"/>
            </a:endParaRPr>
          </a:p>
          <a:p>
            <a:pPr lvl="1" marL="720720" indent="-2772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uestra apreciación de la dinámica del poder, clave para la participación.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mplejidades de la Comunidad</a:t>
            </a:r>
            <a:endParaRPr b="0" lang="en-US" sz="40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a comunidad es un grupo de personas que interactúan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uga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re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finidad etno-cultural/religiosa 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dioma </a:t>
            </a:r>
            <a:endParaRPr b="0" lang="en-US" sz="2800" spc="-1" strike="noStrike">
              <a:solidFill>
                <a:srgbClr val="5f5f5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n comú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mplejidades de la Comunidad</a:t>
            </a:r>
            <a:endParaRPr b="0" lang="en-US" sz="40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puestos de que una comunidad 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rmonios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omogén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lusiv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ispuesta a participar.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mplejidades de la Comunidad</a:t>
            </a:r>
            <a:endParaRPr b="0" lang="en-US" sz="40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l mapeo participativo podrí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vocar reacciones diferentes y hostiles de distintas comunidad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r fácilmente dominado por los más poderos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querir un conocimiento previo sobre la dinámica de poder y las relaciones de la comunidad que podrían obstaculizar la participación.</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mplejidades de la Comunidad</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5f5f5f"/>
                </a:solidFill>
                <a:latin typeface="Arial"/>
              </a:rPr>
              <a:t>¿Quién es quién dentro de la comunidad? </a:t>
            </a:r>
            <a:endParaRPr b="0" lang="en-US" sz="3100" spc="-1" strike="noStrike">
              <a:solidFill>
                <a:srgbClr val="5f5f5f"/>
              </a:solidFill>
              <a:latin typeface="Arial"/>
            </a:endParaRPr>
          </a:p>
          <a:p>
            <a:pPr marL="343080" indent="-343080">
              <a:spcBef>
                <a:spcPts val="7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5f5f5f"/>
                </a:solidFill>
                <a:latin typeface="Arial"/>
              </a:rPr>
              <a:t>¿Quién decide quién debe o no debe participar? </a:t>
            </a:r>
            <a:endParaRPr b="0" lang="en-US" sz="3100" spc="-1" strike="noStrike">
              <a:solidFill>
                <a:srgbClr val="5f5f5f"/>
              </a:solidFill>
              <a:latin typeface="Arial"/>
            </a:endParaRPr>
          </a:p>
          <a:p>
            <a:pPr marL="343080" indent="-343080">
              <a:spcBef>
                <a:spcPts val="7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5f5f5f"/>
                </a:solidFill>
                <a:latin typeface="Arial"/>
              </a:rPr>
              <a:t>¿Quién participa y por qué? </a:t>
            </a:r>
            <a:endParaRPr b="0" lang="en-US" sz="3100" spc="-1" strike="noStrike">
              <a:solidFill>
                <a:srgbClr val="5f5f5f"/>
              </a:solidFill>
              <a:latin typeface="Arial"/>
            </a:endParaRPr>
          </a:p>
          <a:p>
            <a:pPr marL="343080" indent="-343080">
              <a:spcBef>
                <a:spcPts val="7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5f5f5f"/>
                </a:solidFill>
                <a:latin typeface="Arial"/>
              </a:rPr>
              <a:t>¿Quién queda fuera y por qué? </a:t>
            </a:r>
            <a:endParaRPr b="0" lang="en-US" sz="3100" spc="-1" strike="noStrike">
              <a:solidFill>
                <a:srgbClr val="5f5f5f"/>
              </a:solidFill>
              <a:latin typeface="Arial"/>
            </a:endParaRPr>
          </a:p>
          <a:p>
            <a:pPr marL="343080" indent="-343080">
              <a:spcBef>
                <a:spcPts val="774"/>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100" spc="-1" strike="noStrike">
                <a:solidFill>
                  <a:srgbClr val="5f5f5f"/>
                </a:solidFill>
                <a:latin typeface="Arial"/>
              </a:rPr>
              <a:t>¿Qué se necesita hacer para asegurar que se creen oportunidades equitativas y se brinde apoyo para que todos participen?</a:t>
            </a:r>
            <a:endParaRPr b="0" lang="en-US" sz="3100" spc="-1" strike="noStrike">
              <a:solidFill>
                <a:srgbClr val="5f5f5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gnificados de Participación</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os esfuerzos organizados para incrementar el control sobre los recursos y las instituciones regulatorias por parte de los grupos y movimientos previamente excluidos de tal control (UNRISD,1979).</a:t>
            </a:r>
            <a:endParaRPr b="0" lang="en-US" sz="2400" spc="-1" strike="noStrike">
              <a:solidFill>
                <a:srgbClr val="5f5f5f"/>
              </a:solidFill>
              <a:latin typeface="Arial"/>
            </a:endParaRPr>
          </a:p>
          <a:p>
            <a:pPr marL="332640" indent="-33264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oceso por el cual las partes interesadas influyen y comparten el control sobre las iniciativas de desarrollo, las decisiones y los recursos que les afectan (</a:t>
            </a:r>
            <a:r>
              <a:rPr b="0" i="1" lang="es-AR" sz="2400" spc="-1" strike="noStrike">
                <a:solidFill>
                  <a:srgbClr val="5f5f5f"/>
                </a:solidFill>
                <a:latin typeface="Arial"/>
              </a:rPr>
              <a:t>Participation Learning Group </a:t>
            </a:r>
            <a:r>
              <a:rPr b="0" lang="es-AR" sz="2400" spc="-1" strike="noStrike">
                <a:solidFill>
                  <a:srgbClr val="5f5f5f"/>
                </a:solidFill>
                <a:latin typeface="Arial"/>
              </a:rPr>
              <a:t>del Banco Mundial,1995).</a:t>
            </a:r>
            <a:endParaRPr b="0" lang="en-US" sz="2400" spc="-1" strike="noStrike">
              <a:solidFill>
                <a:srgbClr val="5f5f5f"/>
              </a:solidFill>
              <a:latin typeface="Arial"/>
            </a:endParaRPr>
          </a:p>
          <a:p>
            <a:pPr marL="332640" indent="-33264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ermitir a las personas que se den cuenta de sus derechos de participar en, y acceder a información relacionada al proceso de toma de decisiones que afecta sus vidas (DFID, Haciendo Realidad los Derechos Humanos para los Pobres, 2000).</a:t>
            </a:r>
            <a:endParaRPr b="0" lang="en-US" sz="2400" spc="-1" strike="noStrike">
              <a:solidFill>
                <a:srgbClr val="5f5f5f"/>
              </a:solidFill>
              <a:latin typeface="Arial"/>
            </a:endParaRPr>
          </a:p>
          <a:p>
            <a:pPr marL="3326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Significados de Particip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ipología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pasiv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en la provisión de inform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por consul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por incentivos materia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funcion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articipación interactiv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uto-moviliz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21:39:21Z</dcterms:created>
  <dc:creator>smusyoki</dc:creator>
  <dc:description/>
  <cp:keywords>pgis training kit</cp:keywords>
  <dc:language>en-US</dc:language>
  <cp:lastModifiedBy>martens</cp:lastModifiedBy>
  <dcterms:modified xsi:type="dcterms:W3CDTF">2010-04-27T12:44:16Z</dcterms:modified>
  <cp:revision>85</cp:revision>
  <dc:subject/>
  <dc:title>Presentación - Mito de la Comuni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