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3FB2-A9E8-4571-8E42-6EBC78E04D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DE4F-075B-488C-999B-5FCA9A1D5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entregar esta presentación, estudiar el Material Informativo para el Participante:  Factores Sociales, Económicos, Culturales e Institucionales a Nivel Local y Comunitar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097-3A92-498A-9934-815CB7AE2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13F-C627-4527-807F-FD641BDBA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A8A2-1511-408D-AB73-DC734655E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796EF-1DEC-435A-A2F3-E20A877DA78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E2C6-25B9-4EF0-9E6A-1349D4371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E21A-4171-47A7-AF53-22E0978D97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jercicio No. 4: Mapeo por géner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8C55-A71F-4E88-80D7-69F93ECEF6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10F0-16FA-4D46-B3F0-635E77E00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ED74-1857-432C-936C-74937BEB2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BC26-FC0A-4137-9010-B6F974157A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rcicio No. 1: Identificación de tipos de limitaciones en actividades comunitari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A8EC-DA90-495F-9400-D2F42C753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0F32-5B77-4180-B081-DDCB72FFE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9BBB-3C53-447E-9B18-E548D019C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0734-FF54-438E-AAC5-DBF718993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rcicio No. 2: Actitudes hacia el conocimiento territorial local e indíge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249A-A7D6-4960-8D45-C89485D90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3BEF-EEB3-46D8-822F-4A6E88CBB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976-DDB5-4B55-A7BF-2626E5EF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3DF-7FF8-4ADA-A399-A417DECD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692C51-249F-44D2-BBE5-4F77B15D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0A0AB-CAAC-427B-AC1D-3E9A5665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682CE-044F-4223-BFD0-FC993108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986D9-A760-477E-AF9F-3B22F768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1D7C1-31B2-4BB3-BA6B-6B08EF4A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B872B-E5D9-4B6D-B1AA-BFFD3473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D9517-45F9-4F14-9165-3AE16A7B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C1175-FE48-4AB0-8558-FD73784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A49CF-FEFF-44D5-952F-15B7E8D876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20A-480C-4085-B5D7-CE7EE7A3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CAF-82E8-4D6D-9564-B85B621C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6E480-9936-4864-90AB-E899D61B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7136B-AE00-4DB3-A7C6-CB5D7409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07553-12C2-4FBB-8BF0-189FD89E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14AB6-70D9-4240-9E5B-953EF532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DC36A-DBA5-434A-8623-2F717845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81475-F1B1-4D02-9D66-3E5EABD9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E0599-5CC3-47B1-A97A-1816454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C8D-A1D0-445D-B3DD-F5AC780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9A4FF-617A-4CDD-8B39-17FD6893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0B1D4-821D-4760-93F5-6C58D4EA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1097E-66C7-4CBE-B2A9-73C30DF9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14A65-5C08-43CE-9764-209F1AA1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859B5-8640-4365-9FF6-89E4ABD0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3433C-7448-4E4D-B6BD-69C66B5F8E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AFDB1-F989-402A-A77D-D9EF852F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0A003-1895-4387-8687-F3B153FB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E097A-571C-40EE-9AB4-3CB5163C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F45A8-3825-40DB-822B-D7073E46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F93-ECCD-4071-9F50-F5512D8B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58700-BA75-447D-A898-2FA1BBC0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5C18C-531F-4BDD-9719-BDA2E57E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889C6-20C0-4560-A489-75217CE7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78091-96E1-4E33-B469-E3CEF5F4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C5325-AD87-4E08-983C-08E9A95C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970FA-8780-461E-B6E7-0BDF6230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9A6E2-00D5-4A3E-A331-571600DABE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EA10D-4786-4604-8BA1-CEFAD1751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39CDF-687D-4336-8A22-412A1F5C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B26CB-23B0-4D87-B40A-F88061CA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4DB-2361-4CDD-A700-D54D5133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2FD23-CAB2-4D02-A3FC-6CDFF80B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78B8B-245F-4FB1-B288-194D8646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3C50D-C67B-46CE-92CB-6DEE5CAD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D7197-0919-41E4-A797-2FD3F32A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18C18-3C61-4F20-957F-EAA719E3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13B00-8F2A-4CE0-BDB9-1F2BD6F0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4063F-53E1-4A12-BB67-71029D23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1AF780-57AE-4637-8F4D-62FF2C9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36773-2600-4401-A2F4-80E455053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6DD9F-DFCD-4B35-822D-13C2BAD64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7B8-4BBE-495C-972D-7E4E2520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D6625-F794-47AC-8B01-57B3C3AE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B617-D7AF-4B85-A30D-A14C4548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2F1C-E334-41BD-97A7-1002BE0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2C77-A246-4BCE-9CAB-7DD148BC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17719-AB4C-44D7-9B47-19CDF84C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E8456-0568-4E3A-9AC9-E1527C5B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F088-5757-4590-B16D-1E5DCBDF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BDC5-DAB6-4F86-B652-E6B7E1F7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F23FB-429C-4BF0-9DE8-4321DAB6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BB6F-B302-474D-8C2C-16005CED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5AD-4B70-4255-B5E4-391ECE7C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9D660-5F51-4948-BDEA-B41F68D748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4691C-6B66-4695-81B2-3CA2768C94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8C6D8-915B-4792-8401-6ACEE167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B7BB6-3A10-4DF2-889C-EAD7EEE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6E5E2-D912-4A50-B5C1-3A3A4D94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5F242-2B8A-43F7-AFCE-473E46E7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AADEF-BAD5-4FB0-9FD6-5993AA58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DE0E8-0021-428C-9AF1-8F4ACD2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2B21C-FCD3-41D7-B8A4-180F8FA3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32578-54F2-46AA-9567-DF4B4198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FF5-A6A6-4B54-8FB9-8227EAFA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AA75E-E8DA-4586-B171-29AD2BFA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068CA-FC86-41C6-A239-6B0CE086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AEFCA-1652-40A5-9C3D-F48006BC2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D95818-3797-40BF-9C07-07DAED80C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F87F63-5B57-4A1B-8BDB-92F73233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5A403D-C267-476F-8C61-6E0A2394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4125F2-956C-4719-8DD9-5ADD9189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1EA92-463A-4D1E-A849-7CDDED60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316353-800D-4A32-BE65-EAADE13A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B29EE-9C82-4154-BEBE-97DC3B38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2D6-C65A-4CE0-A616-93616FB8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13BE4-796C-42EE-BCC0-3026E14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2370A9-F8BB-43D4-BF59-083C226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7A4EEE-4C4F-4CE8-8552-FFF40B11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413978-E942-4A10-B3CB-0C06CE6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873871-7F28-4E11-A1A3-B32B80551F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8EF2D-8D78-4B92-8017-63DE2EC3A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85ADD-B3DE-4B24-9396-E6D6D685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918D0-9405-479B-A344-CAD23774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43396-7573-41F2-8B18-1FAB3D77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2D66A-54F4-4E29-8993-5DB704A3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ADE-C5A6-463E-9A64-328D4C60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17F1-459D-4656-AC2F-19F1BB81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2FFE2-A213-43BE-BA29-56E49C17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7D961-2615-408F-8484-BFA1E835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196D8-14ED-44C3-ACF8-93165329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0C4DB-2ABD-41E8-BB74-750F530A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C1866-EF18-4086-85A1-C6F5BCD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63E4C-92AC-4DC7-8D55-B46B2E463D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E0153-7687-4B0F-AD44-1EB5594A54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59D5B-357F-43C4-BD44-29F54F63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A3F27-1CF8-4303-A886-9E268BEE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FC6D-3A80-4AFE-BA45-26EA58A71B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3E1A-96F9-4F1E-AD5D-D8B12A0B8B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FA6A-6D0D-4FA6-ACA2-7F6D532DBF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9DF9-B21A-4199-AF57-A42A3B9078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D120-6998-46EB-8015-01519739D5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0316-89AB-449C-BC5D-95CC39857F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8AB6-6292-402F-8086-F5F670869C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4F6-007C-4349-9790-1236375DF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5A2D-10EC-40F8-B832-329A172229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Sociales, Económicos, Culturales e Institucionales a Nivel Local y 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631600" y="51577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Michael McCall y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obernanz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nceptos de gobernanza son pertinentes en la evaluación del potencial de las comunidad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sponsabilidad de los gobernantes frente a los gobernad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egitimidad de los gobernantes sobre los gobernad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mpetencia de los gobernant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técnicos y financier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Tiene la comunidad la capacidad de gestionar y mantener un SI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manejabilidad tiene una serie de factor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Viabilidad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cilidad de us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fectividad en función de los cost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ecesidad de actualizar datos regularment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clusió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c3300"/>
                </a:solidFill>
                <a:latin typeface="Arial"/>
              </a:rPr>
              <a:t>Factores culturales y sociales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culturales y sociales inhabilitan o habilitan procesos comunitarios. ¿Quié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termina el objetivo del mapeo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cide sobre las prioridades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elecciona la información a ser incluida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rabaja en el proceso de mapeo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presenta a la comunidad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tá involucrado en el uso de los mapas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piedad significa una variedad de condiciones: propiedad legal, usufructo, uso compartido, propiedad común, vínculos espiritu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participativo está íntimamente ligado a las posiciones oficiales (legales) y no oficiales (socioculturales) sobre derechos y titulación con respecto a la tierra y a los recurs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posición legal-legislativa de las personas que están dedicadas a la práctica de SIGP, especialment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tuación nacional e internacional de los pueblos indígena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sición nacional de las mujeres y los niñ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as por género y de niñ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cceso de las mujeres a la planificación territorial participativa es importante en la práctica de SIGP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mujeres tienen conocimiento local técnico y de gestión especializad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y muchas experiencias positivas de la capacitación de niños para trabajar con mapeo participativ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Cómo contrarrestar factores negativ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portunidades para superar factores inhabilitant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a los miembros influyentes de la comunidad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xplorar y asignar valor a las extraordinarias fortalezas y funcionalidades de los SIGP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Cómo contrarrestar factores negativ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Por qué son especiales los SIGP? Los SIGP: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Obtienen, representan y validan CTL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Integran el CTL con el conocimiento externo; 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Proporcionan información con especificidad territorial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Funcionan con imágenes visuales – “narrativas territoriales”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Involucran a múltiples fuentes y procesos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Mejoran las capacidades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Legitiman el conocimiento endógeno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01680"/>
            <a:ext cx="84358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ocimiento territorial local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ursos comunitari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obernanz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ctores técnicos y financier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actores culturales y socia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rechos y titulación con respecto a la tierr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apas por género y de niñ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ómo contrarrestar factores negativ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y situaciones locales pueden afectar el mapeo participativ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factores pueden ser habilitantes o inhabilit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 Unidad categoriza los tipos de factores habilitantes e inhabilitantes, explora su relativa significación y analiza la viabilidad de abordar los factores inhabilit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ocimiento territorial local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componente central en el mapeo comunitario es el conocimiento territorial local (CTL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 un recurso vit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principio básico de los SIGP es que valora el CTL como válido, confiable, preciso y complementario del conocimiento científico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ocimiento territorial local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 local – hay una relación próxima y duradera entre las personas y los recursos de la tierr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 propiedad de la comunidad loc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lasificación en CTL se basa más en funcionalidad y objetivo que en conocimiento “científico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 holístico y de naturaleza combinatori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ocimiento territorial local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ocimiento “técnico” local específico es similar al conocimiento “científico” comú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ocimiento local que representa puntos de vista de los actores locales es diferente al punto de vista “oficial” domina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ocimiento territorial espiritual o místico está más restringido a personas en particula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ocimiento territorial local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está distribuido y transmitido en forma desigu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cambia en virtud de cambios en el clima, los ecosistemas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puede no ser registrad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TL puede ser privilegiado y controlado dentro de sociedades rural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ursos comunitari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estructuras, recursos y fortalezas internas de las comunidades varían enormemen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siguientes preguntas pueden ser usadas para evaluar la eficiencia y efectividad de las personas y las instituciones en una comunida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ursos comunitari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Es la comunidad una organización de aprendizaje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Tiene la comunidad un objetivo común y cohesión?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Cuáles son las políticas y prácticas destinadas a la inclusión de los miembros periféricos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Qué evidencia hay de transparencia y confianza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Cuáles son las capacidades de personas clave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 and Janik Granados</dc:creator>
  <dc:description/>
  <cp:keywords>pgis training kit</cp:keywords>
  <dc:language>en-US</dc:language>
  <cp:lastModifiedBy>martens</cp:lastModifiedBy>
  <dcterms:modified xsi:type="dcterms:W3CDTF">2010-09-16T10:39:18Z</dcterms:modified>
  <cp:revision>280</cp:revision>
  <dc:subject>M05 - Enabling and Disabling Environments </dc:subject>
  <dc:title>Presentacion - Factores Sociales, Económicos, Culturales e Institucionales a Nivel Local y Comunitari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