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766E-39D6-41F8-9C73-630888F7C2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4C1-38F9-4387-B775-7570FF3FB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ota para el presentador: Antes de entregar esta presentación, leer el Material Informativo para el Participante: “Planificación de la Acción en Respuesta a Factores Habilitantes e Inhabilitantes”, leer el Ejemplo (material informativo) y familiarizarse con el Ejercicio No. 1: Análisis FODA.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E116-8E62-4069-A47A-AA25092E4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F35-8C7B-4DFD-9288-47D4BD1F5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ODA = fortalezas, oportunidades, debilidades,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DFA3-D9CF-4BBF-B512-B99DABA2B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0E4-FCAE-4F1A-B061-FDF2085C6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B9D4-E382-4263-BA6B-BD48BC842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E8F7-6EE4-44B8-83FC-195598CE4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08AB-E119-42D7-A0BC-A39CE6E7D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169-EF44-411E-A6CE-8D7444546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D16B-632D-46AB-9FD4-98173B6B2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E607-553F-429A-B74A-115ACCB6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FA53-C41C-4401-A243-261C5BB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31EC-4D98-4D5A-8482-3973B469F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AB6B7-E3C1-4933-8986-5FD419131D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92F4B-7DFD-46DB-84E8-F9466B9B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FEBDD-575C-4488-8001-16E928E1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3E794-B907-4E77-9CF6-7E9DC4FA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0D719-72AA-4587-819E-3D8BEC10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DD8B-D2A3-4D74-BC8D-2A0AA84A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FDE28-0488-42F6-A0FE-FC62E961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9497-52D7-4B0B-8A68-5BEF33C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1D164-F73E-4EC9-8F31-F3923254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AF86F-A19F-485F-B2CC-4A3AB048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E417C-685A-4972-8D49-9F7CE4E8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BA243-3454-4A8F-8713-B352931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B3847-F879-44E5-AFA1-61797A326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CD8D-AE96-4B87-8C32-63518B27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6DD6B-1BB9-4604-ADAA-B01AC52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8772-37C1-4039-A36D-5DC32075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1EE4-1F11-48F3-9DFE-4B1B12C5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DA27-27B2-4797-9989-4FEF161C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C84F-832A-48BC-A4BD-0DA85A4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E721-D15A-45CB-8E95-78040864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FF2-9C0E-455B-A3CD-098DFAC5D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486-9CD5-4E8C-8846-A7FC057045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lanificación de la Acción en Respuesta a Factores Habilitantes e Inhabilita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14880" y="501336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Giacomo Rambaldi y M.K. Mc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lanificación de la acción con análisis FO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nálisis FO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ta Unidad presenta el análisis FODA y su uso en la identificación y evaluación de fortalezas, oportunidades, debilidades y amenazas dentro del contexto de una intervención, con un componente de SIG participativ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DA es útil para la planificación de la acción en respuesta a la identificación y análisis de factores habilitantes e inhabilita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lanificación de la Acción con 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análisis FODA es un método para evaluar factores habilitantes e inhabilita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implementación de iniciativas de mapeo requiere la identificación y evaluación de factores habilitantes e inhabilitant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lgunos factores pueden ser “factores aniquiladores”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implementadores deberían desarrollar los factores positivos y abordar los factores negativ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1403280" y="1413000"/>
            <a:ext cx="5319720" cy="4819680"/>
            <a:chOff x="1403280" y="1413000"/>
            <a:chExt cx="5319720" cy="4819680"/>
          </a:xfrm>
        </p:grpSpPr>
        <p:sp>
          <p:nvSpPr>
            <p:cNvPr id="102" name="Rectangle 15"/>
            <p:cNvSpPr/>
            <p:nvPr/>
          </p:nvSpPr>
          <p:spPr>
            <a:xfrm>
              <a:off x="2435760" y="1965240"/>
              <a:ext cx="2143440" cy="21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F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7"/>
            <p:cNvGrpSpPr/>
            <p:nvPr/>
          </p:nvGrpSpPr>
          <p:grpSpPr>
            <a:xfrm>
              <a:off x="1403280" y="1413000"/>
              <a:ext cx="5319720" cy="4819680"/>
              <a:chOff x="1403280" y="1413000"/>
              <a:chExt cx="5319720" cy="4819680"/>
            </a:xfrm>
          </p:grpSpPr>
          <p:sp>
            <p:nvSpPr>
              <p:cNvPr id="104" name="Rectangle 14"/>
              <p:cNvSpPr/>
              <p:nvPr/>
            </p:nvSpPr>
            <p:spPr>
              <a:xfrm>
                <a:off x="4579560" y="4098960"/>
                <a:ext cx="2143440" cy="2133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A</a:t>
                </a: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3"/>
              <p:cNvSpPr/>
              <p:nvPr/>
            </p:nvSpPr>
            <p:spPr>
              <a:xfrm>
                <a:off x="4579560" y="1965240"/>
                <a:ext cx="2143440" cy="2133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D</a:t>
                </a: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2"/>
              <p:cNvSpPr/>
              <p:nvPr/>
            </p:nvSpPr>
            <p:spPr>
              <a:xfrm>
                <a:off x="2435760" y="4098960"/>
                <a:ext cx="2143440" cy="2133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O</a:t>
                </a: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1"/>
              <p:cNvSpPr/>
              <p:nvPr/>
            </p:nvSpPr>
            <p:spPr>
              <a:xfrm>
                <a:off x="2435760" y="1413000"/>
                <a:ext cx="2143440" cy="552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Útiles para alcanzar el objetiv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4579560" y="1413000"/>
                <a:ext cx="2143440" cy="552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Adversos para alcanzar el objetiv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403280" y="1965240"/>
                <a:ext cx="1032480" cy="2133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Factore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1403280" y="4098960"/>
                <a:ext cx="1032480" cy="2133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Factores ex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Rectangle 2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Rounded Rectangle 10"/>
          <p:cNvSpPr/>
          <p:nvPr/>
        </p:nvSpPr>
        <p:spPr>
          <a:xfrm>
            <a:off x="3857760" y="3714840"/>
            <a:ext cx="1928520" cy="7142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8"/>
          <p:cNvGrpSpPr/>
          <p:nvPr/>
        </p:nvGrpSpPr>
        <p:grpSpPr>
          <a:xfrm>
            <a:off x="1835280" y="1413000"/>
            <a:ext cx="5113080" cy="5043240"/>
            <a:chOff x="1835280" y="1413000"/>
            <a:chExt cx="5113080" cy="5043240"/>
          </a:xfrm>
        </p:grpSpPr>
        <p:sp>
          <p:nvSpPr>
            <p:cNvPr id="115" name="AutoShape 69"/>
            <p:cNvSpPr/>
            <p:nvPr/>
          </p:nvSpPr>
          <p:spPr>
            <a:xfrm>
              <a:off x="1835280" y="1413000"/>
              <a:ext cx="5113080" cy="50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0"/>
            <p:cNvSpPr/>
            <p:nvPr/>
          </p:nvSpPr>
          <p:spPr>
            <a:xfrm>
              <a:off x="1836720" y="141300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1"/>
            <p:cNvGrpSpPr/>
            <p:nvPr/>
          </p:nvGrpSpPr>
          <p:grpSpPr>
            <a:xfrm>
              <a:off x="2470320" y="1999080"/>
              <a:ext cx="2233440" cy="2222640"/>
              <a:chOff x="2470320" y="1999080"/>
              <a:chExt cx="2233440" cy="2222640"/>
            </a:xfrm>
          </p:grpSpPr>
          <p:sp>
            <p:nvSpPr>
              <p:cNvPr id="118" name="Rectangle 72"/>
              <p:cNvSpPr/>
              <p:nvPr/>
            </p:nvSpPr>
            <p:spPr>
              <a:xfrm>
                <a:off x="2470320" y="1999080"/>
                <a:ext cx="2233440" cy="22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3"/>
              <p:cNvSpPr/>
              <p:nvPr/>
            </p:nvSpPr>
            <p:spPr>
              <a:xfrm>
                <a:off x="2470320" y="1999080"/>
                <a:ext cx="2233440" cy="222264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74"/>
            <p:cNvSpPr/>
            <p:nvPr/>
          </p:nvSpPr>
          <p:spPr>
            <a:xfrm>
              <a:off x="2998800" y="2496240"/>
              <a:ext cx="2628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F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5"/>
            <p:cNvSpPr/>
            <p:nvPr/>
          </p:nvSpPr>
          <p:spPr>
            <a:xfrm>
              <a:off x="3284640" y="2849400"/>
              <a:ext cx="887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ortale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6"/>
            <p:cNvSpPr/>
            <p:nvPr/>
          </p:nvSpPr>
          <p:spPr>
            <a:xfrm>
              <a:off x="4194720" y="284976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7"/>
            <p:cNvSpPr/>
            <p:nvPr/>
          </p:nvSpPr>
          <p:spPr>
            <a:xfrm>
              <a:off x="3071880" y="338760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tributos út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8"/>
            <p:cNvSpPr/>
            <p:nvPr/>
          </p:nvSpPr>
          <p:spPr>
            <a:xfrm>
              <a:off x="4103280" y="338760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36c0a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79"/>
            <p:cNvGrpSpPr/>
            <p:nvPr/>
          </p:nvGrpSpPr>
          <p:grpSpPr>
            <a:xfrm>
              <a:off x="4703760" y="4222080"/>
              <a:ext cx="2232360" cy="2221920"/>
              <a:chOff x="4703760" y="4222080"/>
              <a:chExt cx="2232360" cy="2221920"/>
            </a:xfrm>
          </p:grpSpPr>
          <p:sp>
            <p:nvSpPr>
              <p:cNvPr id="126" name="Rectangle 80"/>
              <p:cNvSpPr/>
              <p:nvPr/>
            </p:nvSpPr>
            <p:spPr>
              <a:xfrm>
                <a:off x="4703760" y="4222080"/>
                <a:ext cx="2232360" cy="222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81"/>
              <p:cNvSpPr/>
              <p:nvPr/>
            </p:nvSpPr>
            <p:spPr>
              <a:xfrm>
                <a:off x="4703760" y="4222080"/>
                <a:ext cx="2232360" cy="222192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Rectangle 82"/>
            <p:cNvSpPr/>
            <p:nvPr/>
          </p:nvSpPr>
          <p:spPr>
            <a:xfrm>
              <a:off x="5145120" y="4468320"/>
              <a:ext cx="513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A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5638680" y="4837320"/>
              <a:ext cx="860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ena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6321240" y="483660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5"/>
            <p:cNvSpPr/>
            <p:nvPr/>
          </p:nvSpPr>
          <p:spPr>
            <a:xfrm>
              <a:off x="5181120" y="5506920"/>
              <a:ext cx="141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diciones peligro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6"/>
            <p:cNvSpPr/>
            <p:nvPr/>
          </p:nvSpPr>
          <p:spPr>
            <a:xfrm>
              <a:off x="5811120" y="550692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7"/>
            <p:cNvSpPr/>
            <p:nvPr/>
          </p:nvSpPr>
          <p:spPr>
            <a:xfrm>
              <a:off x="5841720" y="5506920"/>
              <a:ext cx="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8"/>
            <p:cNvSpPr/>
            <p:nvPr/>
          </p:nvSpPr>
          <p:spPr>
            <a:xfrm>
              <a:off x="6461280" y="539388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9"/>
            <p:cNvSpPr/>
            <p:nvPr/>
          </p:nvSpPr>
          <p:spPr>
            <a:xfrm>
              <a:off x="4810320" y="58467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90"/>
            <p:cNvGrpSpPr/>
            <p:nvPr/>
          </p:nvGrpSpPr>
          <p:grpSpPr>
            <a:xfrm>
              <a:off x="4703760" y="1999080"/>
              <a:ext cx="2232360" cy="2222640"/>
              <a:chOff x="4703760" y="1999080"/>
              <a:chExt cx="2232360" cy="2222640"/>
            </a:xfrm>
          </p:grpSpPr>
          <p:sp>
            <p:nvSpPr>
              <p:cNvPr id="137" name="Rectangle 91"/>
              <p:cNvSpPr/>
              <p:nvPr/>
            </p:nvSpPr>
            <p:spPr>
              <a:xfrm>
                <a:off x="4703760" y="1999080"/>
                <a:ext cx="2232360" cy="22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92"/>
              <p:cNvSpPr/>
              <p:nvPr/>
            </p:nvSpPr>
            <p:spPr>
              <a:xfrm>
                <a:off x="4703760" y="1999080"/>
                <a:ext cx="2232360" cy="222264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93"/>
            <p:cNvSpPr/>
            <p:nvPr/>
          </p:nvSpPr>
          <p:spPr>
            <a:xfrm>
              <a:off x="5008320" y="2428920"/>
              <a:ext cx="3603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D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4"/>
            <p:cNvSpPr/>
            <p:nvPr/>
          </p:nvSpPr>
          <p:spPr>
            <a:xfrm>
              <a:off x="5400000" y="2813040"/>
              <a:ext cx="99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ebilidad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5"/>
            <p:cNvSpPr/>
            <p:nvPr/>
          </p:nvSpPr>
          <p:spPr>
            <a:xfrm>
              <a:off x="6657120" y="278280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6"/>
            <p:cNvSpPr/>
            <p:nvPr/>
          </p:nvSpPr>
          <p:spPr>
            <a:xfrm>
              <a:off x="5278320" y="345240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tributos adve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7"/>
            <p:cNvSpPr/>
            <p:nvPr/>
          </p:nvSpPr>
          <p:spPr>
            <a:xfrm>
              <a:off x="5749560" y="345240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8"/>
            <p:cNvSpPr/>
            <p:nvPr/>
          </p:nvSpPr>
          <p:spPr>
            <a:xfrm>
              <a:off x="6364440" y="336276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9"/>
            <p:cNvGrpSpPr/>
            <p:nvPr/>
          </p:nvGrpSpPr>
          <p:grpSpPr>
            <a:xfrm>
              <a:off x="2470320" y="4222080"/>
              <a:ext cx="2233440" cy="2221920"/>
              <a:chOff x="2470320" y="4222080"/>
              <a:chExt cx="2233440" cy="2221920"/>
            </a:xfrm>
          </p:grpSpPr>
          <p:sp>
            <p:nvSpPr>
              <p:cNvPr id="146" name="Rectangle 100"/>
              <p:cNvSpPr/>
              <p:nvPr/>
            </p:nvSpPr>
            <p:spPr>
              <a:xfrm>
                <a:off x="2470320" y="4222080"/>
                <a:ext cx="2233440" cy="222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1"/>
              <p:cNvSpPr/>
              <p:nvPr/>
            </p:nvSpPr>
            <p:spPr>
              <a:xfrm>
                <a:off x="2470320" y="4222080"/>
                <a:ext cx="2233440" cy="222192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02"/>
            <p:cNvSpPr/>
            <p:nvPr/>
          </p:nvSpPr>
          <p:spPr>
            <a:xfrm>
              <a:off x="2733120" y="4483800"/>
              <a:ext cx="3877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e36c0a"/>
                  </a:solidFill>
                  <a:latin typeface="Calibri"/>
                </a:rPr>
                <a:t>O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3"/>
            <p:cNvSpPr/>
            <p:nvPr/>
          </p:nvSpPr>
          <p:spPr>
            <a:xfrm>
              <a:off x="3143160" y="4837320"/>
              <a:ext cx="130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portunidad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4"/>
            <p:cNvSpPr/>
            <p:nvPr/>
          </p:nvSpPr>
          <p:spPr>
            <a:xfrm>
              <a:off x="4464720" y="4836600"/>
              <a:ext cx="5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5"/>
            <p:cNvSpPr/>
            <p:nvPr/>
          </p:nvSpPr>
          <p:spPr>
            <a:xfrm>
              <a:off x="3055680" y="5506920"/>
              <a:ext cx="11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diciones úti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6"/>
            <p:cNvSpPr/>
            <p:nvPr/>
          </p:nvSpPr>
          <p:spPr>
            <a:xfrm>
              <a:off x="4130280" y="4739760"/>
              <a:ext cx="1926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e36c0a"/>
                  </a:solidFill>
                  <a:latin typeface="Calibri"/>
                </a:rPr>
                <a:t> 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7"/>
            <p:cNvSpPr/>
            <p:nvPr/>
          </p:nvSpPr>
          <p:spPr>
            <a:xfrm>
              <a:off x="2577600" y="58467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08"/>
            <p:cNvGrpSpPr/>
            <p:nvPr/>
          </p:nvGrpSpPr>
          <p:grpSpPr>
            <a:xfrm>
              <a:off x="2470320" y="1423440"/>
              <a:ext cx="2233440" cy="575280"/>
              <a:chOff x="2470320" y="1423440"/>
              <a:chExt cx="2233440" cy="575280"/>
            </a:xfrm>
          </p:grpSpPr>
          <p:sp>
            <p:nvSpPr>
              <p:cNvPr id="155" name="Rectangle 109"/>
              <p:cNvSpPr/>
              <p:nvPr/>
            </p:nvSpPr>
            <p:spPr>
              <a:xfrm>
                <a:off x="2470320" y="1423440"/>
                <a:ext cx="2233440" cy="57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10"/>
              <p:cNvSpPr/>
              <p:nvPr/>
            </p:nvSpPr>
            <p:spPr>
              <a:xfrm>
                <a:off x="2470320" y="1423440"/>
                <a:ext cx="2233440" cy="57528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11"/>
            <p:cNvSpPr/>
            <p:nvPr/>
          </p:nvSpPr>
          <p:spPr>
            <a:xfrm>
              <a:off x="2976120" y="1515960"/>
              <a:ext cx="146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Factores habilitant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2"/>
            <p:cNvSpPr/>
            <p:nvPr/>
          </p:nvSpPr>
          <p:spPr>
            <a:xfrm>
              <a:off x="4206600" y="151524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113"/>
            <p:cNvGrpSpPr/>
            <p:nvPr/>
          </p:nvGrpSpPr>
          <p:grpSpPr>
            <a:xfrm>
              <a:off x="4703760" y="1423440"/>
              <a:ext cx="2232360" cy="575280"/>
              <a:chOff x="4703760" y="1423440"/>
              <a:chExt cx="2232360" cy="575280"/>
            </a:xfrm>
          </p:grpSpPr>
          <p:sp>
            <p:nvSpPr>
              <p:cNvPr id="160" name="Rectangle 114"/>
              <p:cNvSpPr/>
              <p:nvPr/>
            </p:nvSpPr>
            <p:spPr>
              <a:xfrm>
                <a:off x="4703760" y="1423440"/>
                <a:ext cx="2232360" cy="57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15"/>
              <p:cNvSpPr/>
              <p:nvPr/>
            </p:nvSpPr>
            <p:spPr>
              <a:xfrm>
                <a:off x="4703760" y="1423440"/>
                <a:ext cx="2232360" cy="57528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6"/>
            <p:cNvSpPr/>
            <p:nvPr/>
          </p:nvSpPr>
          <p:spPr>
            <a:xfrm>
              <a:off x="5187240" y="1515960"/>
              <a:ext cx="155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Factores inhabilita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7"/>
            <p:cNvSpPr/>
            <p:nvPr/>
          </p:nvSpPr>
          <p:spPr>
            <a:xfrm>
              <a:off x="6462000" y="15519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18"/>
            <p:cNvGrpSpPr/>
            <p:nvPr/>
          </p:nvGrpSpPr>
          <p:grpSpPr>
            <a:xfrm>
              <a:off x="1845000" y="1999080"/>
              <a:ext cx="624960" cy="2222640"/>
              <a:chOff x="1845000" y="1999080"/>
              <a:chExt cx="624960" cy="2222640"/>
            </a:xfrm>
          </p:grpSpPr>
          <p:sp>
            <p:nvSpPr>
              <p:cNvPr id="165" name="Rectangle 119"/>
              <p:cNvSpPr/>
              <p:nvPr/>
            </p:nvSpPr>
            <p:spPr>
              <a:xfrm>
                <a:off x="1845000" y="1999080"/>
                <a:ext cx="624960" cy="22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0"/>
              <p:cNvSpPr/>
              <p:nvPr/>
            </p:nvSpPr>
            <p:spPr>
              <a:xfrm>
                <a:off x="1845000" y="1999080"/>
                <a:ext cx="624960" cy="222264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21"/>
            <p:cNvSpPr/>
            <p:nvPr/>
          </p:nvSpPr>
          <p:spPr>
            <a:xfrm rot="16200000">
              <a:off x="1370520" y="3042360"/>
              <a:ext cx="136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Factores intern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2"/>
            <p:cNvSpPr/>
            <p:nvPr/>
          </p:nvSpPr>
          <p:spPr>
            <a:xfrm rot="16200000">
              <a:off x="2030040" y="231552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23"/>
            <p:cNvGrpSpPr/>
            <p:nvPr/>
          </p:nvGrpSpPr>
          <p:grpSpPr>
            <a:xfrm>
              <a:off x="1845000" y="4222080"/>
              <a:ext cx="624960" cy="2221920"/>
              <a:chOff x="1845000" y="4222080"/>
              <a:chExt cx="624960" cy="2221920"/>
            </a:xfrm>
          </p:grpSpPr>
          <p:sp>
            <p:nvSpPr>
              <p:cNvPr id="170" name="Rectangle 124"/>
              <p:cNvSpPr/>
              <p:nvPr/>
            </p:nvSpPr>
            <p:spPr>
              <a:xfrm>
                <a:off x="1845000" y="4222080"/>
                <a:ext cx="624960" cy="222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5"/>
              <p:cNvSpPr/>
              <p:nvPr/>
            </p:nvSpPr>
            <p:spPr>
              <a:xfrm>
                <a:off x="1845000" y="4222080"/>
                <a:ext cx="624960" cy="2221920"/>
              </a:xfrm>
              <a:prstGeom prst="rect">
                <a:avLst/>
              </a:prstGeom>
              <a:noFill/>
              <a:ln cap="rnd" w="17640">
                <a:solidFill>
                  <a:srgbClr val="e3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26"/>
            <p:cNvSpPr/>
            <p:nvPr/>
          </p:nvSpPr>
          <p:spPr>
            <a:xfrm rot="16200000">
              <a:off x="1360440" y="5279760"/>
              <a:ext cx="140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Factores extern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7"/>
            <p:cNvSpPr/>
            <p:nvPr/>
          </p:nvSpPr>
          <p:spPr>
            <a:xfrm rot="16200000">
              <a:off x="2030040" y="45234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ounded Rectangle 10"/>
          <p:cNvSpPr/>
          <p:nvPr/>
        </p:nvSpPr>
        <p:spPr>
          <a:xfrm>
            <a:off x="3635280" y="3716280"/>
            <a:ext cx="1928880" cy="711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rtalezas y las debilidades se refieren a la situación </a:t>
            </a: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actual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portunidades y amenazas evalúan posibles escenarios </a:t>
            </a: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futuros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rtalezas mejoran el desempeñ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debilidades limitan el desempeñ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portunidades son condiciones favorab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menazas son escenarios nega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nálisis FODA puede ser llevado a cabo par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aluar y seleccionar qué idea/proyecto es más apropiado para implemen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lanificar estrategias y acción sobre cómo implementar un proyec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valuar cómo una actividad existente podría ser mejorad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Giacomo Rambaldi</dc:creator>
  <dc:description/>
  <cp:keywords>pgis training kit</cp:keywords>
  <dc:language>en-US</dc:language>
  <cp:lastModifiedBy>Valeria</cp:lastModifiedBy>
  <dcterms:modified xsi:type="dcterms:W3CDTF">2010-09-12T16:49:15Z</dcterms:modified>
  <cp:revision>235</cp:revision>
  <dc:subject>M05 - Enabling and Disabling Environments </dc:subject>
  <dc:title>Presentación - Planificación de la Acción en Respuesta a Factores Habilitantes e Inhabilita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