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431280"/>
            <a:ext cx="679752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CAB04-8427-491D-8599-18EFD3A4C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46806-FEE6-4279-BFA6-FBC1C23B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l Material Informativo para el Participante: Significación de los Factores Habilitantes e Inhabilitantes para el Mapeo Particip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24E12-BC56-4EF4-9E2A-73A84DF05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F598-65E1-4946-A475-72EC6B79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61EDE-4E4C-473A-8A04-B885D72B0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07512-6290-43F5-BD79-20FDD810C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E44E6-5950-4EA7-85B8-35003C068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A37E2-DCC0-4F14-9BF0-F1A73D10E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FF11A-16B6-4D9F-9646-A65A8753A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B8CDF-8A8E-419C-A549-5C7BD497D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5986C-1995-4A46-AC9C-8DC1FA837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E7B13-9755-48FF-BB37-6FE69A49A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Objetivos y actores en mapeo participativ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FA02E-DFBE-49CD-B11B-5208A0F0B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C767D-A7E2-450A-A9A1-134050D90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2: Limitaciones a la planificación y la gestión participativ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65DD-80C8-41E1-A5BC-224C65C87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BAD9-60FA-4AC8-AEF6-A6797C5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2C83-B2AD-4C4F-9532-B58B3B3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74A3-6CFD-4805-8CF1-23339B374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DD2FC-4B87-45D6-B4EC-610E70B5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55B47-0D36-48EC-876A-FA20A77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55B07-BCB1-4439-B897-413C65A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A4118-327A-49FE-9284-A12E0DAF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3F65-194A-4C7B-8314-FC06E1B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118E3-55C1-480F-AFFC-7D251F2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D7F9F-D8D2-46A8-87F6-A63AAAB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55C0-38BA-45B1-9A1E-0A7FFC39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37F33-365E-46F1-AE9F-C29B989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D204E-DB07-4920-AEFC-9D8AEE7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1F48-434F-411F-B8CE-1AE90CCC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E256B-EAE3-49FD-B1DB-451F20E3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4129-C5BE-4CC6-854C-ABE0E6E8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17C71-C25A-465F-A90B-A8893B8C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8E451-80C3-42C9-BF7F-88EE436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2A911-2FF3-48B4-AC0A-17DE7677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7A8A0-3374-4FDD-B26A-7FC9D6C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21C7C-56B8-45E0-83CF-F0AA3A4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C1C8-A956-4309-94C6-15D2560F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6B4FF-60BB-40D0-A567-F600F90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66ABE-E72A-499C-B3C7-6139D79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043C6-71DB-4DC0-909E-B384E47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DA762-42D8-4D84-93B1-4ADF9FE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021B4-14C3-4358-9D92-ED47D02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56DEC-27F8-459E-BE81-4F298CB6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AFDB7-6505-4659-947C-AC15B57D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9C9E-0721-48C7-B222-062BDCC3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6BF3-2ECC-4DE1-B3B9-DCE5ED4D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0362-59A3-400C-A3DF-7FE2834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2497-0FD4-4866-B191-6FE2A56A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B72F-8E4C-43FC-8842-A4308502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A69A-A656-463E-A1C3-D64DF0D7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C208-2CBC-4B3B-BD7E-9095DDF12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51F-421E-495D-AE97-341EC25F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69B-A319-440D-A21D-D8B22A1D8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gnificación de los Factores Habilitantes e Inhabilitantes para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363320" y="5143680"/>
            <a:ext cx="61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, Giacomo Rambaldi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externo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internacionales y 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stinadas a los derechos de propiedad intelectu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yes consuetudinarias versus leyes dictadas por un órgano legislativ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áreas protegid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itudes de funcionarios del gobiern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Barreras del idiom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intern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laciones entre la comunidad y los agentes externos, el gobierno y las institu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ructura interna de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pacidad de las organizaciones comunitari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fabetización, niveles de educación, género, edad, clase y estructuras de cas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terminación de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habilitantes apoyan al mapeo comunitar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obstaculizan, reducen o bloquean activ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terminación de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tienden a recibir más atención porque requieren mayor análisis y enfoques más perspicac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habilitantes e inhabilitantes pueden ser de naturaleza legal-política, económica o sociocultural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bjetivo claramente definido y comparti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hesión y experiencia comunitari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iderazgo y gobernanza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petencias técnicas y actitudes huma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ocimiento territorial lo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lítica, entornos legales y sociedad civil sustentado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yes que se opongan a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blemas sociales estructurales en la comunida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confianza en el conocimiento territorial local (CT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ereses en el mantenimiento del 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status qu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un objetivo claro y una visión comparti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competencia técn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lta de recursos financier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imitaciones de infraestructu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bordar los factores inhabilitantes significa resolverlos o mitigarl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gunos factores pueden ser “factores aniquiladore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termediarios de tecnología necesitan asistir a las comunidades loc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método para la planificación de la acción es el análisis FO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jetivos de la Un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iscutir la significación de los factores habilitantes e inhabilitantes para el mapeo participativo. 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iscutir la relevancia de los marcos legales y político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xplicar la función de los factores sociales, económicos, culturales e institucionales a nivel local y comunitario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Describir la planificación de la acción en respuesta a factores habilitantes e inhabilitantes.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Unidades del Módul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1 – Significación de los factores habilitantes e inhabilitantes para el mapeo participativ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2 – Marcos legales y polític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3 – Factores sociales, económicos, culturales e institucionales a nivel local y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idad M05U04 – Planificación de la acción en respuesta a factores habilitantes e inhabilitant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ontenido de la Unidad M05U01 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Éxito en el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externos e intern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terminación de factores habilitantes e in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ctores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Introducción a la Unidad M05U01 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depende de factores sociales, económicos, políticos e institucionales que son externos o internos, habilitantes o inhabilit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habilitantes tienden a recibir más atención que los factores habilitantes, porque requieren mayor análisis y enfoques más perspicaces.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riterios para un mapeo participativo exitos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atisfacer a la mayoría de los actor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poyar a los actores desaventaj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o causar un daño innecesario a ningún acto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rear y apoyar iniciativas autónom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canzar los resultados pretendi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condición básica en mapeo participativo es la “claridad de objetivo”. Esto quiere decir, un acuerdo claro sobre el (los) objetivo (s) de la actividad, visión y compromiso a largo plazo, de manera que los objetivos se vuelvan transpare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Éxito en el Map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éxito puede solamente ser medido a largo plaz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lgunos casos de intervenciones comunitarias pueden tener resultados inesperad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mbios pueden resultar en beneficios para algunos, pueden no tener ningún efecto o pueden tener un impacto negativo en otras persona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Externos e Intern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externos se refieren al entorno más ampl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internos pertenecen a una organización, una comunidad, un grupo de personas o personal dedicado a un proyecto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Mike McCall and Janik Granados</dc:creator>
  <dc:description/>
  <cp:keywords>pgis training kit</cp:keywords>
  <dc:language>en-US</dc:language>
  <cp:lastModifiedBy>Valeria</cp:lastModifiedBy>
  <dcterms:modified xsi:type="dcterms:W3CDTF">2010-09-12T16:24:03Z</dcterms:modified>
  <cp:revision>378</cp:revision>
  <dc:subject>M05- Enabling and disabling environments</dc:subject>
  <dc:title>Presentacion - Significación de los Factores Habilitantes e Inhabilitantes para el Mapeo Particip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4D39534AF3E24D47AB55289290746C79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