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ftr" idx="26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7f7f7f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6D50-0DDD-427C-AA4D-B09E52105D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E111-C2BE-4829-B3F8-6538F13615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Ver Material Informativo para el Participante: Marcos Legales y Polí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E438-6CA9-480C-937F-41C7853F7D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51E9-AF20-4632-AFC3-10FC47351A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B8C7-608C-486C-945E-CC29736FD7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DECD-1F5B-4796-9DB2-CAF5B7303C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9A71-525F-4E0E-A567-83201AABC5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7B3B-362E-4E1B-AD20-1AB8F473DA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AF48-61C0-48D4-BB80-E31F965128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5917-4E36-40F6-AF1A-D264B0EACF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7CC1-B0D4-40F0-B24E-6C839381B7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Por más información, ver el Módulo M12, “Introducción a SIG con el Fin de Practicar SIGP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9642-0B09-4C98-8F78-370E6F38DC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Realizar el Ejercicio No. 1: Experiencias de los participantes con mapeo participativ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A3E6-B2E4-4C8E-98EB-FA943B7567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7271-1A5D-45FC-B736-93DCE81B64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9AF1-6605-44F7-8050-8E935B6FCD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3011-43EB-4167-9C1C-CB3B02ACE4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93DA-CF9D-40B8-9C64-D7B1AC8B69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142A-BC76-4577-8FC4-72F5E4F1F3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87A-B242-409C-BCDC-FCE961F3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BA3F-1A2F-4B3E-9A14-3D18A0C3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4FDC13-A518-4847-A82F-E266BFDA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F9F767-80FE-4CA2-820A-CC409EE0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A31CAA-974A-4DAA-8504-A9602A1A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BFC595-F52A-4F18-A8E8-940F1174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2B00E3-BA4E-42C3-A8D6-E52DB0EB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AFEE7B-70C4-4521-951C-BCA9AD3A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2A38B8-427C-44FC-8259-D52F32D3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B16366-4B0C-480E-9E47-005E1019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E87569-4381-4E86-9947-07A0219BE7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7823DA-4833-4245-88FB-CA52F930D2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319-62C7-469E-B555-47265A2E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9F5C8B-5225-4DBB-8917-E62C6B19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6D71E9-ECE5-4ECA-8D62-51FD08D6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CEB17B-19DC-4EFC-8236-305DC98F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258B8C-8302-4525-923F-B6A52A47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0A513D-6E59-4AA5-8467-7CB58351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C4E6D9-AE60-4C84-9D54-B23EB622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DF0178-45AE-4C84-B5FB-1A1B1E83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FA59D2-8C56-4ECD-BF26-EC78DDD7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218F8A-B791-40ED-AFBD-A715E1E6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E26F8D-292C-44C1-B905-AC0A3608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1E8E-44E2-410B-AE54-341BC2CD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661F7D-59BC-466D-9A9E-76E12A29D2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18125-0961-4E9E-899F-32DFCC0BBC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C1AD0-97D0-4406-9577-FB2E3CE7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525D4-B30A-49F1-A82F-F14B6641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D72D8-B561-4EDA-BDBF-04AABB5F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45B1C-1958-4350-9575-04227103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34C4C-E31C-4C5B-AADC-6F116083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AED2A-5DC2-40B3-98B9-9C7FB5E4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4C367-8D47-494F-9EB3-7FD5AB1B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12F44-D5C2-4D62-A07A-C0D1CAE9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8610D-3A32-439A-AFEB-3012B149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AC423-F328-454E-A2EA-12E9C63A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91A61-8EB6-4B25-9D0E-6B79D808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95751-435A-44B1-A9FB-FF28827E92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5D728-EBA5-4A8F-A4B2-F7F42827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EF3D6-D114-4125-9DEE-337E91B5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EFA6B-E94A-4E7A-9563-F31D1539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282D8-2DEB-4475-BD36-3ABC3384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84250-04CE-4144-8B9D-1CD90D47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A4520-1B5B-4ED8-B79D-95ABFBF6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C78-C2F9-4AD4-96AB-8CBE88BC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423EF-F276-4582-9833-2E836995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08EBB-318F-4200-B0EA-123C5D8B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AF125-C1F9-4503-8F37-2CDA6CDB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85F67-9060-4452-A4AD-8B852F10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922CF-C844-4ABF-93DE-D5FDC277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12BAA-0038-4CAE-9B8F-BCFA62C98F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99B07-82FC-44B0-8293-B861A3F4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30464-959E-417F-A3F4-25F45D5C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78988-D86B-4234-8338-09625FA1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DDC8D-0A7D-423A-8AA3-85AB8EC8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67AE-960E-4126-B30E-7CC6F1CC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31176-823C-41AC-9F1E-743D0958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E025C-67B1-4CB1-B4ED-D452D7A3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329E5-793C-43FD-A9D4-7B9D04FB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67F29-39CA-4127-9A2B-8C7C57E7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B9A91D-B3DF-40DB-B14E-AFF477EB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D99BC-3284-4FC8-BBB0-48C72EA8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F565D-4B0D-4A12-8B6D-E1789A3444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96910B-3B52-4A7F-9180-E07BFE420F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FF975F-E06F-482D-8E5C-0F936C25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CABA7D-26E7-4B33-B56C-F82E3459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95C1-BECE-4FF5-A030-DC855EE1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118DB9-71F7-42F1-A20C-80273BB9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2F6CBE-9D05-459D-90CC-0B788E5B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7B6A39-3184-4C79-8FA6-55F509B6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39FE59-B854-4B10-ADC3-964F8CAC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BEACAC-7546-4ED2-B7C3-3F6B5C2C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53ECCF-9C1F-4EF2-8955-72929091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B5387A-8F95-402D-81A8-4E52A099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172D4B-E59C-40A3-AB36-E9FBE1B6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AA3461-9D3A-4DDD-8B42-5A63A4CF94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49450-3577-4947-ABA2-EEB547420F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8667-7868-422C-B0A4-C48A6137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EB84E-1783-4DBC-9331-F023CDEB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E74CF-213C-4FB5-AD97-941998D2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9C25E-0F9B-42A8-8A51-56CB1A1F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38779-D742-4BFC-9D04-7CD66182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9FF60-8EE1-45A8-97DB-47251B9B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547BD-2542-4CE8-9E98-FDD08489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995CC-6E60-43B6-B288-2AA700B3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4A21E-20EA-4401-9A75-1D6C7591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09D42-AC05-4C84-AB15-5B53426E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EA2AD-7637-4420-98A6-62FAC26A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C2B8-D892-4730-A7C8-912D3B18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928E9-960F-40A1-BB1D-18855520BC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D31E72-8395-4EC5-B895-29160FF034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5F3F2-F5B2-4551-A04C-2E1A5CB3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5EC504-7A7B-489A-B96A-DF9AD6A4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7FB049-78C7-4598-8B93-E23A0A62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8C2E9-D446-4934-A534-8B8F113C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E3C4F-2F2D-4028-BCA8-96882128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5DA56E-CD5B-4A59-A6D1-1B611CB0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168CF9-08B0-40E1-9FC9-6AE13915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CEFED3-82B0-4813-B198-C93AA44F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DF5-F1A1-45E5-9E54-7D76B490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AC2FB9-6CD7-4B3C-A012-518F024D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1FA542-D90F-435A-9C09-BC7EB8B4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F43C3-B3D4-4A02-AECF-3928EEE494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769F3E-2B10-413B-A999-DAD865B71B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4403E6-C49B-4E14-9EDD-AA448C90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B85A26-3326-4BFF-BED6-200A9F74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CBD62E-EF5D-4F4F-91BE-E8A1415D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132AB4-5AEB-47A2-8D2F-F7D0023D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5A3671-483C-4408-8C83-7FD7D136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56B1A3-AC78-4849-A3E6-9A852E4B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8A5-3260-4A14-AA8A-CE51568E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B4B3C7-CF4A-4DB6-8DDC-A0DD3190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440A53-A09E-4DE7-A090-A4769186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DF2D07-8595-4556-B49C-9EF2AD57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183FFC-6BE6-4DC0-86BF-03AC2338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71FB4C-A539-401B-8D5E-DE519E4688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AEF34-7515-46B9-992A-5E7E237C37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3F087-F979-4913-832C-DADB80A4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55878-4D65-4269-A9BD-7946594A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32C77-3758-4CCD-A96F-64BA82F8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F24A8-D1C7-4748-8965-F42B21F9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85E-DB35-49C6-8746-4112A1D7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796A2-1AC1-465E-B4D7-687BB779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B0267-A952-4C64-BF2A-0E02B24C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473B3-09B9-4080-918D-03398F6C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DDD0F-B349-4915-88E9-F9D29FDD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F57F0-3487-41C9-9360-FF74A529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82098-11D3-4326-B03E-010EABE7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3E530-19CA-46C5-BB7C-8031A33512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98F7E9-0D9A-407E-BA58-56BBDE6CFB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D8E65E-4FD8-4555-BE42-EC8B353F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5CBF01-8718-488E-A944-30E36D3F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1562-6477-4501-9835-07ACAC1C2D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3E35-86AB-449D-A88A-1875CA60D9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3D6D-9A95-4042-8E06-0434141EBE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38D8-4B62-4D51-8910-65C6E06FC7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8A59-FF05-4832-AE12-DBF2971D81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15E3-A625-4A5C-BA78-A924E81B75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A7C6-89B9-4598-9CA6-D32E38BADF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BB79-294A-4A4A-B66E-EA5B4C0194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8BFF-670B-489F-A95A-7C7D2D1215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88DB-60FC-48F0-81A0-F8DEC8B3A2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F25A-E462-48BC-BFAB-CCF95E5423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arcos Legales y Polític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2560320" y="49417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Michael McCall y Janik Gra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 M05U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strumentos de Polític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instrumentos comunicativos educan a las person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instrumentos de incentivo persuaden a las person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instrumentos regulatorios controlan a las person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Derechos y Titulación con respecto a la Tierra y los Recurs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 objetivo común de los SIGP es mapear los reclamos a la tierra y los recurs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ontrol sobre la tierra y los recursos tiene muchas funcione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cces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tir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Gest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xclus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najenac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Derechos y Titulación con respecto a la Tierra y los Recurs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 factor clave es la política y legislación con respecto a la tenencia de tierras y recurso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opiedad privad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opiedad comunal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opiedad del Estad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cceso abiert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50920" y="1989000"/>
          <a:ext cx="8605800" cy="4640400"/>
        </p:xfrm>
        <a:graphic>
          <a:graphicData uri="http://schemas.openxmlformats.org/drawingml/2006/table">
            <a:tbl>
              <a:tblPr/>
              <a:tblGrid>
                <a:gridCol w="3887640"/>
                <a:gridCol w="4718160"/>
              </a:tblGrid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Sistema de tenencia de la tierra consuetudinario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Por ejemplo, Australia Aborig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enencia de la tierra orientada al 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Por ejemplo, sistema catastral australi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>
                        <a:alpha val="50000"/>
                      </a:srgbClr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Conexión física espiritual con la tierr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ierra como una mercancía comercializabl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Propiedad comunal; manej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Propiedad exclusiva; tierra registrad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ransferencia de la tierra mediante herenci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ransferencia de la tierra mediante venta, arrendamiento, herenci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Evidencia de tenencia a través de canciones, danzas, historias, imágenes, ceremonia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Registros escritos mediante Certificado de Título.  Almacenamiento de largo plazo en bases de dat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os límites son “límites de influencia”, topografía, espacios sagrad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os límites son geodésicos, demarcados por monumentos; regulación del Estad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Superposición de derechos y responsabilidades; negociación con pueblos vecin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Derechos sobre tierras vecinas restringidos y controlados por el Estad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ímites blandos; límites flexibles temporales/estacional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ímites duros; mayormente límites fij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Significados ricos – holístic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os SIG no pueden manejarlos; quizás los SIGP puedan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Significados precis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os SIG manejan los sistemas catastrales bien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Rectangle 35"/>
          <p:cNvSpPr/>
          <p:nvPr/>
        </p:nvSpPr>
        <p:spPr>
          <a:xfrm>
            <a:off x="-468360" y="0"/>
            <a:ext cx="92883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Tenencia de la Tierra: </a:t>
            </a:r>
            <a:br>
              <a:rPr sz="4000"/>
            </a:b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Propiedad Comunal versus Propiedad Priv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Derechos y Titulación con respecto a la Tierra y los Recurs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mapeo participativo es el mapeo de actividades por los pueblos loca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relación de las personas con la tierra y los recursos de la tierra es un factor clav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Derechos y Titulación con respecto a la Tierra y los Recurs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¿Es la titulación con respecto a la tierra y los recursos apoyada por la legislación y los tribunales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¿Están respaldados por la agencias de aplicación de la ley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Situación de los Pueblos Indígenas y Loc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s comunidades locales e indígenas a menudo hacen reclamos mediante las leyes consuetudinarias más que mediante las leyes modern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n factor habilitante o inhabilitante significativo es la situación legal de los pueblos indígenas y otras comunidades loca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¿Son reconocidos como una comunidad distinta?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conocimiento del Mapeo Comunitari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autoridades y quienes toman decisiones externos deben reconocer la validez y la legitimidad de los mapas elaborados por los pueblos loca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mapas elaborados por las comunidades pueden incluir conceptualizaciones abstract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conocimiento del Mapeo </a:t>
            </a:r>
            <a:br>
              <a:rPr sz="4400"/>
            </a:b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munitari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autoridades deberían aceptar la información territorial visible; por ejemplo, nombres, topónimos, límites, superficie y sistemas de gest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autoridades deberían aceptar alternativas al relevamiento estándar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Ejemplos de Mapeo Comunitario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jemplos ilustran los beneficios de pasar del croquis geográfico a la adopción de SIG con el fin de practicar SIGP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SIG proporcionan la precisión requerida para procedimientos judiciale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 gobierno no reconocerá a nadie sin un mapa …”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s probable que un mapa mejore el entendimiento de un tribunal…”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troducc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onvenciones y políticas internaciona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strumentos de polític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Derechos y titulación con respecto a la tierra y los recurs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Situación de los pueblos indígenas y loca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conocimiento del mapeo comunitari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jemplos de mapeo comunitari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ta Unidad se centra en factores “externos” de macroescala que afectan el inicio, implementación y seguimiento de procesos que involucran mapeo participativ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venciones y Políticas Internacion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convenciones internacionales podrían afectar la legislación naciona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comunidades locales pueden ser capaces de invocarl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marcos y compromisos internacionales son significativos por una serie de razon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venciones y Políticas Internacion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onvenciones de las Naciones Unidas sobre pueblos indígenas y derechos de propiedad intelectual, incluyendo conocimiento indígen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olíticas de donadores bilaterales y multilaterales, que pueden ser significativas en un país específic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venciones y Políticas Internacion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 legislación internacional que apoya el mapeo participativo puede abordar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Respeto por la propiedad comunal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Respeto por los derechos políticos de los pueblos indígenas, desaventajados y marginados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Formación de redes intercomunitarias internacionales para apoy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Oportunidades de apelar a autoridades internacionales externa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strumentos de Polític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instrumentos de política son los mecanismos económicos, sociales o políticas utilizados para influenciar a un grupo objetiv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strumentos de Polític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olíticas se refieren a las preguntas relacionadas con el “porqué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instrumentos de política se refieren a las preguntas relacionadas con el “qué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implementación de los instrumentos de política se refieren a las preguntas relacionadas con el “cómo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strumentos de Polític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uatro características clave influencian los instrumentos de política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ctores clav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Metas y objetivos de los actores clav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formac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oder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10:19Z</dcterms:created>
  <dc:creator> Michael McCall, Janik Granados</dc:creator>
  <dc:description/>
  <cp:keywords>pgis training kit</cp:keywords>
  <dc:language>en-US</dc:language>
  <cp:lastModifiedBy>Valeria</cp:lastModifiedBy>
  <dcterms:modified xsi:type="dcterms:W3CDTF">2010-09-12T16:31:08Z</dcterms:modified>
  <cp:revision>258</cp:revision>
  <dc:subject>Module05 - Enabling and Disabling Environments </dc:subject>
  <dc:title>Presentacion - Marcos Legales y Polític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