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6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94E7-A456-46C0-A843-995D4E2948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EAE9-35B2-4438-BEC9-5675FECF1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Material Informativo para el Participante: Marcos Legales y Polí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B3E1-468B-4632-B463-E89187B18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82BD-A8C2-42AA-A6BF-9BD9DE5F96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1841-D9D9-4981-9B0D-5AA0279B2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86E4-CD96-44B7-9480-4A414DAF4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9BD0-6CFF-4FFC-AEB9-2FA9F40CD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6B94-388B-4A8D-9061-AC373A2D1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E26B-E7A2-46F9-906B-B5778FA94E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D22B-23D5-453C-8820-65FF54E7B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A1F7-4B6D-48F2-BC10-596024A37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or más información, ver el Módulo M12, “Introducción a SIG con el Fin de Practicar SIGP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AB20-9CEC-4D79-8570-7579B170DA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alizar el Ejercicio No. 1: Experiencias de los participantes con mapeo particip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A823-7C2A-4A7B-AC66-A20B0938F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BB3D-247F-4C51-B05F-AE92CA9612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30B9-E3C1-42E9-9265-4CB96FA200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63A7-5121-41D0-9293-046454DF4C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F681-1D43-4D01-8A3F-796BDD19D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83F9-A4FF-4DB8-B388-A4BBC3859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E89-F8FA-4CB3-9D93-06AC393D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A28-C042-453A-A631-A8F1C9C7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9D7E0-4E3F-4137-B165-0A67CB02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B9A6B-FCAA-4D95-BFDF-7D1A6F74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8ACFBA-70B2-4FEB-A091-61E54ED2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4C6DD-3BDC-472D-BB19-0C1C5FFE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D1076-E8A8-4F04-B74E-04B3EF15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EE6314-3A97-4BAC-AF63-7DDD6BF3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0C63B-F2BF-4E95-BEB9-4E674E5C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D4C78-A304-4AE9-99AD-F8DB28FA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9A7DF-0DD2-4752-B318-F0ABF8882D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D77485-4D24-4693-BBDC-0D7735A6F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5C0-C227-4484-9E7C-B7061D6C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B1DD39-94D7-4AE1-8AA6-064DC74D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6DE825-616A-481F-BDF7-53F57C68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E0AE10-4BA3-49F5-8517-6D17BE47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39E1EC-2547-417E-B6E2-2A9AB088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A82F03-4898-43F7-A1ED-2B21175B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9406B1-ACA4-4086-AEFA-1F1919EB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A99648-5F41-44FA-865E-55874E5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8804A5-9091-438F-9D6C-5F27F19C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ED9BC3-3AA1-411B-A4DD-5B7EF9C1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EEE67F-DA67-4647-A0FF-95FE3832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171-C91F-44A3-BB6C-A2A543D3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2340B6-B4F4-4C55-8768-966003A3D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360DF-17E7-494A-A5D2-E532280982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14294-CE01-460B-892C-40CD0D14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C9EC2-BE59-4A27-9712-3AD1C5E6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A858B-CB81-486D-A393-0EA72FA9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ED5BC-32B5-465D-999F-8D177574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402B8-C4BA-4F08-83FE-BD698995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D3513-2B9E-4F0F-84F1-0FEA6DAF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3BD11-C855-428A-888A-8947C684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F3522-D89A-49F3-8165-39632463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C555E-CC89-453F-98C6-0D20F944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872EE-9EDE-4A8B-BFD7-959417F4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73DAA-EBE5-4D86-A840-C39E6CAF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B16C0-1738-48EE-8DD0-016344209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E45DD-7491-48EC-AF5E-C8DBD5E3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A6471-51C1-4B72-A9C1-E011BF82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4D4A1-4B5D-422A-BBB4-CBCF6DDF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4DA04-D71E-41F7-A74C-6FEE3119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14FE2-A6B6-4FC3-9F9B-CE3FCD0E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1BBEC-4BB0-47C4-82CA-555A19D9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5F9-53DC-4482-A29F-E1D0AA8D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05B2D-CAC9-4EB8-B799-148A3FB3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F1DF2-79AA-49E8-B43B-6D420D67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F45B5-7A88-4E7E-807C-C5DF0A84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CCA9C-9EF2-4DCC-A734-50138751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8AE21-4EB9-48A1-93E0-63EDA4BA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A2EC0-96CA-42AF-B845-B1028D40E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632AA-5E13-45F4-86E5-C4D535F6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63452-C2E4-4115-B6A3-E4223B1F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0ACCA-6922-4029-ACBC-D60C0896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FD5D0-4A72-4A06-BADA-85330B31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1B2-12C5-4415-915B-BE5D23AA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EB74D-D1C3-4078-A7DE-20CC5E5F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05B70-F824-463E-A6B0-43472D53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043E1-2781-4310-9D75-88D7B848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36BAB-958C-4678-9775-F4D6C02D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3F5AE-B83D-46EE-8F94-DABAB545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4608A-ED6F-4221-A5FC-243286F7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7823E-CF4B-4E84-ACC9-A496A23B6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B83E3-CB3E-46F7-B6DC-F6026EF3D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441A4-E3DE-4BDD-8606-6DB3284C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244D0D-6532-4F64-B8FC-5A774328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207-F885-4A25-9231-B837D91F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A6D43-B44C-4CD2-877C-D12EB087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97322-915E-4BF9-AFD5-8B4FAF71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4CFEF-E930-4D7D-9616-6F737EF7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A4A66-A622-4D88-AB97-667FDF57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FB67F-69C2-40A9-899C-9C9736F8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3AFBA-C09C-418C-95ED-E9E3D4C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A2E35C-DB19-42B7-8DF8-4D5A0C4A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5FD121-4618-4191-824E-8D129721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29CBE7-1663-4200-874D-60F59B8DA0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FA49B-4CD6-466A-9A74-C2B69FCA6D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963-B76B-4AE3-A634-4FA0BAED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7D76-A0B5-46A0-98A7-8AABA67B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F8F1C-6469-4E87-8815-632209D5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9C558-A3C4-4788-93DE-0E580272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26BB-0BC5-4C0C-BA49-0D5FBB14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CCA5-430D-4ADC-9009-8AD95168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48419-07BA-406F-B05F-E219E6CE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B597-F434-4ECB-9B2A-7442809A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889B0-D983-467D-ACA3-BEA044ED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A97FF-8C9A-45DA-8575-A24A0C3D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D703A-9745-4008-8742-46F080AC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225-4AB7-42A3-A5E2-DFC5DB16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5F969-FD4A-4992-AFB1-F19A41E08E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4B587-7DD6-4A3B-865A-015290D86E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6D845-B7B3-4F47-8DE3-85D123E3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281CC-95E2-44A8-BC14-04D45F58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8C050-E764-47C2-9F3B-25B0EEB0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A9C7A-3734-42F5-B035-4F2B9CA3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84160-C1AE-4327-958D-E09BEFA3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E0422-AC18-4729-8281-22E09A5A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0D515-B36D-4A8A-B9CD-CAF1E5B1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82846-DEDB-4D64-B22B-F8986F8D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5EA-7500-4B2D-9D09-5639CE5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B55CD-706B-4F41-8972-7898B255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99EBA-1D86-42DD-865E-4974C0DE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A045C-04F2-4D2E-9D2F-326C13464E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8737D-1A29-4B39-8655-F5EE7798CA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4DDFB0-297D-450C-8673-B6CD6E8F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F69261-F6DF-458E-B33F-F47A70C0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4FF997-756F-4932-933F-62A54412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3900DF-2F30-4745-9E6E-42FAFE90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70BB2F-E4F6-4F9D-BC5F-CA6930F8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928216-3F73-47CE-A4D6-707D7F9A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8AA-6449-45E0-BD0F-A0F13B5A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A936CA-5A2E-475F-9E11-9C032C5E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71113D-FA32-4D27-87AC-BDA796E0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FB42C8-2078-402F-87B0-26A1F243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76E505-2537-4B0E-A73B-2BD86E8A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3FFCE-4B9D-4A65-AC05-A7A3661A35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7BBD5-F669-4E0F-A95F-7074681F60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3B3C-77AA-4333-97AB-2A447B9E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27B44-D18B-4249-A139-B01C80CE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6040C-F6C5-4F1F-A5EC-0B6848B5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A8DE3-60B9-407A-B7A4-B1972BCA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E2C-F3BF-4A5C-A5D9-44D3AB6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7F3F5-C526-4162-BBB0-CB01EC80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E57A8-DFA1-4E1F-B4DB-9600947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06608-0758-471A-965D-CED4CD65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096D1-0011-4A2E-B32F-07704D85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4299-5E5D-44C2-A5FD-C92F2BEE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0B60A-E356-4BA9-B4BC-2C87E204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0EC3D-F4A5-48BA-BC1D-651ADEF83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F7E87-C0E7-4162-951E-2CC713F96A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35AF5-314D-4B63-B604-05ACB6A4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A7ED5-7D76-497E-B86C-0360AD83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6862-4AB8-4173-A1BE-54FEB5C192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7963-E230-48A8-9D9A-2C392D351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B5E9-8948-44C7-9744-3AF36DD6E6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6A47-2196-477F-99EE-22BC2AC089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D49A-9C44-4883-A871-A3C152E971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290F-4BAC-497C-A9B4-1C14122CFF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3910-51EC-4729-BD49-240C46C7AF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38F9-3F32-4F63-BD7B-3B17131EE9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74C9-781E-41B8-8D45-478EAC193F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5FF5-FCCD-42DF-8606-E6F765708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4DB5-9DBC-413F-9071-ACA31E2C2D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rcos Legales y Polític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560320" y="49417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Michael McCall y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05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comunicativos educan a las person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incentivo persuaden a las person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regulatorios controlan a las person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objetivo común de los SIGP es mapear los reclamos a la tierra y los recurs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trol sobre la tierra y los recursos tiene muchas funcion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ces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tir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Gest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xclus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najen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factor clave es la política y legislación con respecto a la tenencia de tierras y recurs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privad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comun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iedad del Estad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ceso abiert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50920" y="1989000"/>
          <a:ext cx="8605800" cy="4640400"/>
        </p:xfrm>
        <a:graphic>
          <a:graphicData uri="http://schemas.openxmlformats.org/drawingml/2006/table">
            <a:tbl>
              <a:tblPr/>
              <a:tblGrid>
                <a:gridCol w="3887640"/>
                <a:gridCol w="4718160"/>
              </a:tblGrid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stema de tenencia de la tierra consuetudinario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or ejemplo, Australia Aborig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enencia de la tierra orientada al 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or ejemplo, sistema catastral australi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onexión física espiritual con la tierr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ierra como una mercancía comercializabl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ropiedad comunal; manej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ropiedad exclusiva; tierra registrad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ransferencia de la tierra mediante herenci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ransferencia de la tierra mediante venta, arrendamiento, herenci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videncia de tenencia a través de canciones, danzas, historias, imágenes, ceremonia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Registros escritos mediante Certificado de Título.  Almacenamiento de largo plazo en bases de dat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límites son “límites de influencia”, topografía, espacios sagrad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límites son geodésicos, demarcados por monumentos; regulación del Estad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uperposición de derechos y responsabilidades; negociación con pueblos vecin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erechos sobre tierras vecinas restringidos y controlados por el Estad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ímites blandos; límites flexibles temporales/estacional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ímites duros; mayormente límites fij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gnificados ricos – holístic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SIG no pueden manejarlos; quizás los SIGP pueda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ignificados preciso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3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os SIG manejan los sistemas catastrales bie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Rectangle 35"/>
          <p:cNvSpPr/>
          <p:nvPr/>
        </p:nvSpPr>
        <p:spPr>
          <a:xfrm>
            <a:off x="-468360" y="0"/>
            <a:ext cx="9288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Tenencia de la Tierra: </a:t>
            </a:r>
            <a:br>
              <a:rPr sz="4000"/>
            </a:b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Propiedad Comunal versus Propiedad Priv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mapeo participativo es el mapeo de actividades por los pueblos loc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relación de las personas con la tierra y los recursos de la tierra es un factor cla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Derechos y Titulación con respecto a la Tierra y los Recurso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Es la titulación con respecto a la tierra y los recursos apoyada por la legislación y los tribunale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Están respaldados por la agencias de aplicación de la ley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Situación de los Pueblos Indígenas y Loc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comunidades locales e indígenas a menudo hacen reclamos mediante las leyes consuetudinarias más que mediante las leyes modern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n factor habilitante o inhabilitante significativo es la situación legal de los pueblos indígenas y otras comunidades loc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¿Son reconocidos como una comunidad distinta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nocimiento del Mapeo Comunitari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y quienes toman decisiones externos deben reconocer la validez y la legitimidad de los mapas elaborados por los pueblos loc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pas elaborados por las comunidades pueden incluir conceptualizaciones abstrac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nocimiento del Mapeo 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munitari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deberían aceptar la información territorial visible; por ejemplo, nombres, topónimos, límites, superficie y sistemas de gest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utoridades deberían aceptar alternativas al relevamiento estánda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Ejemplos de Mapeo Comunitari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jemplos ilustran los beneficios de pasar del croquis geográfico a la adopción de SIG con el fin de practicar SIG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SIG proporcionan la precisión requerida para procedimientos judicial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gobierno no reconocerá a nadie sin un mapa 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 probable que un mapa mejore el entendimiento de un tribunal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troduc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venciones y políticas internacion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strumentos de polític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erechos y titulación con respecto a la tierra y los recurs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ituación de los pueblos indígenas y loc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conocimiento del mapeo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jemplos de mapeo comunitari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a Unidad se centra en factores “externos” de macroescala que afectan el inicio, implementación y seguimiento de procesos que involucran mapeo participa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onvenciones internacionales podrían afectar la legislación nacion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omunidades locales pueden ser capaces de invocarl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rcos y compromisos internacionales son significativos por una serie de razo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venciones de las Naciones Unidas sobre pueblos indígenas y derechos de propiedad intelectual, incluyendo conocimiento indígen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líticas de donadores bilaterales y multilaterales, que pueden ser significativas en un país específic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venciones y Políticas Internac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legislación internacional que apoya el mapeo participativo puede abordar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Respeto por la propiedad comunal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Respeto por los derechos políticos de los pueblos indígenas, desaventajados y marginado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Formación de redes intercomunitarias internacionales para apoy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Oportunidades de apelar a autoridades internacionales extern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política son los mecanismos económicos, sociales o políticas utilizados para influenciar a un grupo obje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olíticas se refieren a las preguntas relacionadas con el “porqué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instrumentos de política se refieren a las preguntas relacionadas con el “qué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mplementación de los instrumentos de política se refieren a las preguntas relacionadas con el “cómo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rumentos de Polí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uatro características clave influencian los instrumentos de polític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tores clav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Metas y objetivos de los actores clav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form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d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 Michael McCall, Janik Granados</dc:creator>
  <dc:description/>
  <cp:keywords>pgis training kit</cp:keywords>
  <dc:language>en-US</dc:language>
  <cp:lastModifiedBy>Valeria</cp:lastModifiedBy>
  <dcterms:modified xsi:type="dcterms:W3CDTF">2010-09-12T16:31:08Z</dcterms:modified>
  <cp:revision>258</cp:revision>
  <dc:subject>Module05 - Enabling and Disabling Environments </dc:subject>
  <dc:title>Presentacion - Marcos Legales y Políti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