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ftr" idx="26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7f7f7f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E87C-934F-495D-990C-00D27D95EB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E83C-DB76-49E9-9A8A-5E95BDB4C2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Ver Material Informativo para el Participante: Marcos Legales y Polí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A5A0-8646-4519-80BD-5ED624C8A4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B08D-3F28-4EF5-9137-B4850DB7AE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B559-6DC0-43DF-B872-8675FF1936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8542-CA26-4F03-A25A-6DA2F4D0CB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A935-A784-4DFF-9727-9FC2436F62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A86B-4F70-4323-851D-FFAFD3515E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F53E-1AFA-4AB8-8242-4F701554D7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2519-0564-48E0-AD9C-0E84F5C016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720F-F360-42ED-8F42-20C12EF436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Por más información, ver el Módulo M12, “Introducción a SIG con el Fin de Practicar SIGP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EA65-A491-4F30-92B0-365BD961FC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Realizar el Ejercicio No. 1: Experiencias de los participantes con mapeo participativ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64FE-F898-4DC4-B9E0-E446D7BEFB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F1AD-BE2E-4887-A200-EC21FA56B5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36BF-E283-4E53-8D10-AF076D879A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C6E1-2B6F-4100-96C3-4350A0B2C9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2930-D5F5-4B59-9381-E4C3C1237D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5D8F-C376-4F4A-8F1C-EBFE47381F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547-07BF-4992-B615-5C1ACD1F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A5C-F8C9-4C18-8661-A115D472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E5FB80-B205-4FC6-9C27-F1FE32CA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0C67E3-D6B5-4ADB-A97D-8C3F7AFA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EF27B6-A184-4CCC-AA54-FC8FBB9F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77C148-6A8A-483A-BB3B-3698F50B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E21E70-E746-49E0-8457-57DE621F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B5EB3F-E269-4EDB-83AB-6C2B1C2B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788514-BA47-49C7-BF08-C5DF8C8F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770BEB-2A5C-4BAC-9CE3-3C4BEBAD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4A2578-8FFB-479C-B05D-896693F45F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2A51E1-4B60-4D9C-ABEF-15FB003D59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0985-FF94-41F5-B9B1-F6D38679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E715DE-7380-4DA4-88D3-7293FCDF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1A4EE1-61DF-48FC-8296-4204E60B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2B898F-75CA-406F-BB2C-0C9F927F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8334F4-37F7-47FD-8AD4-0D053FAD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4FA995-9455-4AAF-97C4-7DEE31A9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99B2C9-665D-4961-85F2-CDC0258C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D19F0F-96BF-4D15-BDE9-984BCDB2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7E174E-36E3-43F4-B187-F41DD287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967628-5EAF-44AE-809A-3F2C0403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D74E6D-98CE-4887-A3FF-F7C9FC74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684-60AC-41D9-B042-B07DB159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9F51AA-E38A-440D-B2EB-45F6DA96EB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597DD-8D03-4874-8C6B-6C046C0964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2C92D-7763-42AA-8378-518D0F6C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B84B5-7B2B-4DB6-8FC5-5AC29660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C25B0-69FC-4E49-9AD5-A503C0A7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FE918-3321-4AC8-906D-B3AF40D0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D071F-309C-44C5-9074-132F8AAB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4C596-324C-468F-BD23-0147418F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9F48E-2CC4-49BE-AF97-1686BDF2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89308-D2D9-4CA3-9343-B584634F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01B1A-B612-452F-BFDE-F9D42D96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0C6DD-52B8-4F36-AAC0-5E8CD630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ACF2E-29EF-44FC-BDA4-BA66C5A4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41141-2FED-4F24-A921-69423E23EC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3031C-623C-4FA9-BFED-08D3EAB1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97CB9-C0DF-4234-9A98-D84F6519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DE7C9-F80A-475A-BB0A-E0B58034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CE990-08D1-4BD3-80B4-E8FD4E7E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31031-FD0D-42ED-BEAE-28C0FB67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3FC0A-642E-4958-A57C-34E58500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8130-84B5-4A33-B4EE-4480F4F2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79FD0-81A3-475A-8A4F-FC220268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271FE-2767-47A6-95BD-BDE09303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AF564-341F-46A5-9656-A7769B0D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EB478-B836-4D96-A6B4-D05518A7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15C0E-69C5-41FC-937A-AB811812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7B4DBA-69FB-4678-A6BF-6188D86ACF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A94419-1C12-4177-B5A7-4DE1B289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3A06F-9EC6-44A3-8E70-42D0882D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26D11-8E93-444A-9F3C-34FDCFD7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62403-9815-49DA-B678-F16975D6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9C0C-EF3D-43FC-8759-3704D342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C87B61-CC79-4EBB-98C0-7BC2A7D5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560C1-5661-450F-A259-570130DA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0727E-B42C-4897-BE0A-90947212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107798-A6E4-4283-98EE-3EC44B9D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A597F-5309-4D9F-86E2-3301549D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BEAD1-4479-4119-821F-5585DFE5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33BAC-96BE-46CC-9D10-4A870717F0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00B3D1-CFEE-421D-B151-E2A1B663A4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AB44CB-E7B0-41C4-B820-A85DE623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BFF396-E22D-41C4-8AA7-19E2070D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D91F-A455-4578-A2A0-E723181A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8BB030-11DE-4F38-B9EF-7BF19129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BA4D33-789A-4F53-8672-A7A23B8B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1CF80D-3CA3-46F9-B11B-0AA61B340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160DD0-2361-4EC4-B4DE-6378B6D2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65A70A-4975-4589-8961-3D215AC1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4E2F77-666D-4C9E-BEB7-7988B656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36D385-268F-4465-A24A-46A7011D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BE953F-4C9D-4904-9614-ACBF8E7F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993AF9-E31C-42BF-AF3F-9AC053715A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D0C2E-A4B4-416F-A963-3041DC7BF6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9DEC-2906-42BC-B130-958A1CF5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E5FB0-FF5E-47C4-A105-7861BAFF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F0FE1-4269-42C8-8742-C8514C10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257F6-BE8F-42FA-9F02-A3F7C177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64085-8050-41F9-A8B8-41F24626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8EE18-BC7A-4539-8376-463744B1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57260-F09F-4E46-B1D4-6EF0E45B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87D9E-7658-4FED-9DFD-848E0032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22A01-7FF5-4690-8D09-DE668828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6DA6B-0F0D-4517-A274-BDD02EB8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BD734-61FC-415C-BA1C-F549FB44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4D0-37C1-47FC-95AB-5E1C17DF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4811F-31D7-4348-A24E-4FA78949A3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64F8D7-BDF2-4B6C-9023-1AF5CA05E2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210A6-4FA5-46CB-A662-0E339375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AD0D42-8AE5-4796-9BDC-31564301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609F2-92AF-4A77-BE53-879035B4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52327-A992-4D4B-8FBA-C42472A3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EE7024-1257-442A-8123-F426903A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232254-0273-492C-92E9-5756626C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608F42-0E50-47C6-908A-3B34C3BA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1AA419-1051-418E-87CD-5D0004A3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F926-B722-4EAE-A3BB-D3E62515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162B15-DA6B-4396-B2DD-C2C165AD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481906-8124-4F99-BD9B-D02A6989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4FBE83-76C2-4A4C-9A37-75B6C142B1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0EAC71-419F-40B5-BFCA-CB8F972EC1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4B03CF-BBEE-405D-8DD9-31E6AC40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865CA8-10DD-4BD3-9F1B-AEEF9C49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802470-D2CB-4F72-93D4-BD55FD9C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019FDD-44D0-4A5E-99D6-F351E49B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179AB4-69D9-4FD7-8B22-219FEA22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5AAADA-6F53-4308-B949-ADFCA903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482B-E591-461B-825B-00842CEF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920EAB-6034-4F0D-9ABE-E22EE4DF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2B8089-F586-4985-8E65-1FDFDD06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E9910F-698F-4E1A-8AA9-8FC95160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8A3C46-1435-46ED-B73B-2251517C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0A3C04-E507-4816-9655-82F66EC9AF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54525-A9CF-47B3-BB67-E999FF28CF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14B25-7A74-4161-B05C-B04FA89A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29604-B868-44EC-AE0A-AD90F7C7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62753-3B23-42EC-8863-90729F6C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44694-AC80-4C5A-9B70-4610B614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36D-CDE0-4960-AB89-CB090D9E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44A04-78B9-4F43-9C3C-6F423E5F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40CC3-4F99-41E3-91C5-BE524EA3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74B8C-E366-4B25-B9B3-EF68E56C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56503-019E-4C2C-97E4-C0C445B0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3DA2A-C854-4ED5-8BDA-FAD3DCD0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A77CB-C3E7-4298-BF01-B803F922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B52FF-D318-49A3-BCFC-D6EEA64121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EA94E3-7CE2-4A73-99BE-75B6C25009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3C3813-E1A4-48E6-A055-A9E93EAC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B3CDE4-DEBD-4C47-972A-12638BCC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B168-980E-41CD-988D-2EB873F43E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F37F-E669-4C04-8371-80770933F6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8F07-5522-4D5D-AA11-F777DC52B6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8FDA-518B-42E1-992C-A039F9F7F4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746F-849C-410D-98D7-0D4C8A64BE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112B-6ACB-4F2B-92E6-9820DB272E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9D8C-8659-45E3-AC01-CF28686FC3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32E0-5726-4855-B8B4-488E55E5A9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2539-D1F5-4ADC-B5F7-896724A32E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0278-522E-4ACE-801D-DBC6E241EA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10D5-4E16-4573-A9B8-823AC16777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Marcos Legales y Polític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2560320" y="49417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Por: Michael McCall y Janik Gran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Unidad: M05U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strumentos de Polític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instrumentos comunicativos educan a las person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instrumentos de incentivo persuaden a las persona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instrumentos regulatorios controlan a las person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Derechos y Titulación con respecto a la Tierra y los Recurso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 objetivo común de los SIGP es mapear los reclamos a la tierra y los recurs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ontrol sobre la tierra y los recursos tiene muchas funcione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cces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tir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Gest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xclus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najenac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Derechos y Titulación con respecto a la Tierra y los Recurso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 factor clave es la política y legislación con respecto a la tenencia de tierras y recurso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ropiedad privad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ropiedad comunal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ropiedad del Estad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cceso abiert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250920" y="1989000"/>
          <a:ext cx="8605800" cy="4640400"/>
        </p:xfrm>
        <a:graphic>
          <a:graphicData uri="http://schemas.openxmlformats.org/drawingml/2006/table">
            <a:tbl>
              <a:tblPr/>
              <a:tblGrid>
                <a:gridCol w="3887640"/>
                <a:gridCol w="4718160"/>
              </a:tblGrid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Sistema de tenencia de la tierra consuetudinario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Por ejemplo, Australia Aborig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Tenencia de la tierra orientada al 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Por ejemplo, sistema catastral australi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>
                        <a:alpha val="50000"/>
                      </a:srgbClr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Conexión física espiritual con la tierra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Tierra como una mercancía comercializable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Propiedad comunal; manej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Propiedad exclusiva; tierra registrada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Transferencia de la tierra mediante herencia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Transferencia de la tierra mediante venta, arrendamiento, herencia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Evidencia de tenencia a través de canciones, danzas, historias, imágenes, ceremonia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Registros escritos mediante Certificado de Título.  Almacenamiento de largo plazo en bases de dato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os límites son “límites de influencia”, topografía, espacios sagrado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os límites son geodésicos, demarcados por monumentos; regulación del Estad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Superposición de derechos y responsabilidades; negociación con pueblos vecino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Derechos sobre tierras vecinas restringidos y controlados por el Estad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ímites blandos; límites flexibles temporales/estacional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ímites duros; mayormente límites fijo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Significados ricos – holístico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os SIG no pueden manejarlos; quizás los SIGP puedan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Significados preciso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os SIG manejan los sistemas catastrales bien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Rectangle 35"/>
          <p:cNvSpPr/>
          <p:nvPr/>
        </p:nvSpPr>
        <p:spPr>
          <a:xfrm>
            <a:off x="-468360" y="0"/>
            <a:ext cx="92883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Tenencia de la Tierra: </a:t>
            </a:r>
            <a:br>
              <a:rPr sz="4000"/>
            </a:b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Propiedad Comunal versus Propiedad Priv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Derechos y Titulación con respecto a la Tierra y los Recurso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mapeo participativo es el mapeo de actividades por los pueblos local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relación de las personas con la tierra y los recursos de la tierra es un factor clav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Derechos y Titulación con respecto a la Tierra y los Recurso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¿Es la titulación con respecto a la tierra y los recursos apoyada por la legislación y los tribunales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¿Están respaldados por la agencias de aplicación de la ley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Situación de los Pueblos Indígenas y Loc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s comunidades locales e indígenas a menudo hacen reclamos mediante las leyes consuetudinarias más que mediante las leyes modern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Un factor habilitante o inhabilitante significativo es la situación legal de los pueblos indígenas y otras comunidades local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¿Son reconocidos como una comunidad distinta?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conocimiento del Mapeo Comunitari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autoridades y quienes toman decisiones externos deben reconocer la validez y la legitimidad de los mapas elaborados por los pueblos local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mapas elaborados por las comunidades pueden incluir conceptualizaciones abstract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conocimiento del Mapeo </a:t>
            </a:r>
            <a:br>
              <a:rPr sz="4400"/>
            </a:b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munitari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autoridades deberían aceptar la información territorial visible; por ejemplo, nombres, topónimos, límites, superficie y sistemas de gest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autoridades deberían aceptar alternativas al relevamiento estándar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Ejemplos de Mapeo Comunitario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jemplos ilustran los beneficios de pasar del croquis geográfico a la adopción de SIG con el fin de practicar SIGP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SIG proporcionan la precisión requerida para procedimientos judiciale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l gobierno no reconocerá a nadie sin un mapa …”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s probable que un mapa mejore el entendimiento de un tribunal…”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ntroducc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onvenciones y políticas internacional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nstrumentos de polític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Derechos y titulación con respecto a la tierra y los recurs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Situación de los pueblos indígenas y local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conocimiento del mapeo comunitari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jemplos de mapeo comunitari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sta Unidad se centra en factores “externos” de macroescala que afectan el inicio, implementación y seguimiento de procesos que involucran mapeo participativ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venciones y Políticas Internacion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convenciones internacionales podrían afectar la legislación naciona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comunidades locales pueden ser capaces de invocarla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marcos y compromisos internacionales son significativos por una serie de razon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venciones y Políticas Internacion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onvenciones de las Naciones Unidas sobre pueblos indígenas y derechos de propiedad intelectual, incluyendo conocimiento indígen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olíticas de donadores bilaterales y multilaterales, que pueden ser significativas en un país específic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venciones y Políticas Internacion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 legislación internacional que apoya el mapeo participativo puede abordar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Respeto por la propiedad comunal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Respeto por los derechos políticos de los pueblos indígenas, desaventajados y marginados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Formación de redes intercomunitarias internacionales para apoyo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Oportunidades de apelar a autoridades internacionales externa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strumentos de Polític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instrumentos de política son los mecanismos económicos, sociales o políticas utilizados para influenciar a un grupo objetiv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strumentos de Polític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políticas se refieren a las preguntas relacionadas con el “porqué”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instrumentos de política se refieren a las preguntas relacionadas con el “qué”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implementación de los instrumentos de política se refieren a las preguntas relacionadas con el “cómo”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strumentos de Polític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uatro características clave influencian los instrumentos de política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ctores clav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Metas y objetivos de los actores clav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nformac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oder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8:10:19Z</dcterms:created>
  <dc:creator> Michael McCall, Janik Granados</dc:creator>
  <dc:description/>
  <cp:keywords>pgis training kit</cp:keywords>
  <dc:language>en-US</dc:language>
  <cp:lastModifiedBy>Valeria</cp:lastModifiedBy>
  <dcterms:modified xsi:type="dcterms:W3CDTF">2010-09-12T16:31:08Z</dcterms:modified>
  <cp:revision>258</cp:revision>
  <dc:subject>Module05 - Enabling and Disabling Environments </dc:subject>
  <dc:title>Presentacion - Marcos Legales y Polític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