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ftr" idx="26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7f7f7f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925D-2C0D-4366-AA58-956FA211CF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75C5-E622-4E25-B299-057F75908C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Ver Material Informativo para el Participante: Marcos Legales y Polí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B7DF-31C6-4675-AAA7-B8DE5EBEE1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E1C4-6E11-420D-9B68-C22087EBC6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2FF1-F196-4BE5-9A58-EAEA109226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AB54-7750-4109-A40D-759F4E5412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1BB6-0EAB-46A9-BC2A-399FA8A3CE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4609-4A66-4C0B-A1A7-8CEF8979BE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B6D8-3623-42FF-BB60-AE3DFCB4D8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B83E-8C1F-4E5C-AFF0-64DB9C0D8F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12CD-4759-429B-9E55-C571C062F8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Por más información, ver el Módulo M12, “Introducción a SIG con el Fin de Practicar SIGP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E9EA-C46A-495E-88BE-93DC5D8F3D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Realizar el Ejercicio No. 1: Experiencias de los participantes con mapeo participativ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7FAE-17A8-4FEA-8784-9DDED6246C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A0A1-A47B-4374-B921-38C22D8890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BEBF-5D1A-4438-9878-B8A2C102D7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B6E4-250B-4BB9-B083-C77F4B572B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1DD2-44B7-4640-BB52-4DBEFB01C2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358A-5AF0-4607-BC08-C759A64FCE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88D5-6480-45CF-A9B2-1AEB81A9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210A-BF0B-44AB-98D5-3D1773C7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D1E0CF-8F12-4527-9471-65081C08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BA69E3-FF83-482F-9091-3A9852DB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312891-D163-4D3A-A24F-13069E7D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8B9CC-AD73-4B66-8070-76DCAD2E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F39552-70B8-47FD-9221-A1B7EAEB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980E6D-2ECD-41D9-9040-5AFF09D1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8B666F-1CA7-4A63-B1AE-2CB75386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5E81B-BBAF-450C-B4A6-AB9B4D79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A636C5-FE95-4DF7-A8AF-873220C662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E95FC5-AB16-4370-AA7B-9EC5F673B2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ED3F-4667-4A67-9B9D-5D74C777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F22492-CB84-4029-B8C6-5F0DF882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F4FE11-0CAE-42C6-9161-3D73B8AF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99DE7C-8B79-488B-80AF-68B07A5C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53F25A-EC87-44CD-9AC6-836B2366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57574E-089B-454A-B229-6C28DF3F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9DAB3F-4A54-4170-AE25-740239B0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367717-1058-49C0-B9C3-E71DE4B4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0107F4-3F0B-48E4-A846-110BE8EA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100540-E7BF-4134-90B1-27FE71E0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DC5FA6-A586-4046-906F-8E8BDDB7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1479-8343-49AE-AEA6-D68A3F17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E51320-1635-4817-98F0-83AB95B51D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448CC-7EC5-42D0-8361-A6F57DA72A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751B9-8E0D-4315-8E23-01A22001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73CF2-F842-43F2-ADD6-D24C992E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08D75-AFFD-403B-95CE-273A6C6B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99A41-D8B6-49E0-BA6E-05CF211C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17BBE-C877-49F7-9915-9BED0748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B45B0-AA3A-407C-BF3F-8AC52DD4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BB5D4-98C5-42AD-B0A7-90302EC7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196AE-6CEF-487B-901A-467FB4A9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2DFA1-4986-4897-B959-03D27155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30874-5E87-4B38-8749-5A499DBD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6C80C-23C8-4E92-8B9F-4A28B9E9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29178-71E3-4273-8FC8-E1E7F5A759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736A1-8B3C-43B7-B1D8-A6ACE0FF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16F22-84F9-48B4-86B3-C30B9A9C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17693-EC62-400F-AF7D-F623B76F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7492E-C998-4CA9-8EE3-6B089F02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1342D-B8F0-4A6C-966D-9ED13F7F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79C33-F8CF-4114-8661-C900C11A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60C4-3D4F-4EE2-8474-7C8E2D12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39F47-6E8C-4644-97EE-2BC8BED6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DD694-103F-4C8E-B05F-C3107F25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B4C9E-D902-47CA-8759-0F30E49C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45E95-88B9-40C0-A0DD-C5707611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C79D9-19B8-4343-8511-DC03A3B8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B15D5-C409-4653-9840-44C7B963A0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772395-681F-4FD2-82D6-D7747741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B1A88-2FC1-460D-8ABE-4234F4BA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E7589-1983-4558-9120-D4508988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9DA62-C1EA-44EC-9584-C2A87317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CEB-5F51-4ED8-A6BE-357029E7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210A3-1D7C-4533-A120-A2DA7706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219E1-6085-47DE-B797-B5FACD13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086AA-3792-47A2-BCB3-E45017CF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A7991-D6A6-410B-9DBB-692DB710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770B8-B6D8-493B-944A-CCD1D69C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D9CAD-A4C5-4893-9531-9F1E9C53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361CE-183D-46E2-AE43-FAF5123495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702809-32A7-44F9-87FF-18959E7069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65CD80-87D8-493D-9272-4E2EDBE8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E4F913-CB76-458F-BE8B-8BB1475C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4B1-C418-4C89-BC0E-3F8AF140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16F7D6-38EA-4A4A-91E5-BA4833DB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6D23BA-B024-4A4F-916D-DAD8A5B8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36C44A-71DF-4BC0-B017-423F4601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6D1507-31FB-41B8-9A37-738DCA48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63FDC9-73FA-4F08-9B10-DE5312EE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EA0DC7-9F41-494A-8D3B-FABF1783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68B567-4775-47A0-9702-5E241B25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016388-243B-4B32-A137-D9B91B68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26FEA4-9C38-4AE9-B292-EEB427C9F4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97474-607D-4384-BB1A-7988C18A48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B055-F70B-4B97-95AA-4D9A429F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1440F-1BD7-4BE6-B406-5481C3AB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613CA-9946-4636-863E-A54CD5AB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F398B-2F55-4FF0-A6A6-8E1CDE29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3AC42-EC16-4FEF-99CD-B3CC7474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DB385-96F7-4A03-9766-E84B690A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0983A-77BD-4622-B0EC-B7300BCA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42ABF-B57C-48A2-8B7F-3823FB65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A65BA-ADB6-4976-ABA1-52D00806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12240-9C19-4593-8F96-EF027BC9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ACB5A-5E0B-4FCE-AD09-3E049DC6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4610-B8AA-422B-9505-1FE8ECB7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979F6-C176-4FFD-8BBA-878E1BDF32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1D260-623A-48D0-8615-91491CFBA7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4784A2-D101-485B-BD50-D465CC2F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54E6C4-E338-447D-846A-3ED996D4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AA1146-19B3-4FC2-A161-00971829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0499E-CBD7-4289-88C6-1EC3F1E2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7D6C25-DCE4-4D3D-8D5C-3B6A86235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B05407-0AED-4B44-A9C7-A0E884E2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5301E4-EA0B-4B5A-8FC0-EC521A3A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1F1094-6C74-48BA-8087-C87DA195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124F-9074-4B26-9474-74F5C332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781E1B-E45A-48EA-8E00-5EBA1616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B4C23-D0B9-46EE-9C52-1BE3044A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5C7A14-69C7-4E21-A325-BEFE344C0A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5C2A0D-5232-4100-AF47-1CC8063B80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72EB65-56AA-422E-A62D-32863006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A6C9AB-F561-40DC-8904-241439CD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19C8AD-6A8C-4E96-8DFE-04BDF998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13F6F4-3C20-4C32-980B-93F6F018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49D150-C1BB-47AB-ACA0-BC59E900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31930F-F9DA-4250-83DF-F33CCA02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D55A-658A-477A-BA71-DAE952DE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68A706-C796-456A-B9F5-A88ED5D9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168B1A-7437-4330-88FF-1ACBB9AD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269BDD-FBE2-4C06-9137-05F18DE2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D4859E-7F56-49B4-99B0-AF3B6251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0ED2DE-D825-45F6-9D08-A01AB9EF84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27D10-14F0-42E9-BF8C-6EF73DAD90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E95B1-0D65-4E0D-8A80-F4D52832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3DD17-93D7-4F74-96B5-EE0235E8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97FF2-4093-4BFF-B76A-3108B304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3C6B5-D0A1-4623-ACED-AAF91F8C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C280-1F55-415E-9D3B-0B2EBF24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4556F-55FB-4D23-AF25-32695C95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02FF7-8692-4F3D-94D6-290FEF1F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C1C9F-2CEB-45BD-BBA5-4074F870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8CBBE-37EA-4014-B268-02C7A825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E409B-0064-4C0D-BF17-CE0CD64C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5C8A8-55D6-4EAF-BCE7-8BC42904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166A3-31E5-4BB0-BE9F-C42E6C616D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CEDA96-2401-4DA4-8D2B-7C0BF4A1BE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3EB747-DD4C-45C3-88E6-04E5478D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EF5C42-F91A-4C9A-AF46-09EAFDCE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CBEF-3F72-489A-9542-14AF3C7FD4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6637-4710-4F77-AA44-3C85580ECC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5D94-A04C-4CBB-BA71-B7514FF714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79B6-BDFC-42EB-A396-C486FD944A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0C11-0FC7-4CD9-AC14-3235B93A4A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D731-6CF2-4EB5-80D5-E6B503C035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8BDE-1B24-429B-8A12-1599A1C1ED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0AEA-3A91-413E-B8BB-EC9C2CA558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3FCB-C38A-4ABD-9B5C-B87ADAB62B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A61F-38A4-405A-B4AC-53B8654338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6755-63EB-46EE-9E6C-490D6B0D95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arcos Legales y Polític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2560320" y="49417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Michael McCall y Janik Gran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: M05U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strumentos de Polític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instrumentos comunicativos educan a las person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instrumentos de incentivo persuaden a las person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instrumentos regulatorios controlan a las person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Derechos y Titulación con respecto a la Tierra y los Recurs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 objetivo común de los SIGP es mapear los reclamos a la tierra y los recurs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ontrol sobre la tierra y los recursos tiene muchas funcione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cces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tir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Gest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xclus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najenac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Derechos y Titulación con respecto a la Tierra y los Recurs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 factor clave es la política y legislación con respecto a la tenencia de tierras y recurso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opiedad privad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opiedad comunal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opiedad del Estad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cceso abiert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250920" y="1989000"/>
          <a:ext cx="8605800" cy="4640400"/>
        </p:xfrm>
        <a:graphic>
          <a:graphicData uri="http://schemas.openxmlformats.org/drawingml/2006/table">
            <a:tbl>
              <a:tblPr/>
              <a:tblGrid>
                <a:gridCol w="3887640"/>
                <a:gridCol w="4718160"/>
              </a:tblGrid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Sistema de tenencia de la tierra consuetudinario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Por ejemplo, Australia Aborig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enencia de la tierra orientada al 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Por ejemplo, sistema catastral australi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>
                        <a:alpha val="50000"/>
                      </a:srgbClr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Conexión física espiritual con la tierra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ierra como una mercancía comercializable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Propiedad comunal; manej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Propiedad exclusiva; tierra registrada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ransferencia de la tierra mediante herencia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ransferencia de la tierra mediante venta, arrendamiento, herencia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Evidencia de tenencia a través de canciones, danzas, historias, imágenes, ceremonia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Registros escritos mediante Certificado de Título.  Almacenamiento de largo plazo en bases de dato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os límites son “límites de influencia”, topografía, espacios sagrado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os límites son geodésicos, demarcados por monumentos; regulación del Estad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Superposición de derechos y responsabilidades; negociación con pueblos vecino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Derechos sobre tierras vecinas restringidos y controlados por el Estad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ímites blandos; límites flexibles temporales/estacional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ímites duros; mayormente límites fijo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Significados ricos – holístico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os SIG no pueden manejarlos; quizás los SIGP puedan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Significados preciso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os SIG manejan los sistemas catastrales bien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Rectangle 35"/>
          <p:cNvSpPr/>
          <p:nvPr/>
        </p:nvSpPr>
        <p:spPr>
          <a:xfrm>
            <a:off x="-468360" y="0"/>
            <a:ext cx="92883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Tenencia de la Tierra: </a:t>
            </a:r>
            <a:br>
              <a:rPr sz="4000"/>
            </a:b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Propiedad Comunal versus Propiedad Priv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Derechos y Titulación con respecto a la Tierra y los Recurs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mapeo participativo es el mapeo de actividades por los pueblos local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relación de las personas con la tierra y los recursos de la tierra es un factor clav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Derechos y Titulación con respecto a la Tierra y los Recurs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¿Es la titulación con respecto a la tierra y los recursos apoyada por la legislación y los tribunales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¿Están respaldados por la agencias de aplicación de la ley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Situación de los Pueblos Indígenas y Loc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s comunidades locales e indígenas a menudo hacen reclamos mediante las leyes consuetudinarias más que mediante las leyes modern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n factor habilitante o inhabilitante significativo es la situación legal de los pueblos indígenas y otras comunidades local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¿Son reconocidos como una comunidad distinta?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conocimiento del Mapeo Comunitari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autoridades y quienes toman decisiones externos deben reconocer la validez y la legitimidad de los mapas elaborados por los pueblos local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mapas elaborados por las comunidades pueden incluir conceptualizaciones abstract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conocimiento del Mapeo </a:t>
            </a:r>
            <a:br>
              <a:rPr sz="4400"/>
            </a:b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munitari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autoridades deberían aceptar la información territorial visible; por ejemplo, nombres, topónimos, límites, superficie y sistemas de gest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autoridades deberían aceptar alternativas al relevamiento estándar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Ejemplos de Mapeo Comunitario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jemplos ilustran los beneficios de pasar del croquis geográfico a la adopción de SIG con el fin de practicar SIGP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SIG proporcionan la precisión requerida para procedimientos judiciale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l gobierno no reconocerá a nadie sin un mapa …”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s probable que un mapa mejore el entendimiento de un tribunal…”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troducc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onvenciones y políticas internacional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strumentos de polític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Derechos y titulación con respecto a la tierra y los recurs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Situación de los pueblos indígenas y local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conocimiento del mapeo comunitari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jemplos de mapeo comunitari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ta Unidad se centra en factores “externos” de macroescala que afectan el inicio, implementación y seguimiento de procesos que involucran mapeo participativ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venciones y Políticas Internacion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convenciones internacionales podrían afectar la legislación naciona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comunidades locales pueden ser capaces de invocarl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marcos y compromisos internacionales son significativos por una serie de razon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venciones y Políticas Internacion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onvenciones de las Naciones Unidas sobre pueblos indígenas y derechos de propiedad intelectual, incluyendo conocimiento indígen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olíticas de donadores bilaterales y multilaterales, que pueden ser significativas en un país específic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venciones y Políticas Internacion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 legislación internacional que apoya el mapeo participativo puede abordar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Respeto por la propiedad comunal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Respeto por los derechos políticos de los pueblos indígenas, desaventajados y marginados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Formación de redes intercomunitarias internacionales para apoy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Oportunidades de apelar a autoridades internacionales externa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strumentos de Polític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instrumentos de política son los mecanismos económicos, sociales o políticas utilizados para influenciar a un grupo objetiv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strumentos de Polític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olíticas se refieren a las preguntas relacionadas con el “porqué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instrumentos de política se refieren a las preguntas relacionadas con el “qué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implementación de los instrumentos de política se refieren a las preguntas relacionadas con el “cómo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strumentos de Polític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uatro características clave influencian los instrumentos de política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ctores clav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Metas y objetivos de los actores clav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formac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oder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8:10:19Z</dcterms:created>
  <dc:creator> Michael McCall, Janik Granados</dc:creator>
  <dc:description/>
  <cp:keywords>pgis training kit</cp:keywords>
  <dc:language>en-US</dc:language>
  <cp:lastModifiedBy>Valeria</cp:lastModifiedBy>
  <dcterms:modified xsi:type="dcterms:W3CDTF">2010-09-12T16:31:08Z</dcterms:modified>
  <cp:revision>258</cp:revision>
  <dc:subject>Module05 - Enabling and Disabling Environments </dc:subject>
  <dc:title>Presentacion - Marcos Legales y Polític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