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3FA1-2315-45D3-90D0-951F6EE30A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5214-F32B-471E-B8B3-598289706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entregar esta presentación, estudiar el Material Informativo para el Participante:  Factores Sociales, Económicos, Culturales e Institucionales a Nivel Local y Comunitar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D66B-6F17-4CD1-B339-A772D5CC26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0600-768B-4B91-A557-2A3E77BAA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7EAA-37ED-407D-A857-EF9FEC6A5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68E7B-AA3E-4BB5-8BB2-A44C5A26CEE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342D-F282-4DA3-828E-D5659DA10B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345D-8E64-4F89-95F0-C25C0A842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jercicio No. 4: Mapeo por géner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6C17-5ABD-4268-ABE7-D5F2CFA9EA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2ECF-15F8-411C-87A1-DB426B135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F04D-16DE-43B2-8F9B-9F39A22BC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4D46-E896-4655-9A42-F3F890756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rcicio No. 1: Identificación de tipos de limitaciones en actividades comunitari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496D-183F-443D-879B-DE965549A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B9EE-BD5A-4197-80AB-C9C57A51E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083B-662E-48EA-AB62-CB0110A57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DAFA-ABD2-4DB4-9572-E99603527D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rcicio No. 2: Actitudes hacia el conocimiento territorial local e indíge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48AE-726C-4410-929E-889ACE4CC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3B5B-026E-4771-960E-63AC43E60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BD9-5F09-4BA8-B350-9E5EC1E9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370-BFEA-400D-9B54-E1F0CAFB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9A78C-0B62-4288-A1C8-8AF58704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72090-E20B-49AD-AAC3-00693670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1B65B-76AB-479C-8450-6B2FFFCE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07AF0-0636-4C30-99EC-D45A3BEA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22623-3F99-4CDD-9F1B-968B3BE7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AAE0A-A8B5-449C-8F69-D1D27CFD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51A0E-261D-4EEA-BEB0-1F79A5F9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94909-12B4-4310-8CD6-3765FC7F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DCDF6-FADF-4978-A074-5FFB36798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AF3-8F7A-4582-AF14-9DFAC53D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AA6-D78A-4FCA-8BBE-88717B83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0EE87-7EF4-4522-B2C4-95BF70E8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888C8-E695-4E35-885F-A58DF79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B250C-B3AE-48A2-B5B9-CE28A1A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A4D85-5074-411A-B1C5-526F2D48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AB579-C5D1-467D-86CE-EBB0FAAB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09EF0-E740-49F8-AA00-1503E19C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F4302-BD86-4552-9827-0A6004D4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31F-93EF-437F-B569-8C71B8C9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281F0-FDD9-4B7F-8E9B-F61EB15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1AC26-BEBB-46C5-BFC0-2AD1C5AF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95E99-9B94-4064-AB25-0F74E879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EC1E3-5C94-489B-9285-E579467B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53692-70A0-4186-A5F6-3624A4D7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D4123-AB1D-42D4-A189-71F2B7325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352C0-2E03-4977-A733-BBD8A1C8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E8A58-C20C-4B89-8946-1064EE00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B93AD-CD95-4F10-B23D-03C4079A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459A9-0D2F-46E3-84B5-7539DC8F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0E2-7A26-4882-BEBC-74D177C5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7A404-DC36-4BC5-AFC1-94BCC05F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E8403-B251-470D-817A-01AC6EA9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6AA34-00D8-4C01-87B8-EAFAF363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90E72-F713-44AF-A32B-8CB3964E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DD835-0348-473D-A2DA-673DC81C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7BD60-BAF3-4E57-B129-ACF9559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C0EEE-E8DD-4ACF-8173-45B05F8771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011AC-A345-46F7-909A-23CEF3984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ADDFA-1355-4B67-860C-7835853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D4F40-7D2F-47BD-AC03-B96A3341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838-5BF1-49F8-A04B-23D8ABA2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14372-A3A6-4D55-9934-8DA3991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B6EEA-E0DD-4F04-9FF2-FC203C6C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DC169-9316-41E7-8273-2EDCA2CD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1C6EA-A7A1-41DE-BD49-144F195C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B8DC7-EDB7-46D8-BF7C-76C7614D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FCE2C-7EA6-4DE6-B367-FAC5A9B2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DBA3F-0A58-4AC5-B06A-F0E28C8E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1CE7D-DBEB-45B7-9448-E9846B33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82978-CBA1-482A-B66C-E63EB7935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3AEE-BFD6-40EC-9EC2-DC8B40CF2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E4E-5E33-47E0-94F0-B4E3E43A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F83D-624D-43CB-A0A0-174BB521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B189-A6E1-4705-8999-D55FB45A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0214-CAFD-4836-9B6E-F33EA4BC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88B9-B007-479A-A4A3-E02D365C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4F82-4ED1-4158-B34D-45D17BFC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F0B7-B6B6-432D-8E67-51B9FB28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75185-D32E-4987-9D80-F4EADD8E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682B-1B9A-4DCA-97EE-26D0EB2C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3EEE-7255-425E-BBFC-26D6A897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3BAEB-A458-4F3D-BBC0-8867B94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2A1-2594-40E4-925E-A3F15C7A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9BC8D-1908-43B3-A9A9-03E0C8EDB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610A1-B349-4A41-A7BB-3AA48B3A2E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9C9E2-3938-465F-B585-0FF40130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58E86-E935-4B69-9C9D-5B47BA9D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5C685-7E71-48FE-A5F4-3693532A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B2FBC-C5D8-4D36-A013-F3690309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6B794-30BF-4C1D-A52F-C3A6F4B5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AB624-31F1-4573-A873-D26C010F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E3404-4120-4905-9CAC-563C973C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89A89-071C-48E7-9F17-F2F852A0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700-AB1E-4F81-8F88-9AC641F9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62932-921B-4C6D-BD32-DCF5104C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85A3E-7CA7-4718-904E-E5615BA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556E9-9076-4DC8-90FD-5CAEF8F32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FA23FA-46F6-4C0B-B039-773569FAB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97845F-741C-4B72-8C70-D81D47D0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08C07F-6C77-4E84-870C-0BCBC9EF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3E852D-8478-4D19-969E-4722B47F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986C9E-2B82-4B32-A15C-D718141A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F8F0E-C1A5-4CCD-94E3-87FAE0AE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9FF145-B329-44DA-89B4-0A4E3DD2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4E5-43BF-4865-B4F9-20FA23C1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1A6D56-1169-4A53-BD5C-49213A09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895CE4-744D-422D-9613-C2F2916C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ACA73-B6D8-45DE-A9F1-3642ED79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63CB5B-5A07-49B8-833E-FC6A9F4F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A0B53E-E384-4B2C-884F-4CAF335D84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7D24-29A7-4612-B542-85AA4CC9B9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C9B40-04D9-4CAC-9C9C-623603AB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22AEA-3037-4FFC-9D0A-FC21A1E7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FC907-66CF-438F-AD0F-90BE88F9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86664-23B0-4436-9712-EBC13A8A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C04-7A4A-45DE-93E6-FCDC67E9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D8525-C16A-4F80-8352-B5712CB6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76CBA-60C1-4144-8869-3A82FAF7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75F9-7857-4666-BD0C-F1AE18E9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09D5-5368-4BB1-A2EE-09A19411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3CE9E-18A4-4A48-85E5-D3D69E31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FC586-D79D-4C68-A0A3-9EA28B3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B5E08-0915-4504-9186-246DB00BEA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32002-DE7B-4BB8-97E6-2157CA10F5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ABD72-F596-4EEE-BBB6-43727D37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4C762-9D3A-49C0-B25D-B22ADFA3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1CC3-EECF-47B8-ACB9-5D5B056729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C0DE-9956-4872-BA7C-F613BCBDD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87D0-EA68-451C-8816-9389CF36C1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27B1-C033-40DE-979B-D5DCB7D5E5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AC0E-CA75-4667-9E12-49823FF8C6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D414-083F-447C-A41A-0C36D79CA7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6D90-776E-445E-8AD4-42843770E1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EAE7-D581-4CF4-9094-918FBC026D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22C1-7590-44EE-902B-096BB272A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Sociales, Económicos, Culturales e Institucionales a Nivel Local y 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631600" y="51577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Michael McCall y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obernanz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nceptos de gobernanza son pertinentes en la evaluación del potencial de las comunidad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sponsabilidad de los gobernantes frente a los gobernad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egitimidad de los gobernantes sobre los gobernad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mpetencia de los gobernant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técnicos y financier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Tiene la comunidad la capacidad de gestionar y mantener un SI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manejabilidad tiene una serie de factor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Viabilidad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cilidad de us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fectividad en función de los cost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ecesidad de actualizar datos regularment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clusió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c3300"/>
                </a:solidFill>
                <a:latin typeface="Arial"/>
              </a:rPr>
              <a:t>Factores culturales y sociales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culturales y sociales inhabilitan o habilitan procesos comunitarios. ¿Quié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termina el objetivo del mapeo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cide sobre las prioridades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elecciona la información a ser incluida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rabaja en el proceso de mapeo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presenta a la comunidad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tá involucrado en el uso de los mapas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piedad significa una variedad de condiciones: propiedad legal, usufructo, uso compartido, propiedad común, vínculos espiritu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participativo está íntimamente ligado a las posiciones oficiales (legales) y no oficiales (socioculturales) sobre derechos y titulación con respecto a la tierra y a los recurs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posición legal-legislativa de las personas que están dedicadas a la práctica de SIGP, especialment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tuación nacional e internacional de los pueblos indígena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sición nacional de las mujeres y los niñ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as por género y de niñ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cceso de las mujeres a la planificación territorial participativa es importante en la práctica de SIGP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mujeres tienen conocimiento local técnico y de gestión especializad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y muchas experiencias positivas de la capacitación de niños para trabajar con mapeo participativ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Cómo contrarrestar factores negativ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portunidades para superar factores inhabilitant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a los miembros influyentes de la comunidad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xplorar y asignar valor a las extraordinarias fortalezas y funcionalidades de los SIGP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Cómo contrarrestar factores negativ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Por qué son especiales los SIGP? Los SIGP: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Obtienen, representan y validan CTL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Integran el CTL con el conocimiento externo; 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Proporcionan información con especificidad territorial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Funcionan con imágenes visuales – “narrativas territoriales”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Involucran a múltiples fuentes y procesos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Mejoran las capacidades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Legitiman el conocimiento endógeno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01680"/>
            <a:ext cx="84358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ocimiento territorial local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ursos comunitari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obernanz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ctores técnicos y financier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ctores culturales y socia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rechos y titulación con respecto a la tierr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apas por género y de niñ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ómo contrarrestar factores negativ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y situaciones locales pueden afectar el mapeo participativ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pueden ser habilitantes o inhabilit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 Unidad categoriza los tipos de factores habilitantes e inhabilitantes, explora su relativa significación y analiza la viabilidad de abordar los factores inhabilit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ocimiento territorial local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componente central en el mapeo comunitario es el conocimiento territorial local (CTL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 un recurso vit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principio básico de los SIGP es que valora el CTL como válido, confiable, preciso y complementario del conocimiento científico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ocimiento territorial local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 local – hay una relación próxima y duradera entre las personas y los recursos de la tierr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 propiedad de la comunidad loc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lasificación en CTL se basa más en funcionalidad y objetivo que en conocimiento “científico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 holístico y de naturaleza combinatori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ocimiento territorial local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ocimiento “técnico” local específico es similar al conocimiento “científico” comú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ocimiento local que representa puntos de vista de los actores locales es diferente al punto de vista “oficial” domina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ocimiento territorial espiritual o místico está más restringido a personas en particula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ocimiento territorial local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tá distribuido y transmitido en forma desigu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cambia en virtud de cambios en el clima, los ecosistemas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puede no ser registrad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puede ser privilegiado y controlado dentro de sociedades rural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ursos comunitari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estructuras, recursos y fortalezas internas de las comunidades varían enormemen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siguientes preguntas pueden ser usadas para evaluar la eficiencia y efectividad de las personas y las instituciones en una comunida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ursos comunitari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Es la comunidad una organización de aprendizaje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Tiene la comunidad un objetivo común y cohesión?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Cuáles son las políticas y prácticas destinadas a la inclusión de los miembros periféricos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Qué evidencia hay de transparencia y confianza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Cuáles son las capacidades de personas clave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 and Janik Granados</dc:creator>
  <dc:description/>
  <cp:keywords>pgis training kit</cp:keywords>
  <dc:language>en-US</dc:language>
  <cp:lastModifiedBy>martens</cp:lastModifiedBy>
  <dcterms:modified xsi:type="dcterms:W3CDTF">2010-09-16T10:39:18Z</dcterms:modified>
  <cp:revision>280</cp:revision>
  <dc:subject>M05 - Enabling and Disabling Environments </dc:subject>
  <dc:title>Presentacion - Factores Sociales, Económicos, Culturales e Institucionales a Nivel Local y Comunitari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