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7f7f7f"/>
                </a:solidFill>
                <a:latin typeface="Times New Roman"/>
              </a:rPr>
              <a:t>Apoyo a la difusión de buenas prácticas en la generación, la gestión, el análisis y la comunicación de información territor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BC6D-5714-43BF-8222-E16A0425E6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2E15-52BD-48E7-85B0-50D7AE1D5B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Nota para el presentador: Antes de entregar esta presentación, leer el Material Informativo para el Participante: “Planificación de la Acción en Respuesta a Factores Habilitantes e Inhabilitantes”, leer el Ejemplo (material informativo) y familiarizarse con el Ejercicio No. 1: Análisis FODA. 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1302-01EB-4095-9699-AC318600BD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BD9B-3063-46D4-9FF8-7BA1CD5A5F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FODA = fortalezas, oportunidades, debilidades, amenaz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9949-CA1D-47BA-A775-E8E08DE5D6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E2BE-00E6-4E4E-8EEF-3E86523931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25D3-1B1F-41FB-95CC-A1361AFF60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2931-3A64-4CAF-A843-11DDE3D4C0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DA12-0E3B-4962-9C81-D66E8DBC1A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A46C-3E26-4E21-A8FC-5B3742DDFF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3E5EC-2F9F-4847-B64F-9F7051C3F5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35909-4F95-4D7F-A7EC-1F3E71B4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B0FAE-51B8-4C20-9993-AE3F6532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282ED-7FFB-42D8-ADFC-684A5CA47F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69446-49F4-4EBA-BC6D-C6AE1C0B41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BBE49-26BB-4541-8FC3-67DA07BD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EAA4C-4734-4AB4-9A89-A1275F70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F004A2-BCF1-4DB4-9B39-35A992D4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55F9FE-0ECA-4423-9337-EEBE1A1D2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BDF11-69EB-47CC-A5C1-DF316D330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C57623-6E42-4901-9FA4-42173EE5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C9097-F45B-4A86-907A-0E05FFED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7B997-7EC5-4C8F-AE02-73908E22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E94540-3775-42AD-9DF0-D8B0B96C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3F42BE-D62D-4C0A-98AB-C0113FB1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32D73C-BE55-4DFF-B09D-43919BDF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FBC51-CF67-4C6F-AAAB-F01A7EAD45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F82A0-7F26-4B32-BFF8-82994638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9D9AF-EE4B-471F-B44C-FB62CFDA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2862C-A9A2-40EA-86C4-0EE04EB96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EA858-D9E0-4100-B8E0-9271262FB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C71FC-ABB7-44C4-86EB-94459228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0AFC3-415C-4C2D-BD5E-55D79CD7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4A6BD-A79E-4416-8848-B9336B0A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24FC-0451-4F89-B8A7-16CD7C0B5A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6600"/>
                </a:solidFill>
                <a:latin typeface="Arial"/>
              </a:rPr>
              <a:t>Apoyo a la difusión de buenas prácticas en la generación, la gestión, el análisis y la comunicación de información terri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c_license_by-nc-sa"/>
          <p:cNvPicPr/>
          <p:nvPr/>
        </p:nvPicPr>
        <p:blipFill>
          <a:blip r:embed="rId2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3C34-A81B-4A72-B439-E0CFF742C0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Planificación de la Acción en Respuesta a Factores Habilitantes e Inhabilitant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414880" y="5013360"/>
            <a:ext cx="40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969696"/>
                </a:solidFill>
                <a:latin typeface="Arial"/>
              </a:rPr>
              <a:t>Por: Giacomo Rambaldi y M.K. Mc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5f5f5f"/>
                </a:solidFill>
                <a:latin typeface="Arial"/>
              </a:rPr>
              <a:t>Unidad: M05U0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cc_license_by-nc-sa"/>
          <p:cNvPicPr/>
          <p:nvPr/>
        </p:nvPicPr>
        <p:blipFill>
          <a:blip r:embed="rId1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Contenido</a:t>
            </a: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Introducció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lanificación de la acción con análisis FODA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Análisis FODA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3538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sta Unidad presenta el análisis FODA y su uso en la identificación y evaluación de fortalezas, oportunidades, debilidades y amenazas dentro del contexto de una intervención, con un componente de SIG participativo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53880" indent="-3538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FODA es útil para la planificación de la acción en respuesta a la identificación y análisis de factores habilitantes e inhabilitante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Planificación de la Acción con Análisis FOD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3538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l análisis FODA es un método para evaluar factores habilitantes e inhabilitante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53880" indent="-3538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La implementación de iniciativas de mapeo requiere la identificación y evaluación de factores habilitantes e inhabilitante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53880" indent="-3538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Algunos factores pueden ser “factores aniquiladores”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53880" indent="-3538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Los implementadores deberían desarrollar los factores positivos y abordar los factores negativo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5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Análisis FODA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Rectangle 1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6"/>
          <p:cNvGrpSpPr/>
          <p:nvPr/>
        </p:nvGrpSpPr>
        <p:grpSpPr>
          <a:xfrm>
            <a:off x="1403280" y="1413000"/>
            <a:ext cx="5319720" cy="4819680"/>
            <a:chOff x="1403280" y="1413000"/>
            <a:chExt cx="5319720" cy="4819680"/>
          </a:xfrm>
        </p:grpSpPr>
        <p:sp>
          <p:nvSpPr>
            <p:cNvPr id="102" name="Rectangle 15"/>
            <p:cNvSpPr/>
            <p:nvPr/>
          </p:nvSpPr>
          <p:spPr>
            <a:xfrm>
              <a:off x="2435760" y="1965240"/>
              <a:ext cx="2143440" cy="2133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e3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F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7"/>
            <p:cNvGrpSpPr/>
            <p:nvPr/>
          </p:nvGrpSpPr>
          <p:grpSpPr>
            <a:xfrm>
              <a:off x="1403280" y="1413000"/>
              <a:ext cx="5319720" cy="4819680"/>
              <a:chOff x="1403280" y="1413000"/>
              <a:chExt cx="5319720" cy="4819680"/>
            </a:xfrm>
          </p:grpSpPr>
          <p:sp>
            <p:nvSpPr>
              <p:cNvPr id="104" name="Rectangle 14"/>
              <p:cNvSpPr/>
              <p:nvPr/>
            </p:nvSpPr>
            <p:spPr>
              <a:xfrm>
                <a:off x="4579560" y="4098960"/>
                <a:ext cx="2143440" cy="21337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e36c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20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A</a:t>
                </a:r>
                <a:endParaRPr b="0" lang="en-US" sz="1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3"/>
              <p:cNvSpPr/>
              <p:nvPr/>
            </p:nvSpPr>
            <p:spPr>
              <a:xfrm>
                <a:off x="4579560" y="1965240"/>
                <a:ext cx="2143440" cy="21333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e36c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20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D</a:t>
                </a:r>
                <a:endParaRPr b="0" lang="en-US" sz="1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12"/>
              <p:cNvSpPr/>
              <p:nvPr/>
            </p:nvSpPr>
            <p:spPr>
              <a:xfrm>
                <a:off x="2435760" y="4098960"/>
                <a:ext cx="2143440" cy="21337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e36c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20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O</a:t>
                </a:r>
                <a:endParaRPr b="0" lang="en-US" sz="1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11"/>
              <p:cNvSpPr/>
              <p:nvPr/>
            </p:nvSpPr>
            <p:spPr>
              <a:xfrm>
                <a:off x="2435760" y="1413000"/>
                <a:ext cx="2143440" cy="552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e36c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4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Útiles para alcanzar el objetiv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0"/>
              <p:cNvSpPr/>
              <p:nvPr/>
            </p:nvSpPr>
            <p:spPr>
              <a:xfrm>
                <a:off x="4579560" y="1413000"/>
                <a:ext cx="2143440" cy="552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e36c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4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Adversos para alcanzar el objetiv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9"/>
              <p:cNvSpPr/>
              <p:nvPr/>
            </p:nvSpPr>
            <p:spPr>
              <a:xfrm>
                <a:off x="1403280" y="1965240"/>
                <a:ext cx="1032480" cy="21333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e36c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6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Factores intern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1403280" y="4098960"/>
                <a:ext cx="1032480" cy="21337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e36c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6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Factores extern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Rectangle 25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Análisis FODA</a:t>
            </a:r>
            <a:r>
              <a:rPr b="0" lang="de-DE" sz="4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Rounded Rectangle 10"/>
          <p:cNvSpPr/>
          <p:nvPr/>
        </p:nvSpPr>
        <p:spPr>
          <a:xfrm>
            <a:off x="3857760" y="3714840"/>
            <a:ext cx="1928520" cy="71424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68"/>
          <p:cNvGrpSpPr/>
          <p:nvPr/>
        </p:nvGrpSpPr>
        <p:grpSpPr>
          <a:xfrm>
            <a:off x="1835280" y="1413000"/>
            <a:ext cx="5113080" cy="5043240"/>
            <a:chOff x="1835280" y="1413000"/>
            <a:chExt cx="5113080" cy="5043240"/>
          </a:xfrm>
        </p:grpSpPr>
        <p:sp>
          <p:nvSpPr>
            <p:cNvPr id="115" name="AutoShape 69"/>
            <p:cNvSpPr/>
            <p:nvPr/>
          </p:nvSpPr>
          <p:spPr>
            <a:xfrm>
              <a:off x="1835280" y="1413000"/>
              <a:ext cx="5113080" cy="50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70"/>
            <p:cNvSpPr/>
            <p:nvPr/>
          </p:nvSpPr>
          <p:spPr>
            <a:xfrm>
              <a:off x="1836720" y="1413000"/>
              <a:ext cx="3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71"/>
            <p:cNvGrpSpPr/>
            <p:nvPr/>
          </p:nvGrpSpPr>
          <p:grpSpPr>
            <a:xfrm>
              <a:off x="2470320" y="1999080"/>
              <a:ext cx="2233440" cy="2222640"/>
              <a:chOff x="2470320" y="1999080"/>
              <a:chExt cx="2233440" cy="2222640"/>
            </a:xfrm>
          </p:grpSpPr>
          <p:sp>
            <p:nvSpPr>
              <p:cNvPr id="118" name="Rectangle 72"/>
              <p:cNvSpPr/>
              <p:nvPr/>
            </p:nvSpPr>
            <p:spPr>
              <a:xfrm>
                <a:off x="2470320" y="1999080"/>
                <a:ext cx="2233440" cy="222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73"/>
              <p:cNvSpPr/>
              <p:nvPr/>
            </p:nvSpPr>
            <p:spPr>
              <a:xfrm>
                <a:off x="2470320" y="1999080"/>
                <a:ext cx="2233440" cy="2222640"/>
              </a:xfrm>
              <a:prstGeom prst="rect">
                <a:avLst/>
              </a:prstGeom>
              <a:noFill/>
              <a:ln cap="rnd" w="17640">
                <a:solidFill>
                  <a:srgbClr val="e36c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Rectangle 74"/>
            <p:cNvSpPr/>
            <p:nvPr/>
          </p:nvSpPr>
          <p:spPr>
            <a:xfrm>
              <a:off x="2998800" y="2496240"/>
              <a:ext cx="26280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e36c0a"/>
                  </a:solidFill>
                  <a:latin typeface="Calibri"/>
                </a:rPr>
                <a:t>F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75"/>
            <p:cNvSpPr/>
            <p:nvPr/>
          </p:nvSpPr>
          <p:spPr>
            <a:xfrm>
              <a:off x="3284640" y="2849400"/>
              <a:ext cx="887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</a:rPr>
                <a:t>ortaleza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76"/>
            <p:cNvSpPr/>
            <p:nvPr/>
          </p:nvSpPr>
          <p:spPr>
            <a:xfrm>
              <a:off x="4194720" y="2849760"/>
              <a:ext cx="55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77"/>
            <p:cNvSpPr/>
            <p:nvPr/>
          </p:nvSpPr>
          <p:spPr>
            <a:xfrm>
              <a:off x="3071880" y="3387600"/>
              <a:ext cx="951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Atributos úti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78"/>
            <p:cNvSpPr/>
            <p:nvPr/>
          </p:nvSpPr>
          <p:spPr>
            <a:xfrm>
              <a:off x="4103280" y="3387600"/>
              <a:ext cx="3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36c0a"/>
                  </a:solidFill>
                  <a:latin typeface="Calibri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79"/>
            <p:cNvGrpSpPr/>
            <p:nvPr/>
          </p:nvGrpSpPr>
          <p:grpSpPr>
            <a:xfrm>
              <a:off x="4703760" y="4222080"/>
              <a:ext cx="2232360" cy="2221920"/>
              <a:chOff x="4703760" y="4222080"/>
              <a:chExt cx="2232360" cy="2221920"/>
            </a:xfrm>
          </p:grpSpPr>
          <p:sp>
            <p:nvSpPr>
              <p:cNvPr id="126" name="Rectangle 80"/>
              <p:cNvSpPr/>
              <p:nvPr/>
            </p:nvSpPr>
            <p:spPr>
              <a:xfrm>
                <a:off x="4703760" y="4222080"/>
                <a:ext cx="2232360" cy="222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81"/>
              <p:cNvSpPr/>
              <p:nvPr/>
            </p:nvSpPr>
            <p:spPr>
              <a:xfrm>
                <a:off x="4703760" y="4222080"/>
                <a:ext cx="2232360" cy="2221920"/>
              </a:xfrm>
              <a:prstGeom prst="rect">
                <a:avLst/>
              </a:prstGeom>
              <a:noFill/>
              <a:ln cap="rnd" w="17640">
                <a:solidFill>
                  <a:srgbClr val="e36c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Rectangle 82"/>
            <p:cNvSpPr/>
            <p:nvPr/>
          </p:nvSpPr>
          <p:spPr>
            <a:xfrm>
              <a:off x="5145120" y="4468320"/>
              <a:ext cx="51336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e36c0a"/>
                  </a:solidFill>
                  <a:latin typeface="Calibri"/>
                </a:rPr>
                <a:t>A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83"/>
            <p:cNvSpPr/>
            <p:nvPr/>
          </p:nvSpPr>
          <p:spPr>
            <a:xfrm>
              <a:off x="5638680" y="4837320"/>
              <a:ext cx="860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</a:rPr>
                <a:t>menaza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84"/>
            <p:cNvSpPr/>
            <p:nvPr/>
          </p:nvSpPr>
          <p:spPr>
            <a:xfrm>
              <a:off x="6321240" y="4836600"/>
              <a:ext cx="55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85"/>
            <p:cNvSpPr/>
            <p:nvPr/>
          </p:nvSpPr>
          <p:spPr>
            <a:xfrm>
              <a:off x="5181120" y="5506920"/>
              <a:ext cx="1415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Condiciones peligros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86"/>
            <p:cNvSpPr/>
            <p:nvPr/>
          </p:nvSpPr>
          <p:spPr>
            <a:xfrm>
              <a:off x="5811120" y="5506920"/>
              <a:ext cx="3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87"/>
            <p:cNvSpPr/>
            <p:nvPr/>
          </p:nvSpPr>
          <p:spPr>
            <a:xfrm>
              <a:off x="5841720" y="5506920"/>
              <a:ext cx="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88"/>
            <p:cNvSpPr/>
            <p:nvPr/>
          </p:nvSpPr>
          <p:spPr>
            <a:xfrm>
              <a:off x="6461280" y="5393880"/>
              <a:ext cx="55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89"/>
            <p:cNvSpPr/>
            <p:nvPr/>
          </p:nvSpPr>
          <p:spPr>
            <a:xfrm>
              <a:off x="4810320" y="5846760"/>
              <a:ext cx="3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90"/>
            <p:cNvGrpSpPr/>
            <p:nvPr/>
          </p:nvGrpSpPr>
          <p:grpSpPr>
            <a:xfrm>
              <a:off x="4703760" y="1999080"/>
              <a:ext cx="2232360" cy="2222640"/>
              <a:chOff x="4703760" y="1999080"/>
              <a:chExt cx="2232360" cy="2222640"/>
            </a:xfrm>
          </p:grpSpPr>
          <p:sp>
            <p:nvSpPr>
              <p:cNvPr id="137" name="Rectangle 91"/>
              <p:cNvSpPr/>
              <p:nvPr/>
            </p:nvSpPr>
            <p:spPr>
              <a:xfrm>
                <a:off x="4703760" y="1999080"/>
                <a:ext cx="2232360" cy="222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92"/>
              <p:cNvSpPr/>
              <p:nvPr/>
            </p:nvSpPr>
            <p:spPr>
              <a:xfrm>
                <a:off x="4703760" y="1999080"/>
                <a:ext cx="2232360" cy="2222640"/>
              </a:xfrm>
              <a:prstGeom prst="rect">
                <a:avLst/>
              </a:prstGeom>
              <a:noFill/>
              <a:ln cap="rnd" w="17640">
                <a:solidFill>
                  <a:srgbClr val="e36c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Rectangle 93"/>
            <p:cNvSpPr/>
            <p:nvPr/>
          </p:nvSpPr>
          <p:spPr>
            <a:xfrm>
              <a:off x="5008320" y="2428920"/>
              <a:ext cx="36036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e36c0a"/>
                  </a:solidFill>
                  <a:latin typeface="Calibri"/>
                </a:rPr>
                <a:t>D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94"/>
            <p:cNvSpPr/>
            <p:nvPr/>
          </p:nvSpPr>
          <p:spPr>
            <a:xfrm>
              <a:off x="5400000" y="2813040"/>
              <a:ext cx="995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</a:rPr>
                <a:t>ebilidade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95"/>
            <p:cNvSpPr/>
            <p:nvPr/>
          </p:nvSpPr>
          <p:spPr>
            <a:xfrm>
              <a:off x="6657120" y="2782800"/>
              <a:ext cx="55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96"/>
            <p:cNvSpPr/>
            <p:nvPr/>
          </p:nvSpPr>
          <p:spPr>
            <a:xfrm>
              <a:off x="5278320" y="3452400"/>
              <a:ext cx="116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Atributos advers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97"/>
            <p:cNvSpPr/>
            <p:nvPr/>
          </p:nvSpPr>
          <p:spPr>
            <a:xfrm>
              <a:off x="5749560" y="3452400"/>
              <a:ext cx="3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98"/>
            <p:cNvSpPr/>
            <p:nvPr/>
          </p:nvSpPr>
          <p:spPr>
            <a:xfrm>
              <a:off x="6364440" y="3362760"/>
              <a:ext cx="49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99"/>
            <p:cNvGrpSpPr/>
            <p:nvPr/>
          </p:nvGrpSpPr>
          <p:grpSpPr>
            <a:xfrm>
              <a:off x="2470320" y="4222080"/>
              <a:ext cx="2233440" cy="2221920"/>
              <a:chOff x="2470320" y="4222080"/>
              <a:chExt cx="2233440" cy="2221920"/>
            </a:xfrm>
          </p:grpSpPr>
          <p:sp>
            <p:nvSpPr>
              <p:cNvPr id="146" name="Rectangle 100"/>
              <p:cNvSpPr/>
              <p:nvPr/>
            </p:nvSpPr>
            <p:spPr>
              <a:xfrm>
                <a:off x="2470320" y="4222080"/>
                <a:ext cx="2233440" cy="222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101"/>
              <p:cNvSpPr/>
              <p:nvPr/>
            </p:nvSpPr>
            <p:spPr>
              <a:xfrm>
                <a:off x="2470320" y="4222080"/>
                <a:ext cx="2233440" cy="2221920"/>
              </a:xfrm>
              <a:prstGeom prst="rect">
                <a:avLst/>
              </a:prstGeom>
              <a:noFill/>
              <a:ln cap="rnd" w="17640">
                <a:solidFill>
                  <a:srgbClr val="e36c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Rectangle 102"/>
            <p:cNvSpPr/>
            <p:nvPr/>
          </p:nvSpPr>
          <p:spPr>
            <a:xfrm>
              <a:off x="2733120" y="4483800"/>
              <a:ext cx="38772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e36c0a"/>
                  </a:solidFill>
                  <a:latin typeface="Calibri"/>
                </a:rPr>
                <a:t>O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03"/>
            <p:cNvSpPr/>
            <p:nvPr/>
          </p:nvSpPr>
          <p:spPr>
            <a:xfrm>
              <a:off x="3143160" y="4837320"/>
              <a:ext cx="1309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</a:rPr>
                <a:t>portunidade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04"/>
            <p:cNvSpPr/>
            <p:nvPr/>
          </p:nvSpPr>
          <p:spPr>
            <a:xfrm>
              <a:off x="4464720" y="4836600"/>
              <a:ext cx="55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05"/>
            <p:cNvSpPr/>
            <p:nvPr/>
          </p:nvSpPr>
          <p:spPr>
            <a:xfrm>
              <a:off x="3055680" y="5506920"/>
              <a:ext cx="116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Condiciones útil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06"/>
            <p:cNvSpPr/>
            <p:nvPr/>
          </p:nvSpPr>
          <p:spPr>
            <a:xfrm>
              <a:off x="4130280" y="4739760"/>
              <a:ext cx="192600" cy="10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700" spc="-1" strike="noStrike">
                  <a:solidFill>
                    <a:srgbClr val="e36c0a"/>
                  </a:solidFill>
                  <a:latin typeface="Calibri"/>
                </a:rPr>
                <a:t> </a:t>
              </a:r>
              <a:endParaRPr b="0" lang="en-US" sz="6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07"/>
            <p:cNvSpPr/>
            <p:nvPr/>
          </p:nvSpPr>
          <p:spPr>
            <a:xfrm>
              <a:off x="2577600" y="5846760"/>
              <a:ext cx="3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108"/>
            <p:cNvGrpSpPr/>
            <p:nvPr/>
          </p:nvGrpSpPr>
          <p:grpSpPr>
            <a:xfrm>
              <a:off x="2470320" y="1423440"/>
              <a:ext cx="2233440" cy="575280"/>
              <a:chOff x="2470320" y="1423440"/>
              <a:chExt cx="2233440" cy="575280"/>
            </a:xfrm>
          </p:grpSpPr>
          <p:sp>
            <p:nvSpPr>
              <p:cNvPr id="155" name="Rectangle 109"/>
              <p:cNvSpPr/>
              <p:nvPr/>
            </p:nvSpPr>
            <p:spPr>
              <a:xfrm>
                <a:off x="2470320" y="1423440"/>
                <a:ext cx="2233440" cy="57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110"/>
              <p:cNvSpPr/>
              <p:nvPr/>
            </p:nvSpPr>
            <p:spPr>
              <a:xfrm>
                <a:off x="2470320" y="1423440"/>
                <a:ext cx="2233440" cy="575280"/>
              </a:xfrm>
              <a:prstGeom prst="rect">
                <a:avLst/>
              </a:prstGeom>
              <a:noFill/>
              <a:ln cap="rnd" w="17640">
                <a:solidFill>
                  <a:srgbClr val="e36c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Rectangle 111"/>
            <p:cNvSpPr/>
            <p:nvPr/>
          </p:nvSpPr>
          <p:spPr>
            <a:xfrm>
              <a:off x="2976120" y="1515960"/>
              <a:ext cx="1460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alibri"/>
                </a:rPr>
                <a:t>Factores habilitantes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12"/>
            <p:cNvSpPr/>
            <p:nvPr/>
          </p:nvSpPr>
          <p:spPr>
            <a:xfrm>
              <a:off x="4206600" y="1515240"/>
              <a:ext cx="37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Group 113"/>
            <p:cNvGrpSpPr/>
            <p:nvPr/>
          </p:nvGrpSpPr>
          <p:grpSpPr>
            <a:xfrm>
              <a:off x="4703760" y="1423440"/>
              <a:ext cx="2232360" cy="575280"/>
              <a:chOff x="4703760" y="1423440"/>
              <a:chExt cx="2232360" cy="575280"/>
            </a:xfrm>
          </p:grpSpPr>
          <p:sp>
            <p:nvSpPr>
              <p:cNvPr id="160" name="Rectangle 114"/>
              <p:cNvSpPr/>
              <p:nvPr/>
            </p:nvSpPr>
            <p:spPr>
              <a:xfrm>
                <a:off x="4703760" y="1423440"/>
                <a:ext cx="2232360" cy="57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115"/>
              <p:cNvSpPr/>
              <p:nvPr/>
            </p:nvSpPr>
            <p:spPr>
              <a:xfrm>
                <a:off x="4703760" y="1423440"/>
                <a:ext cx="2232360" cy="575280"/>
              </a:xfrm>
              <a:prstGeom prst="rect">
                <a:avLst/>
              </a:prstGeom>
              <a:noFill/>
              <a:ln cap="rnd" w="17640">
                <a:solidFill>
                  <a:srgbClr val="e36c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Rectangle 116"/>
            <p:cNvSpPr/>
            <p:nvPr/>
          </p:nvSpPr>
          <p:spPr>
            <a:xfrm>
              <a:off x="5187240" y="1515960"/>
              <a:ext cx="1553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alibri"/>
                </a:rPr>
                <a:t>Factores inhabilitant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17"/>
            <p:cNvSpPr/>
            <p:nvPr/>
          </p:nvSpPr>
          <p:spPr>
            <a:xfrm>
              <a:off x="6462000" y="1551960"/>
              <a:ext cx="3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Group 118"/>
            <p:cNvGrpSpPr/>
            <p:nvPr/>
          </p:nvGrpSpPr>
          <p:grpSpPr>
            <a:xfrm>
              <a:off x="1845000" y="1999080"/>
              <a:ext cx="624960" cy="2222640"/>
              <a:chOff x="1845000" y="1999080"/>
              <a:chExt cx="624960" cy="2222640"/>
            </a:xfrm>
          </p:grpSpPr>
          <p:sp>
            <p:nvSpPr>
              <p:cNvPr id="165" name="Rectangle 119"/>
              <p:cNvSpPr/>
              <p:nvPr/>
            </p:nvSpPr>
            <p:spPr>
              <a:xfrm>
                <a:off x="1845000" y="1999080"/>
                <a:ext cx="624960" cy="222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20"/>
              <p:cNvSpPr/>
              <p:nvPr/>
            </p:nvSpPr>
            <p:spPr>
              <a:xfrm>
                <a:off x="1845000" y="1999080"/>
                <a:ext cx="624960" cy="2222640"/>
              </a:xfrm>
              <a:prstGeom prst="rect">
                <a:avLst/>
              </a:prstGeom>
              <a:noFill/>
              <a:ln cap="rnd" w="17640">
                <a:solidFill>
                  <a:srgbClr val="e36c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Rectangle 121"/>
            <p:cNvSpPr/>
            <p:nvPr/>
          </p:nvSpPr>
          <p:spPr>
            <a:xfrm rot="16200000">
              <a:off x="1370520" y="3042360"/>
              <a:ext cx="1369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alibri"/>
                </a:rPr>
                <a:t>Factores interno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22"/>
            <p:cNvSpPr/>
            <p:nvPr/>
          </p:nvSpPr>
          <p:spPr>
            <a:xfrm rot="16200000">
              <a:off x="2030040" y="2315520"/>
              <a:ext cx="43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Group 123"/>
            <p:cNvGrpSpPr/>
            <p:nvPr/>
          </p:nvGrpSpPr>
          <p:grpSpPr>
            <a:xfrm>
              <a:off x="1845000" y="4222080"/>
              <a:ext cx="624960" cy="2221920"/>
              <a:chOff x="1845000" y="4222080"/>
              <a:chExt cx="624960" cy="2221920"/>
            </a:xfrm>
          </p:grpSpPr>
          <p:sp>
            <p:nvSpPr>
              <p:cNvPr id="170" name="Rectangle 124"/>
              <p:cNvSpPr/>
              <p:nvPr/>
            </p:nvSpPr>
            <p:spPr>
              <a:xfrm>
                <a:off x="1845000" y="4222080"/>
                <a:ext cx="624960" cy="222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125"/>
              <p:cNvSpPr/>
              <p:nvPr/>
            </p:nvSpPr>
            <p:spPr>
              <a:xfrm>
                <a:off x="1845000" y="4222080"/>
                <a:ext cx="624960" cy="2221920"/>
              </a:xfrm>
              <a:prstGeom prst="rect">
                <a:avLst/>
              </a:prstGeom>
              <a:noFill/>
              <a:ln cap="rnd" w="17640">
                <a:solidFill>
                  <a:srgbClr val="e36c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Rectangle 126"/>
            <p:cNvSpPr/>
            <p:nvPr/>
          </p:nvSpPr>
          <p:spPr>
            <a:xfrm rot="16200000">
              <a:off x="1360440" y="5279760"/>
              <a:ext cx="1402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alibri"/>
                </a:rPr>
                <a:t>Factores externo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27"/>
            <p:cNvSpPr/>
            <p:nvPr/>
          </p:nvSpPr>
          <p:spPr>
            <a:xfrm rot="16200000">
              <a:off x="2030040" y="4523400"/>
              <a:ext cx="43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ounded Rectangle 10"/>
          <p:cNvSpPr/>
          <p:nvPr/>
        </p:nvSpPr>
        <p:spPr>
          <a:xfrm>
            <a:off x="3635280" y="3716280"/>
            <a:ext cx="1928880" cy="71136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Análisis FOD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3538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fortalezas y las debilidades se refieren a la situación </a:t>
            </a:r>
            <a:r>
              <a:rPr b="0" i="1" lang="es-AR" sz="3200" spc="-1" strike="noStrike">
                <a:solidFill>
                  <a:srgbClr val="5f5f5f"/>
                </a:solidFill>
                <a:latin typeface="Arial"/>
              </a:rPr>
              <a:t>actual</a:t>
            </a: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3880" indent="-3538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oportunidades y amenazas evalúan posibles escenarios </a:t>
            </a:r>
            <a:r>
              <a:rPr b="0" i="1" lang="es-AR" sz="3200" spc="-1" strike="noStrike">
                <a:solidFill>
                  <a:srgbClr val="5f5f5f"/>
                </a:solidFill>
                <a:latin typeface="Arial"/>
              </a:rPr>
              <a:t>futuros</a:t>
            </a: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Análisis FOD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3538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fortalezas mejoran el desempeñ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3880" indent="-3538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debilidades limitan el desempeño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3880" indent="-3538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oportunidades son condiciones favorabl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3880" indent="-3538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amenazas son escenarios negativo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Análisis FOD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3538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análisis FODA puede ser llevado a cabo para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valuar y seleccionar qué idea/proyecto es más apropiado para implementación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Planificar estrategias y acción sobre cómo implementar un proyect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valuar cómo una actividad existente podría ser mejorada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8:10:19Z</dcterms:created>
  <dc:creator>Giacomo Rambaldi</dc:creator>
  <dc:description/>
  <cp:keywords>pgis training kit</cp:keywords>
  <dc:language>en-US</dc:language>
  <cp:lastModifiedBy>Valeria</cp:lastModifiedBy>
  <dcterms:modified xsi:type="dcterms:W3CDTF">2010-09-12T16:49:15Z</dcterms:modified>
  <cp:revision>235</cp:revision>
  <dc:subject>M05 - Enabling and Disabling Environments </dc:subject>
  <dc:title>Presentación - Planificación de la Acción en Respuesta a Factores Habilitantes e Inhabilitan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Document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