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808080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76D6-102A-497B-ACB7-471874A325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02D1-616A-4245-8D8B-B5B3315A5E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8FEA-5CE6-444A-A663-FE88593A18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deben hacer diversos arreglos logísticos a fin de que el proyecto pueda funcionar sin problemas. Estos arreglos deben realizarse de manera oportuna; muchos de ellos deben estar listos antes de iniciarse las actividades del proyec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D326-62C9-46C8-838F-4138BEABDA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Hacer clic para agregar no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F6A6-9177-4319-A36E-4F304A0AA9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Hacer clic para agregar no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A254-3F72-4D75-953A-4AB102DFC7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colegio o un local comunitario pueden ser espacios adecuados para realizar los talle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EE3C-A621-4BAB-B135-E7FC926B3F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Hacer clic para agregar no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671E-5441-4050-8DC8-FBA58AEBDE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nudo no es fácil encontrar instalaciones adecuadas para realizar la impresión de map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25FD-A098-4B88-ACDC-27143DC7DD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Hacer clic para agregar no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8896C-0E31-430A-BFE4-6E5F5E239E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F6F4-038B-42C7-BCC7-AFD11FFD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B3368-B072-4C05-8B67-70D52DBC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205C-2BC9-4180-9C70-5AC1253025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6E08E-4952-4DC3-8046-9A6BCD0C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FF89E-F271-4122-8E4B-64962D19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ECF18-70C9-4478-AC77-695CBAE4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8F3F0-32FF-41DB-8104-CBCB7115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3F39C-FDFA-4890-AB25-6A10D863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CA5CF-A808-4136-B87A-09922174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FBF9C-B1BF-41AF-9F31-6146F9F2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09823-4096-43C7-BA71-68899CBD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7EAC8-BF24-425C-A6BE-D380FD68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DB95A-3B14-472E-A51F-BD5C4059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03C48-49F0-4167-813E-93930F1D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DBEBF-7BB4-4B03-B24E-B0FC5FD2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C0162-B0FE-4E2B-9C36-0834AFCD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B9427-8FD9-491F-8506-6C801854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734EC-8A05-47C0-957C-61DD1C2B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DB423-EA43-4C08-8C7B-D30F77F3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FB7CB-5DEF-4885-9B5D-99C433B4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7E52-49DD-414D-A8F0-0392B71F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D4909-CD60-48A5-ACE9-9217E508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4514-3935-4ED0-B106-1B8A9D69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4746-CE88-4AEB-A915-C3D6D54FD9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0254-7BE1-41FC-AE5B-29CD54499F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rganización de la </a:t>
            </a: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Logística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del Proyect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819960" y="5157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Por: Mac Cha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dad: M07U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8400" y="1428840"/>
            <a:ext cx="8358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a logística del proyecto incluye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ugar en que se llevarán a cabo los talleres (generalmente se refiere a las ciudades)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viaje de los miembres comunitarios y del personal técnico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rma de los contratos relacionados con el lugar en que se realizarán los talleres y el alojamiento de los participante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provisionamiento de equipos y materiale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oducción  y distribución de  los resultad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osquejos de los requerimientos logístic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os requerimientos logísticos se basan en la propuesta y el presupuesto del proyect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 debe prestar especial atención a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a trayectoria del proyecto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os fondos asignados a las diferentes partidas presupuestari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Viajes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75600" cy="48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a mayoría de comunidades está por lo general ubicada en áreas remotas y de difícil acces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os viajes pueden realizarse en bus, bote, avión o la combinación de estos métodos, que en ocasiones pueden ser muy complejo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l tema de los viajes debe considerarse desde el inicio del proyecto para asegurarse la disponibilidad de medios de transport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os viajes internacionales también deben ser concretados antes de que se inicien las actividades del proyect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aller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be encontrarse un lugar adecuado para las necesidades de cada tall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be brindarse alojamiento y viáticos a los participantes que vienen de lugares distant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Materiales, equipos y servicios para realizar las investigacione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7120" y="1600200"/>
            <a:ext cx="83296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Hay una necesidad constante d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teriales cartográficos (por ejemplo, fotografías aéreas, imágenes satelitales, mapas de referencia, etc.)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apel, lápices, lapiceros, líquido corrector, borradores, pintura,, cartón, goma, cinta adhesiva, cartuchos de tinta y una variedad de otros artículo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os equipos deben ser alquilados o comprad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mpresión de los mapas fin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os mapas finales deben ser diseñados e impresos profesionalment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n ciertos países y regiones, no existen instalaciones adecuadas para realizar la impresión y es necesario buscar  imprentas en el exterio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os amplias clases de arreglos logístico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quellos que requieren plazos de entrega considerables y deben realizarse con anticipació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iversas pequeñas acciones que deben llevarse a cabo diariamente y que aparecen de improviso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1:51:20Z</dcterms:created>
  <dc:creator>Mac Chapin</dc:creator>
  <dc:description/>
  <cp:keywords>pgis training kit</cp:keywords>
  <dc:language>en-US</dc:language>
  <cp:lastModifiedBy>martens</cp:lastModifiedBy>
  <dcterms:modified xsi:type="dcterms:W3CDTF">2010-03-03T11:16:03Z</dcterms:modified>
  <cp:revision>40</cp:revision>
  <dc:subject>M07 - Project Structuring and Initial Reconnaissance</dc:subject>
  <dc:title>Presentación - Organización de la Logística del Proyec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