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f5f5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9F06-11D6-47AA-BF40-D901004ADD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0AB2-E9C7-4CC8-B5DD-E6283BE977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mayor información sobre este tema, favor referirse a MP M07U01 y a las lecturas recomend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EE35-B03A-4134-B296-F3C574A762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Equipo Principal debe ser integrador, debe representar a las comunidades y al liderazgo del área del proyecto, así como a los intermediarios tecnológicos.  Asimismo, debe ser eficiente, para que las decisiones se puedan realizar de manera clara y oportuna.  Por lo general, los proyectos con una administración sólida son exitosos, mientras que aquellos proyectos con administraciones débiles se enfrentan con proble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0928-19C0-4AAB-9290-CDFE58F4E5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Normalmente un Equipo Principal incluye a estos miemb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especialistas en el tema pueden incluir a profesionales en el manejo de recursos naturales, biodiversidad, agricultura, ciencia forestal, antropología, sociología, lingüística, desarrollo de comunidades, comunicaciones o profesionales de otros camp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93A6-FA50-49E0-A78A-AAC3E4415B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líder del equipo (LE) debe ser un líder de la comunidad o una persona foránea calificada y respet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LE debe ser contratado desde la fase inicial de preparación, a través de la producción de los mapas y posiblemente a través de las actividades post-mape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F863-5C15-4589-B70B-6F271BF58C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Hacer clic para agregar 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BD0E-CCEA-4ED1-A0D9-FF3844E13E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i el cartógrafo no pertenece al grupo cultural que está siendo mapeado, él/ella debería poseer las siguientes característic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habilidades técnicas sólida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un interés especializado en trabajar con comunidades indígenas o tradicionale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celentes habilidades interpersonales y facilidad para trabajar con personas de diferentes cultura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nocimiento de la región que está siendo mape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4553-CEEF-4C93-9579-5770454BE4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Hacer clic para agregar 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26E5-E259-443D-9CB7-06DFBD7896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Hacer clic para agregar 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0826-9C9F-4DE9-8FBB-D435F44C66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as partes interesadas podrían incluir a las comunidades participantes, a los intermediarios de la tecnología, las agencias gubernamentales, las organizaciones no-gubernamental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F718-93A8-4148-98D4-A3D0657EF2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7CF34-0793-4097-A85A-E9F17520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A7741-68F8-4DB6-86AE-B7567D03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4BC0-02AA-4662-BF74-A90A2D4D0F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D4564-DF3B-4454-8755-1625420E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9416C-C41C-4665-9487-32EBCE80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51BAC-F65A-4143-857D-FF0D315A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7639D-8418-432E-AF68-42FB4C65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9D9D7-79AD-4BB2-BED1-3FEB3D9B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1FE7D-1FC9-41B7-BF26-34AD7776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1C047-06E8-41F9-B7B7-9C97F823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5B60E-DDB8-4EBD-9BCD-E500C557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89F9B-3747-40C8-83F2-0A61E26C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03972-2843-46ED-A69F-937CC5DD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3C724-35DE-4721-8481-CCBC4602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FA5E1-0EB3-41DC-B80A-D2483D85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EA36A-405E-46A6-A085-35510914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91CA1-E409-42C2-B11B-4E036D06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DB41A-65E4-4B7A-A823-B895028F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85DD2-D150-485D-930C-1B88A9D2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AC12-4A76-40D8-85E1-692C3C2B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B574F-59FE-4D8B-8FF3-6B7101D1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F3A4-2BD3-41D7-9DFB-49EC9340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09F1B-AB97-4C9F-8B01-356189D4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8569-E8BE-48F7-8269-B14016BE9E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F41A-D9C0-4C18-AC11-9882E0CBDB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nsamblaje de un Equipo Principal / de Implemen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0920" y="38862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El tamaño y composición de un Equipo Principa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641320" y="515772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Por:  Mac Chapin y Natalia Mar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07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El tamaño y composición del Equipo Principal depende de la magnitud y complejidad del proyect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Un Equipo Principal debe ser integrador y eficien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Miembros del Equipo Principal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Líder del Equipo/Coordinador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Administrador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Cartógrafo Líder/Especialista de GI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Especialista(s) en el Tem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Líderes de la Comunidad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íder de Equipo/Coordinado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Líder de la comunidad o persona foránea calificada y respetad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Contratado por todo el tiempo que dure el proyect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Responsable d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El funcionamiento del proyecto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La coordinación de los grupos participativ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dministrador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A cargo de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Las finanzas del proyecto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Los arreglos logístic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Los detalles burocráticos del proyecto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Cartógrafo Líder/Especialista en GI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La persona a cargo de la unidad técnic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Responsable d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La recolección de todos los materiales cartográfico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El montaje del laboratorio (si fuera necesario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La selección del personal técnico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Supervisión del trabajo técnico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specialista(s) en el Tem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07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Representa y protege los intereses de las comunidades cuyos recursos están siendo mapeado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Maneja la comunicación: servir como “puente” entre las comunidades y personas de afuer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Coordina a los participantes a nivel de la comunidad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íderes de la Comunida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07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Coordinan con los pobladores responsables de la recolección, geo-codificación, e información de mape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Deben ser líderes comunitarios reconocido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No deben ser seleccionados por personas foráneas</a:t>
            </a: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5f5f5f"/>
                </a:solidFill>
                <a:latin typeface="Arial"/>
              </a:rPr>
              <a:t>El Equipo Principa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No debe ser impuesto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Debe asegurar el manejo fluido y efectivo del proyecto relacionado con las diferentes partes interesada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5f5f5f"/>
                </a:solidFill>
                <a:latin typeface="Arial"/>
              </a:rPr>
              <a:t>Debe tener una composición y estructura que cumplan con las costumbres y valores local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3:13:54Z</dcterms:created>
  <dc:creator>Mac Chapin</dc:creator>
  <dc:description/>
  <cp:keywords>pgis training kit</cp:keywords>
  <dc:language>en-US</dc:language>
  <cp:lastModifiedBy>martens</cp:lastModifiedBy>
  <dcterms:modified xsi:type="dcterms:W3CDTF">2010-03-10T09:23:49Z</dcterms:modified>
  <cp:revision>40</cp:revision>
  <dc:subject/>
  <dc:title>Presentación - Ensamblaje de un equipo principal de implement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