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5f5f5f"/>
                </a:solidFill>
                <a:latin typeface="Times New Roman"/>
              </a:defRPr>
            </a:lvl1pPr>
          </a:lstStyle>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5f5f5f"/>
                </a:solidFill>
                <a:latin typeface="Times New Roman"/>
              </a:rPr>
              <a:t>Apoyo a la difusión de buenas prácticas en la generación, la gestión, el análisis y la comunicación de información territorial</a:t>
            </a:r>
            <a:endParaRPr b="0" lang="en-US" sz="900" spc="-1" strike="noStrike">
              <a:solidFill>
                <a:srgbClr val="000000"/>
              </a:solidFill>
              <a:latin typeface="Times New Roman"/>
            </a:endParaRPr>
          </a:p>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FACB-62B9-42BA-BE51-6D995D7A0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AADE-FD12-4CD4-8CA9-F06AAD2F30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mayor información sobre este tema, por favor referirse a la MP M07U02 y las lecturas recomend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1C3F-42F8-4E38-9E2D-94F3A839DA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43CD-FB50-42E1-B601-8AF48E4B49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 los actores se incluye a las organizaciones no-gubernamentales y agencias gubernament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del proyecto dentro de las comunidades incluyen la recolección de información, preparación de croquis y modelado 3-D. Los componentes que están alejados de las comunidades (e.g. en pueblos o ciudades) incluyen GIS, cartografía e impresión de mapa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CAA4-7BFB-4A08-BA03-2C23C7E2E0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undamentación del proyecto incluye el propósito/objetivo, resultados esperados y actividades relacion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ADBC-A6DC-435B-AC84-58F6B48243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yectos de mapeo participativo se realizan con uno o más propósitos en mente.  Estos deberían ser claramente definidos en las mentes de cada una de las personas involucr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el ejercicio completado previamente, “Fundamentación del Proyecto a través del Análisis del Arbol de Problema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E6B3-8FF1-42D8-817A-F20D66B889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iseño del proyecto es una cosa; la propuesta del proyecto es otra cosa. El diseño del proyecto va a contener un debate abierto de los propósitos, sin importar cuán político sea el carácter de éstos; la propuesta del proyecto será mucho más circunspecta y manejará los propósitos de una manera más agrad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3615-53E7-4F83-9726-3C97D99B3D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mapas son los productos de cualquier proyecto de mapeo. Los proyectos de mapeo participativo también son procesos que juntan a las personas de una manera creativa y con un sentido de propósito. Los resultados de los proyectos de mapeo participativo son productos y procesos; a menudo se dice que, aunque los mapas producidos son útiles, el verdadero beneficio es el proceso que se da durante el desarrollo de los map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8F1D-6C83-46AD-A316-B5D603BAC5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strategia metodológica y la elección del método de mapeo varían dependiendo del área cubierta, las destrezas técnicas de los actores involucrados y los recursos disponibles.  Esta debería ser la sección más detallada del diseño del proyecto.  Es el componente técnico del proyecto.  Se brindan mayores detalles sobre la elección del(os)  método(s) en el Módulo M0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F45D-9EC6-4F8B-B7A6-DC1C896163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i hay algunos ejemplos de los rubros que pueden incluirse en el presupues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os/tarifas/honorarios locales (e.g. para los investigadores de la comunidad, para los miembros del Equipo Principal, cartógrafos/especialistas en G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jes (e.g. viajes relacionados con la logística pre-proyecto de los pobladores, líderes comunales, cartógrafo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eres (e.g. requerimientos de alimentación y alojamiento para los participantes, instalaciones para los talle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es cartográficos, suministros, equipos (e.g. mapas de referencia, fotografías aéreas, imágenes satelitales, papel, lapiceros, lápices de colores, mesas de dibujo, lámparas, etc.)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os y materiales para documentar los procesos de mapeo (e.g. equipo de grabación de video/audio) y servicios (e.g. procesamiento de datos, redacción de informes, edición de videos, publicación,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ño e impresión de mapas (e.g. mapas durables para las comunidades, mapas para una distribución más ampl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ajo de seguimiento (e.g. sistema de redes, comunicación, apoyo leg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D98E-21ED-4C14-9FC1-A5E220BAEC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AEF05-79B1-41C8-BD85-266B91542E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DA5227A-5C6D-4D62-9D3C-9204F2B85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A415CF19-0416-4F75-B80A-1369DB0A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26BC425B-A9C4-48F9-9E94-6D4C4751DB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284E7E-A04B-4F8E-AD36-BA62247F2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5EAF9AE-A700-4E26-8DB9-BBD0D86FE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BCEBD57-0401-4365-8041-96C5889A2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974DE70-5CD2-433D-9A33-0B9430584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09BC835-5966-4ADE-A2C7-71F80457C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9A6B4C0-8F2E-4F84-B6D3-23190BB6E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A9CCC22-3349-43E3-ADF5-8B15F0A0D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4725F9F-0609-421A-90F6-7F0AAFFDD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7494150-F2CD-453C-88B0-A93FD64FC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B91BB90-9B1A-4116-AC08-81285B7E0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A5C7390-B1B4-4811-8576-A50386B57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3EF5F41-CB5E-4AB6-ACAF-6F205E22B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960712D-0EDA-4E16-B591-21D3332F5B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85F67B1-82B3-4BB8-8AE9-F2B2501B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0A77D52-6E21-41F5-87AB-E3100A48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2084A59D-3032-44D7-ABDF-A5CFFF807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E4F99747-61E4-43C9-9AFB-029AB12CD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6971030-5948-4A26-BAA8-6E3541A1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514AC2F-646C-48AA-84FB-891A52C63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8046232-D25E-4405-8578-18BE543AC6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7D18-77E6-4399-AEBD-599D1B74D6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FF78-19E2-4622-9020-9845B4B76B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seño y Financiamiento del Proyecto</a:t>
            </a:r>
            <a:endParaRPr b="0" lang="en-US" sz="4400" spc="-1" strike="noStrike">
              <a:solidFill>
                <a:srgbClr val="cc3300"/>
              </a:solidFill>
              <a:latin typeface="Arial"/>
            </a:endParaRPr>
          </a:p>
        </p:txBody>
      </p:sp>
      <p:sp>
        <p:nvSpPr>
          <p:cNvPr id="91" name="Rectangle 4"/>
          <p:cNvSpPr/>
          <p:nvPr/>
        </p:nvSpPr>
        <p:spPr>
          <a:xfrm>
            <a:off x="2664720" y="5157720"/>
            <a:ext cx="371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 y Natalia Martens</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dad: M07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 diseño de proyecto claro, bien articulado, es similar a un buen mapa de carreteras: si se le sigue, conducirá a los promotores al lugar al que quieren llegar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PlaceHolder 2"/>
          <p:cNvSpPr>
            <a:spLocks noGrp="1"/>
          </p:cNvSpPr>
          <p:nvPr>
            <p:ph/>
          </p:nvPr>
        </p:nvSpPr>
        <p:spPr>
          <a:xfrm>
            <a:off x="213840" y="1499760"/>
            <a:ext cx="8929800" cy="49719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proyectos de mapeo participativo: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n ejercicios técnicos y sociales-organizacionales que involucran a varios acto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ucran diversos componentes que deben ser realizados en diferentes luga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quieren un planeamiento minucio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berían ser presentados en un formato de proyecto que satisfaga las expectativas de la agencia  patrocinadora, e incluye un presupues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seño del proyecto</a:t>
            </a:r>
            <a:endParaRPr b="0" lang="en-US" sz="4400" spc="-1" strike="noStrike">
              <a:solidFill>
                <a:srgbClr val="cc3300"/>
              </a:solidFill>
              <a:latin typeface="Arial"/>
            </a:endParaRPr>
          </a:p>
        </p:txBody>
      </p:sp>
      <p:sp>
        <p:nvSpPr>
          <p:cNvPr id="97" name="PlaceHolder 2"/>
          <p:cNvSpPr>
            <a:spLocks noGrp="1"/>
          </p:cNvSpPr>
          <p:nvPr>
            <p:ph/>
          </p:nvPr>
        </p:nvSpPr>
        <p:spPr>
          <a:xfrm>
            <a:off x="457200" y="1457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os esenciales de una propuesta de proyecto:</a:t>
            </a:r>
            <a:endParaRPr b="0" lang="en-US" sz="32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5f5f5f"/>
                </a:solidFill>
                <a:latin typeface="Arial"/>
              </a:rPr>
              <a:t>fundamentación del proyecto</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todología de implementación y cronograma</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stos unitarios y cantidades, y presupuest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 propuesta del proyecto es utilizada para buscar apoyo financiero.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pósito del proyecto</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 propósito del proyecto se refiere a la solución de las causas de fondo del problema que han sido identificadas por los promoto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mapas pueden cumplir múltiples propósitos, pero por lo general hay una razón primordial por la cual uno hace el mapeo de sus tierr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Diseño y propuesta del proyecto</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eño del proyecto: trata todos los temas (incluyendo  asuntos delicados) tal como los perciben los promotores del proyec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puesta del proyecto:  creada a la medida de las organizaciones externas (e.g. agencia auspiciadora) y por tanto maneja los propósitos de una manera más agrad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sultado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ductos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eso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juntar a las person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enerar cohesión comunitar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render haciendo e intercambiando</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odología, métodos de mapeo y actore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cance de la iniciativa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étodos de mapeo (e.g. modelo 3-D, croquis, uso de imágenes de dirección remota,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én estará involucr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ónde se realizará?</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ál es el margen de tie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ubros del presupuesto</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alarios, tarifas y honorarios locales</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astos de viaje</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lleres (local, alimentación y alojamiento)</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fía (materiales, suministros y equipos) </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ación (suministros, equipos, procesamiento, edición, traducción y publicidad)</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rvicios (diseño de mapas e impresión)</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bajo de seguimien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requisitos para alcanzar el éxito</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eño claro</a:t>
            </a:r>
            <a:r>
              <a:rPr b="0" lang="en-US" sz="2800" spc="-1" strike="noStrike">
                <a:solidFill>
                  <a:srgbClr val="5f5f5f"/>
                </a:solidFill>
                <a:latin typeface="Arial"/>
              </a:rPr>
              <a:t> </a:t>
            </a:r>
            <a:r>
              <a:rPr b="0" lang="en-US" sz="3200" spc="-1" strike="noStrike">
                <a:solidFill>
                  <a:srgbClr val="5f5f5f"/>
                </a:solidFill>
                <a:latin typeface="Arial"/>
              </a:rPr>
              <a:t>de proyecto</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upuesto bien diseñado que cubra toda la implementación del proyecto</a:t>
            </a:r>
            <a:endParaRPr b="0" lang="en-US" sz="32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cluyendo las contingencias para hacer frente a las circunstancias cambiantes</a:t>
            </a:r>
            <a:endParaRPr b="0" lang="en-US" sz="28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ponibilidad de fondos para cubrir la implementación del proyecto antes de iniciarse el proyect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26:31Z</dcterms:created>
  <dc:creator>Mac Chapin</dc:creator>
  <dc:description/>
  <cp:keywords>pgis training kit</cp:keywords>
  <dc:language>en-US</dc:language>
  <cp:lastModifiedBy>martens</cp:lastModifiedBy>
  <dcterms:modified xsi:type="dcterms:W3CDTF">2010-03-10T10:26:47Z</dcterms:modified>
  <cp:revision>62</cp:revision>
  <dc:subject/>
  <dc:title>Presentacion - Diseno y financiamiento del proyec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