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rPr>
              <a:t>Apoyo a la difusión de buenas prácticas en la generación, la gestión, el análisis y la comunicación de información territorial</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2148-DE53-4F11-A558-7EF750F180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the spread of “good practice” in generating, managing, analysing and communicating spatial information</a:t>
            </a:r>
            <a:endParaRPr b="0" lang="en-US" sz="1200" spc="-1" strike="noStrike">
              <a:solidFill>
                <a:srgbClr val="000000"/>
              </a:solidFill>
              <a:latin typeface="Arial"/>
            </a:endParaRPr>
          </a:p>
        </p:txBody>
      </p:sp>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3DE81-7553-40B9-9E4D-348DD61378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42D2-FB14-40A6-B2AA-A0E7447333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las agencias gubernamentales saben lo que está sucediendo, van a estar más dispuestas a permitir que se desarrolle el proyecto de mapeo, sin interferencias.  Los contactos con las agencias gubernamentales y ONGs deben mantenerse vigentes durante toda la vida del proyect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139E-155D-4D6F-BC03-0FD1F9F3A7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écnicas:  Preparar mapas es un ejercicio técnico que requiere habilidades especializadas y técni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íticas:  La naturaleza política de los mapas se hace evidente cuando ellos son utilizados, especialmente cuando los mapas son utilizados para reclamar o defender tierras, proteger recursos naturales y consolidar el poder polít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ciendo que funcionen los mapas: ver Módulo M15</a:t>
            </a:r>
            <a:endParaRPr b="0" lang="en-US" sz="1200" spc="-1" strike="noStrike">
              <a:solidFill>
                <a:srgbClr val="000000"/>
              </a:solidFill>
              <a:latin typeface="Arial"/>
            </a:endParaRPr>
          </a:p>
        </p:txBody>
      </p:sp>
      <p:sp>
        <p:nvSpPr>
          <p:cNvPr id="123" name="Footer Placeholder 3"/>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A218-65C3-47F7-859E-178C46768F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65D7-9028-4504-AF91-242210679E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acer clic para agregar nota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DAC7-E281-4ADA-8B13-8FF014B0FD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cer clic para agregar not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7EC2-39A6-43EC-8965-DBDF0E3A9E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acer clic para agregar notas.</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D7E1-48A5-4BC6-92DE-28AB093304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dida que el proyecto se concreta y se contrata al personal, se puede compartir información más específica sobre la metodología con la institución receptor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0" y="8685360"/>
            <a:ext cx="6858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08080"/>
                </a:solidFill>
                <a:latin typeface="Arial"/>
              </a:rPr>
              <a:t>Support the spread of “good practice” in generating, managing, analysing and communicating spatial information</a:t>
            </a:r>
            <a:endParaRPr b="0" lang="en-US" sz="1000" spc="-1" strike="noStrike">
              <a:solidFill>
                <a:srgbClr val="000000"/>
              </a:solidFill>
              <a:latin typeface="Arial"/>
            </a:endParaRPr>
          </a:p>
        </p:txBody>
      </p:sp>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8657-91AB-4B83-82D4-C388FAEBCD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 usted tiene proyectado conducir un ejercicio de mapeo en un área considerada sensible por los militares, debe conseguir permiso de ellos para realizar las actividades.  Sin su luz verde, no debe hacerse n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8BEC9B-713E-4B1D-86E7-9F6FFD5E3B2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B1E7D667-DC85-445A-9007-9B0F874C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8D2CC3A8-2196-41F2-BBA6-B8D48A661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7B7CA3D7-9376-428E-B93A-8E968923261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D56C9BF-EDEC-4CD5-ABF0-3F08C7E5E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B7AD2AF-D4D4-40CA-839D-5DE83E477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68DD1E8-E3D1-4DF4-8C34-5B60AE369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38984C1-F8AC-484E-AC2F-99556CD6F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ED9E4F3-939C-4654-B5F8-3FA03AEE1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9710FAA-2746-4587-B2C2-5E5FC827A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4ABB010-0F2C-4BB8-B982-037C3577B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DA58BAF3-9F4B-4306-8A43-0547D9BEB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7FD1380-FAD5-429D-A8F9-775D514AD0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F7A07B4-874C-471D-B280-7D04445D3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3AF66EE-05FB-45F8-8E08-FB94E2DC3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2E8BDBA0-2C4A-413E-9783-BC8C86464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AE7C67A-57E5-4D18-B39A-B3ED2343D8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2223C030-9B08-4A06-9C57-3C273446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B6CA16FA-E24E-4051-91F5-A720281EB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A670B0D9-6B90-4E35-8EAA-FFA08F8FB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8BB46B39-920D-4B19-99D5-6357D09E1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69CB9BAD-039C-48A9-852B-291706DC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83CB80BC-4CE6-46AD-A804-DC33C1C27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3275A796-7C4D-4AC3-A71B-BDCBFF0F2DE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6BB2-03AF-4904-9895-B05638FFA8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p:cNvPicPr/>
          <p:nvPr/>
        </p:nvPicPr>
        <p:blipFill>
          <a:blip r:embed="rId2"/>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0C40-7020-4CD9-8811-036AB727DD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isitas a Agencias Gubernamentales y a ONGs</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886200"/>
            <a:ext cx="6400800" cy="838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2" name="Rectangle 4"/>
          <p:cNvSpPr/>
          <p:nvPr/>
        </p:nvSpPr>
        <p:spPr>
          <a:xfrm>
            <a:off x="3819960" y="515772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Por: Mac Chapin</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7U04</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lusiones</a:t>
            </a:r>
            <a:endParaRPr b="0" lang="en-US" sz="4400" spc="-1" strike="noStrike">
              <a:solidFill>
                <a:srgbClr val="cc3300"/>
              </a:solidFill>
              <a:latin typeface="Arial"/>
            </a:endParaRPr>
          </a:p>
        </p:txBody>
      </p:sp>
      <p:sp>
        <p:nvSpPr>
          <p:cNvPr id="112" name="PlaceHolder 2"/>
          <p:cNvSpPr>
            <a:spLocks noGrp="1"/>
          </p:cNvSpPr>
          <p:nvPr>
            <p:ph/>
          </p:nvPr>
        </p:nvSpPr>
        <p:spPr>
          <a:xfrm>
            <a:off x="428400" y="1428840"/>
            <a:ext cx="8258040" cy="482904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s claves para lograr el éxito en las negociaciones con instituciones externas son:</a:t>
            </a:r>
            <a:endParaRPr b="0" lang="en-US" sz="32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strategias de entrada adaptadas a las necesidades de las institucione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nsparencia en el proceso;</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volucrar a agencias cartográficas nacionales;</a:t>
            </a:r>
            <a:endParaRPr b="0" lang="en-US" sz="2800" spc="-1" strike="noStrike">
              <a:solidFill>
                <a:srgbClr val="5f5f5f"/>
              </a:solidFill>
              <a:latin typeface="Arial"/>
            </a:endParaRPr>
          </a:p>
          <a:p>
            <a:pPr lvl="1" marL="735480" indent="-2829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ntener contacto con las agencias gubernamental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a naturaleza dual de los mapas</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 elaboración de mapas participativos: </a:t>
            </a:r>
            <a:endParaRPr b="0" lang="en-US" sz="3200" spc="-1" strike="noStrike">
              <a:solidFill>
                <a:srgbClr val="5f5f5f"/>
              </a:solidFill>
              <a:latin typeface="Arial"/>
            </a:endParaRPr>
          </a:p>
          <a:p>
            <a:pPr lvl="1" marL="933480" indent="-533520">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 percibirse como una “herramienta” y/o  como un “arma”;</a:t>
            </a:r>
            <a:endParaRPr b="0" lang="en-US" sz="2800" spc="-1" strike="noStrike">
              <a:solidFill>
                <a:srgbClr val="5f5f5f"/>
              </a:solidFill>
              <a:latin typeface="Arial"/>
            </a:endParaRPr>
          </a:p>
          <a:p>
            <a:pPr lvl="1" marL="933480" indent="-533520">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presa acciones “técnicas” y “políticas” ;</a:t>
            </a:r>
            <a:endParaRPr b="0" lang="en-US" sz="2800" spc="-1" strike="noStrike">
              <a:solidFill>
                <a:srgbClr val="5f5f5f"/>
              </a:solidFill>
              <a:latin typeface="Arial"/>
            </a:endParaRPr>
          </a:p>
          <a:p>
            <a:pPr lvl="1" marL="933480" indent="-533520">
              <a:spcBef>
                <a:spcPts val="700"/>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vanta “banderas rojas”  ante las agencias gubernamentales porque a menudo son percibidos como amenaza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a naturaleza dual de los mapas</a:t>
            </a:r>
            <a:endParaRPr b="0" lang="en-US" sz="4400" spc="-1" strike="noStrike">
              <a:solidFill>
                <a:srgbClr val="cc33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a naturaleza “política” de los mapas se hace evidente cuando ellos son utilizados par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clamar  o defender tierra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solidar el poder polític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Reafirmar los derechos sobre los recurs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Dar apoyo a la comunicació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Controlar  los bienes inmuebl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mpoderamiento</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os mapas pueden empoderar a las personas que los producen y los pose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ómo presentar la idea del mapeo participativo a las agencias gubernamental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strategias inteligentes</a:t>
            </a:r>
            <a:endParaRPr b="0" lang="en-US" sz="4400" spc="-1" strike="noStrike">
              <a:solidFill>
                <a:srgbClr val="cc3300"/>
              </a:solidFill>
              <a:latin typeface="Arial"/>
            </a:endParaRPr>
          </a:p>
        </p:txBody>
      </p:sp>
      <p:sp>
        <p:nvSpPr>
          <p:cNvPr id="10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ar el terreno, estudiar el marco institucional y estrategias.</a:t>
            </a:r>
            <a:endParaRPr b="0" lang="en-US" sz="32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ar una estrategia de comunicación.</a:t>
            </a:r>
            <a:endParaRPr b="0" lang="en-US" sz="3200" spc="-1" strike="noStrike">
              <a:solidFill>
                <a:srgbClr val="5f5f5f"/>
              </a:solidFill>
              <a:latin typeface="Arial"/>
            </a:endParaRPr>
          </a:p>
          <a:p>
            <a:pPr marL="343080" indent="-34308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uscar colaborar con las agencias de mapeo gubernamentales. </a:t>
            </a:r>
            <a:endParaRPr b="0" lang="en-US" sz="3200" spc="-1" strike="noStrike">
              <a:solidFill>
                <a:srgbClr val="5f5f5f"/>
              </a:solidFill>
              <a:latin typeface="Arial"/>
            </a:endParaRPr>
          </a:p>
          <a:p>
            <a:pPr marL="343080" indent="0">
              <a:lnSpc>
                <a:spcPct val="9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abajo preparatorio</a:t>
            </a:r>
            <a:endParaRPr b="0" lang="en-US" sz="4400" spc="-1" strike="noStrike">
              <a:solidFill>
                <a:srgbClr val="cc3300"/>
              </a:solidFill>
              <a:latin typeface="Arial"/>
            </a:endParaRPr>
          </a:p>
        </p:txBody>
      </p:sp>
      <p:sp>
        <p:nvSpPr>
          <p:cNvPr id="104" name="PlaceHolder 2"/>
          <p:cNvSpPr>
            <a:spLocks noGrp="1"/>
          </p:cNvSpPr>
          <p:nvPr>
            <p:ph/>
          </p:nvPr>
        </p:nvSpPr>
        <p:spPr>
          <a:xfrm>
            <a:off x="394920" y="1341000"/>
            <a:ext cx="8177400" cy="5087880"/>
          </a:xfrm>
          <a:prstGeom prst="rect">
            <a:avLst/>
          </a:prstGeom>
          <a:noFill/>
          <a:ln w="0">
            <a:noFill/>
          </a:ln>
        </p:spPr>
        <p:txBody>
          <a:bodyPr anchor="t">
            <a:normAutofit/>
          </a:bodyPr>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alizar una evaluación minuciosa de las agencias gubernamentales y de las ONGs más importantes  que puedan trabajar en temas similares (llevar a cabo una investigación documentaria).</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laborar  mensajes  y puntos de acción claves para presentar el proyecto de mapeo a estas institucione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acer contactos iniciales y tratar temas generale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Hacer una evaluación cara a cara de la probable posición de la institución con relación a los temas que están en juego.</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laboración con la agencia nacional de mapeo</a:t>
            </a:r>
            <a:endParaRPr b="0" lang="en-US" sz="4400" spc="-1" strike="noStrike">
              <a:solidFill>
                <a:srgbClr val="cc3300"/>
              </a:solidFill>
              <a:latin typeface="Arial"/>
            </a:endParaRPr>
          </a:p>
        </p:txBody>
      </p:sp>
      <p:sp>
        <p:nvSpPr>
          <p:cNvPr id="106" name="PlaceHolder 2"/>
          <p:cNvSpPr>
            <a:spLocks noGrp="1"/>
          </p:cNvSpPr>
          <p:nvPr>
            <p:ph/>
          </p:nvPr>
        </p:nvSpPr>
        <p:spPr>
          <a:xfrm>
            <a:off x="468360" y="1916280"/>
            <a:ext cx="8229600" cy="4713120"/>
          </a:xfrm>
          <a:prstGeom prst="rect">
            <a:avLst/>
          </a:prstGeom>
          <a:noFill/>
          <a:ln w="0">
            <a:noFill/>
          </a:ln>
        </p:spPr>
        <p:txBody>
          <a:bodyPr anchor="t">
            <a:normAutofit/>
          </a:bodyPr>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En muchos países, los cartógrafos más hábiles y experimentados trabajan para el gobierno.</a:t>
            </a:r>
            <a:endParaRPr b="0" lang="en-US" sz="2800" spc="-1" strike="noStrike">
              <a:solidFill>
                <a:srgbClr val="5f5f5f"/>
              </a:solidFill>
              <a:latin typeface="Arial"/>
            </a:endParaRPr>
          </a:p>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Los cartógraqfos del gobierno generalmente tienen acceso a información exclusiva.</a:t>
            </a:r>
            <a:endParaRPr b="0" lang="en-US" sz="2800" spc="-1" strike="noStrike">
              <a:solidFill>
                <a:srgbClr val="5f5f5f"/>
              </a:solidFill>
              <a:latin typeface="Arial"/>
            </a:endParaRPr>
          </a:p>
          <a:p>
            <a:pPr marL="343080" indent="-343080">
              <a:lnSpc>
                <a:spcPct val="95000"/>
              </a:lnSpc>
              <a:spcBef>
                <a:spcPts val="1225"/>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tilizar a empleados del gobierno en el equipo del proyecto brinda al proyecto: </a:t>
            </a:r>
            <a:endParaRPr b="0" lang="en-US" sz="2800" spc="-1" strike="noStrike">
              <a:solidFill>
                <a:srgbClr val="5f5f5f"/>
              </a:solidFill>
              <a:latin typeface="Arial"/>
            </a:endParaRPr>
          </a:p>
          <a:p>
            <a:pPr lvl="1" marL="743040" indent="-285840">
              <a:lnSpc>
                <a:spcPct val="95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un  sello “oficial” de aprobación;</a:t>
            </a:r>
            <a:endParaRPr b="0" lang="en-US" sz="2400" spc="-1" strike="noStrike">
              <a:solidFill>
                <a:srgbClr val="5f5f5f"/>
              </a:solidFill>
              <a:latin typeface="Arial"/>
            </a:endParaRPr>
          </a:p>
          <a:p>
            <a:pPr lvl="1" marL="743040" indent="-285840">
              <a:lnSpc>
                <a:spcPct val="95000"/>
              </a:lnSpc>
              <a:spcBef>
                <a:spcPts val="10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ayor credibilidad ante los ojos del gobierno, lo cual es un activo cuando se preparan los mapas.</a:t>
            </a:r>
            <a:endParaRPr b="0" lang="en-US" sz="2400" spc="-1" strike="noStrike">
              <a:solidFill>
                <a:srgbClr val="5f5f5f"/>
              </a:solidFill>
              <a:latin typeface="Arial"/>
            </a:endParaRPr>
          </a:p>
          <a:p>
            <a:pPr marL="343080" indent="0">
              <a:lnSpc>
                <a:spcPct val="9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cc3300"/>
                </a:solidFill>
                <a:latin typeface="Arial"/>
              </a:rPr>
              <a:t>Estrategia para realizar visitas</a:t>
            </a:r>
            <a:endParaRPr b="0" lang="en-US" sz="4400" spc="-1" strike="noStrike">
              <a:solidFill>
                <a:srgbClr val="cc3300"/>
              </a:solidFill>
              <a:latin typeface="Arial"/>
            </a:endParaRPr>
          </a:p>
        </p:txBody>
      </p:sp>
      <p:sp>
        <p:nvSpPr>
          <p:cNvPr id="10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aptar las presentaciones a las necesidades de la institución receptora.</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ntener la presentación lo más técnica posible. </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rindar ejemplos positivos del uso de mapa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vitar plantear agendas sensibles, tales como reclamo de derechos a las tierras o bloqueos de entradas a las empresas extractivas.</a:t>
            </a:r>
            <a:endParaRPr b="0" lang="en-US" sz="2800" spc="-1" strike="noStrike">
              <a:solidFill>
                <a:srgbClr val="5f5f5f"/>
              </a:solidFill>
              <a:latin typeface="Arial"/>
            </a:endParaRPr>
          </a:p>
          <a:p>
            <a:pPr marL="343080" indent="-343080">
              <a:lnSpc>
                <a:spcPct val="80000"/>
              </a:lnSpc>
              <a:spcBef>
                <a:spcPts val="700"/>
              </a:spcBef>
              <a:spcAft>
                <a:spcPts val="601"/>
              </a:spcAft>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fatizar sobre la necesidad de contar con información exacta como base para lograr intercambios fructíferos.</a:t>
            </a:r>
            <a:endParaRPr b="0" lang="en-US" sz="2800" spc="-1" strike="noStrike">
              <a:solidFill>
                <a:srgbClr val="5f5f5f"/>
              </a:solidFill>
              <a:latin typeface="Arial"/>
            </a:endParaRPr>
          </a:p>
          <a:p>
            <a:pPr marL="343080" indent="0">
              <a:lnSpc>
                <a:spcPct val="8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400" spc="-1" strike="noStrike">
                <a:solidFill>
                  <a:srgbClr val="cc3300"/>
                </a:solidFill>
                <a:latin typeface="Arial"/>
              </a:rPr>
              <a:t>Estrategia para realizar visitas</a:t>
            </a:r>
            <a:endParaRPr b="0" lang="en-US" sz="4400" spc="-1" strike="noStrike">
              <a:solidFill>
                <a:srgbClr val="cc3300"/>
              </a:solidFill>
              <a:latin typeface="Arial"/>
            </a:endParaRPr>
          </a:p>
        </p:txBody>
      </p:sp>
      <p:sp>
        <p:nvSpPr>
          <p:cNvPr id="110" name="PlaceHolder 2"/>
          <p:cNvSpPr>
            <a:spLocks noGrp="1"/>
          </p:cNvSpPr>
          <p:nvPr>
            <p:ph/>
          </p:nvPr>
        </p:nvSpPr>
        <p:spPr>
          <a:xfrm>
            <a:off x="457200" y="1413000"/>
            <a:ext cx="8229600" cy="47131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cer notar que los mapas: </a:t>
            </a:r>
            <a:endParaRPr b="0" lang="en-US" sz="32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ser útiles para tratar disputas relacionadas con los recursos naturales;  </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contribuir a la planificación y a la creación de programas de educación medioambiental; </a:t>
            </a:r>
            <a:endParaRPr b="0" lang="en-US" sz="2800" spc="-1" strike="noStrike">
              <a:solidFill>
                <a:srgbClr val="5f5f5f"/>
              </a:solidFill>
              <a:latin typeface="Arial"/>
            </a:endParaRPr>
          </a:p>
          <a:p>
            <a:pPr lvl="1" marL="705600" indent="-271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ueden facilitar discusiones y no confrontaciones.</a:t>
            </a:r>
            <a:endParaRPr b="0" lang="en-US" sz="2800" spc="-1" strike="noStrike">
              <a:solidFill>
                <a:srgbClr val="5f5f5f"/>
              </a:solidFill>
              <a:latin typeface="Arial"/>
            </a:endParaRPr>
          </a:p>
          <a:p>
            <a:pPr marL="325800" indent="-325800">
              <a:lnSpc>
                <a:spcPct val="95000"/>
              </a:lnSpc>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tener un permiso escrito de agencias gubernamentales clav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8T09:14:51Z</dcterms:created>
  <dc:creator>Mac Chapin</dc:creator>
  <dc:description/>
  <cp:keywords>pgis training kit</cp:keywords>
  <dc:language>en-US</dc:language>
  <cp:lastModifiedBy>martens</cp:lastModifiedBy>
  <dcterms:modified xsi:type="dcterms:W3CDTF">2010-03-03T11:13:30Z</dcterms:modified>
  <cp:revision>47</cp:revision>
  <dc:subject>Module M07</dc:subject>
  <dc:title>Presentación - Visitas a Agencias Gubernamentales y a ON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