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EBEC-C358-48D7-9369-677F74417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3330-B6BD-4C27-9B6D-8D5EA6179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hacer esta presentación,  leer el Material Informativo MP M08U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2F85-7AAB-4BDF-9C5E-56E3A7060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2866-B53E-4B86-8A89-84E7233BF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s mapas  mentales ilustran las grandes diferencias en las percepciones sostenidas por las distintas partes interes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C43-8326-4552-99DE-AF84DEDB3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9B8-2B40-413D-8669-0ADC57A81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01B-4386-4778-8E20-A70DDAA5E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648-7057-4CD2-93DF-0D2614C55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5670-3F77-48A9-9A0D-08D3BAFDE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ADFF-E602-4ED4-B337-96583A254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l mapeo  en la tierra y el mapeo en croquis son los tipos de mapeo más comúnmente utilizados en comparación con otras tipologías SIGP tales como mapeo de fotos aéreas, Sistemas de Posicionamiento  Global (SPG) e imágenes sateli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F53E-16EF-4B71-86A0-75C1AE36D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ueden utilizarse distintos materiales para el mapeo en la tierra, dependiendo de qué materiales están disponibles. La cultura, la religión y la ubicación geográfica pueden influir sobre la elección de los materiales.  Por ejemplo, algunas comunidades no usarán ciertas partes de las plantas debido a barreras cultur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550B-3E73-4A3A-B872-F62A261A6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l paisaje físico se refiere a características topográficas y naturales. Las topográficas incluyen colinas, valles, planicies y costas.  Las naturales incluyen suelos, agua (ríos, lagos) plantas y ani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l paisaje cultural se refiere a las características que dan forma a las valores sociales, las normas, las prácticas y la espiritualidad de una comunidad. Estas incluyen los sitios sagrados, los de danza y los de circunci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A53-B9EF-4387-963B-22B5964ED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mapeo en croquis es más minucioso que el mapeo en la tierra porque utiliza medios portátiles, como papel  y requiere que la información sea escrita en el pap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s características naturales pueden representarse utilizando elementos de la naturaleza; por ejemplo,  hojas, ramitas, piedras, sobre el medio del ma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80B4-5991-40D0-B42D-23D68E816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A6C6-DEE4-4D47-9619-13367B93B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a información se preserva al registrarla.  La leyenda podría ser un documento independiente o dibujada dentro del ma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648-C32D-4719-A5AA-819AED615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contexto ecológico incluye  bosques, cuencas, lagos, humedal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contexto de producción incluye agricultura, industria, áreas de pesca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l contexto social incluye la aldea, escuela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ferirse al Ejercicio No. 2 :  Recorrido de transe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74DF-06DE-4012-9162-4348498DA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8509-68BA-46CA-A6DD-3EC3942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EB90-1CD3-4C43-A997-133B555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42BE-A0F3-4064-8DB2-93A6DBF01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0B7AA-28CC-4D91-BFAB-41C21541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E71BB-B6F8-4828-BB06-27218FA2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9D763-15AE-471E-87BA-742E87FE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76FC6-BD80-4951-B67E-887A129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B60ED-08C4-4708-A077-F5E4C673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71D99-44C3-405A-B7A3-2D487961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09269-3609-40CE-B90F-DEA3843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BFCC-DCCA-4845-8487-1BA409F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2E611-B0A0-4BC3-BA27-0CAC52F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D9A83-C372-41B1-B057-BF714E2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D4290-BF2E-4E0A-972C-7A3549D7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970B0-72F0-4164-B61E-BBCEB9FE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96A7F-A74C-425D-B541-2BA8494A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B763-C147-4186-B27C-1972F38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4792-42FA-4722-868B-2B4BE9DE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B208-37C5-4493-9701-B41D9F40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F4DD-BF4D-4A2A-8E05-166ADDD0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E9D4-A8C7-45C0-B7B9-9ACE7133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A566-3250-4179-BE5F-4C72EBAA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B886-42D1-4A7A-99DC-EFEB87A2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02B2-454A-436B-8A5A-5310ADED14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02F7-027C-4D9B-80FA-1239A43646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 en la Tierra y Mapeo en Croqu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919240" y="5157720"/>
            <a:ext cx="38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Por: </a:t>
            </a:r>
            <a:r>
              <a:rPr b="0" lang="es-AR" sz="1800" spc="-1" strike="noStrike">
                <a:solidFill>
                  <a:srgbClr val="595959"/>
                </a:solidFill>
                <a:latin typeface="Arial"/>
              </a:rPr>
              <a:t>Julius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 Muchemi (ERMIS Áf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8U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rrido de Transec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263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yuda 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rmonizar el entendimiento de las partes interesadas sobre el contexto del mape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Hacer observaciones y confirmar las realidades en el campo de los resultados del mapeo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rovocar una discusión basada en la realidad sobre problemáticas, limitaciones y potencial para abordarl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Diagramar las características del paisaje y temas relacionad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nalizar, planificar y monitorear iniciativas de desarroll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rrido de Transec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recorrido de transecto ayuda a verificar la realidad del terren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racterísticas hechas por el hombre; por ejemplo, infraestructura,  mercados locales y escuel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racterísticas naturales; por ejemplo, tipos del uso de la tierra, zonas de vegetación, sitios culturales, colinas, lluvia, escarpes, valles, planicies y áreas coster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del Mapa Men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nálisis del mapa mental se utiliza par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lustrar que distintos grupos de personas dentro de las comunidades u organizaciones tienen distintas percepciones sobre el mismo espacio para el mape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características de mapas y determinar sus atributos, posición, patrones, tendencias y relacion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rtalez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munidades locales asumen un papel de liderazgo par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enerar información local y autócto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Visualizar las percepciones territoriales, habilidades y práctic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volucrar a usuarios no exper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artes interesadas pueden relacionarse con los productos del mape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rtalez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foques de mapeo de bajo cos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dependen de la tecnologí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ilitados sin dificultad porque son tácti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bilidad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Falta de precisión porque no se basan en mediciones exactas o una escala regular.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Como resultado, el mapeo en la tierra y el mapeo en croquis: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o son útiles para precisión sobre localización y aspectos cuantitativ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o se utilizan para determinar medidas cuantitativas, por ejemplo, tamaño, área, longitu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recen de autoridad ante los formuladores de políti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bilidad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nterpretación es subjetiva porque los datos no utilizan una escala regul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pas desaparecen cuando el viento sopl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quema de la Pres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troducció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apeo  en la tier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apeo en croqui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eyenda del map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corrido de transec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álisis del mapa men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ortalez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ilid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apeo  en la tierra y mapeo en croqui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étodos más comúnmente utiliz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decuados para introducir el mapeo a la comunida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7" name="Picture 3" descr="Karima eco-mapping 468.jpg"/>
          <p:cNvPicPr/>
          <p:nvPr/>
        </p:nvPicPr>
        <p:blipFill>
          <a:blip r:embed="rId1"/>
          <a:stretch/>
        </p:blipFill>
        <p:spPr>
          <a:xfrm>
            <a:off x="4500720" y="3286080"/>
            <a:ext cx="42145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 en la Tierr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3224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étodo de mapeo más básic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bujado en la tier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tiliza materias primas, como  suelo, guijarros, palos, hoja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0" name="Picture 4" descr="IM000299"/>
          <p:cNvPicPr/>
          <p:nvPr/>
        </p:nvPicPr>
        <p:blipFill>
          <a:blip r:embed="rId1"/>
          <a:stretch/>
        </p:blipFill>
        <p:spPr>
          <a:xfrm>
            <a:off x="3924360" y="1844640"/>
            <a:ext cx="4646520" cy="3065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000680" y="5084640"/>
            <a:ext cx="4674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acilitación de un ejercicio de desarrollo comunitario integral participativo en Somalia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oto cortesía de Julius Muchemi, ERMIS Á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 en la Tierr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participantes almacenan el conocimiento adquirido como mapas mentales y lo ordenan mentalmente cuando es neces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tilizados para mapear paisajes físicos y culturales como las comunidades los percibe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4" name="Picture 6" descr="MlingotiniPRA03"/>
          <p:cNvPicPr/>
          <p:nvPr/>
        </p:nvPicPr>
        <p:blipFill>
          <a:blip r:embed="rId1"/>
          <a:srcRect l="7552" t="0" r="0" b="0"/>
          <a:stretch/>
        </p:blipFill>
        <p:spPr>
          <a:xfrm>
            <a:off x="5440320" y="1928880"/>
            <a:ext cx="3246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 en Croqu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 método de mapeo un poco más minucioso que utiliza grandes hojas de papel de periódic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características son representadas con materiales naturales  o, más a menudo, con marcadores o tizas de color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7" name="Picture 3" descr="Karima eco-mapping 494.jpg"/>
          <p:cNvPicPr/>
          <p:nvPr/>
        </p:nvPicPr>
        <p:blipFill>
          <a:blip r:embed="rId1"/>
          <a:stretch/>
        </p:blipFill>
        <p:spPr>
          <a:xfrm>
            <a:off x="4929120" y="1785960"/>
            <a:ext cx="4025880" cy="34178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929120" y="5214960"/>
            <a:ext cx="4032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acilitando la elaboración de un mapa de manejo forestal participativo en el bosque Karima, Kenia.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oto cortesía de Julius Muchemi, ERMIS Á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 en Croqu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artes interesadas usualmente tienen una gama de elecciones sobr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ateriales a utilizar para el mapa en croqui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ímbolos a utilizar para visualizar las características desead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amaño de cada característica refleja la importancia que las partes interesadas le atribuy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a Leyenda del Map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información se preserva a través del proceso de document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registros se preservan en una leyenda y se interpretan utilizando los símbolos represent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3" name="Picture 4" descr="Karima eco-mapping 629.jpg"/>
          <p:cNvPicPr/>
          <p:nvPr/>
        </p:nvPicPr>
        <p:blipFill>
          <a:blip r:embed="rId1"/>
          <a:srcRect l="16668" t="9375" r="6943" b="11461"/>
          <a:stretch/>
        </p:blipFill>
        <p:spPr>
          <a:xfrm>
            <a:off x="4643280" y="1571760"/>
            <a:ext cx="3649680" cy="3828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4357800" y="5500800"/>
            <a:ext cx="4174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eyenda elaborada por comunidades locales para ayudar a la elaboración de un mapa en croquis para manejo forestal participativo en el bosque Karima, Kenia.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oto cortesía de Julius Muchemi, ERMIS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rrido de Transec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Un ejercicio para verificar la realidad del terreno transeccional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Atraviesa todo el paisaje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Cubre los contextos ecológico,  de producción y social a lo largo de la ruta elegida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00720" y="5143680"/>
            <a:ext cx="388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corrido de transecto  realizado en “El Nido”, Palawan. Enero – febrero de 1997. Programa Nacional Integral de Áreas Protegidas (NIPAP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daptado de Giacomo Rambal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ANLAG2"/>
          <p:cNvPicPr/>
          <p:nvPr/>
        </p:nvPicPr>
        <p:blipFill>
          <a:blip r:embed="rId1"/>
          <a:stretch/>
        </p:blipFill>
        <p:spPr>
          <a:xfrm>
            <a:off x="4071960" y="1928880"/>
            <a:ext cx="4829040" cy="3071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42:44Z</dcterms:created>
  <dc:creator>martens</dc:creator>
  <dc:description/>
  <cp:keywords>pgis training kit</cp:keywords>
  <dc:language>en-US</dc:language>
  <cp:lastModifiedBy>martens</cp:lastModifiedBy>
  <dcterms:modified xsi:type="dcterms:W3CDTF">2010-05-20T10:22:59Z</dcterms:modified>
  <cp:revision>89</cp:revision>
  <dc:subject/>
  <dc:title>Presentación - Mapeo en la tierra y mapeo en croqu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