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680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80808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808080"/>
                </a:solidFill>
                <a:latin typeface="Times New Roman"/>
                <a:ea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A9D0-7343-48BF-A9FA-8A7C718492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8C56-95CD-48C0-8F0C-0E026B8E04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fuese posible, colocar algunos ejemplos de mapas temáticos en las paredes del aula o lugar de reunión. Discutir el tema de cada mapa. ¿Cuáles son los elementos en la leyenda que ilustran ese tema? Preguntar a los participantes qué temas pueden ser pertinentes para su potencial proyecto de mapeo. ¿Qué mapas temáticos existentes (por ejemplo, mapas temáticos elaborados por el gobierno o la industria) son pertinentes para su potencial proyecto de mape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esta Unidad hay varios ejercicios para leer mapas topográficos. Esta parte de la presentación sirve como un breve panorama general. Si no hubiera mapas topográficos para el área o nación en la cual está teniendo lugar la capacitación, la presentación y los ejercicios sobre líneas de nivel puede omitirs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escala también se refiere a modelos. Traer una motocicleta de juguete. Medir el largo de una motocicleta de juguete y medir el largo de una real en centímetros. ¿Cuántas veces mayor es la motocicleta real que la de juguete? Eso es la escala. Utilizar cualquier tipo de objeto en diferentes tamaños para demostrar est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escalas gráficas se dibujan con diferentes diseños pero todas tienen una barra que muestra la distancia a escala real. Notar que es mejor practicar dibujar una escala gráfica al crear un mapa porque entonces la escala real siempre puede ser determinada si se hacen fotocopias, se toma una fotografía digital o se cambia la escala.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escala numérica nos habla sobre la escala del mapa en forma algebraic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iscutir la escala relativa. Si hubiera mapas modelo en el aula, discutir cuáles serían considerados de pequeña escala y cuáles de mediana o gran escala. Buscar en la tabla en el material informativo sobre el tamaño del área de tierra un mapa a pequeña, mediana o gran escala. Discutir la escala relativa que los participantes en el mapa utilizarán en el potencial proyecto de mape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Unidad constituye un requisito previo para las siguientes Unidades del Módulo 9, y por lo tanto esta presentación sirve como introducción para el Módul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iscutir con el grupo la convención local para hablar sobre dirección. ¿Hay un concepto local para norte, sur, este y oeste? ¿Existen hitos  que sean utilizados para orientación a cambio? ¿Están las personas acostumbradas a mirar la estrellas o el sol para orientars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ender la diferencia entre norte magnético, norte del cuadriculado y norte verdadero es particularmente importante si se utiliza una brújula magnética con un mapa. Si no se utiliza una brújula, es suficiente ser capaz de identificar las líneas del cuadriculado.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ender el cuadriculado del mapa es particularmente importante si los participantes usarán GPS o SIG digitales. Si fuese posible, tener un globo terráqueo disponible para mostrar el cuadriculado. Los ejercicios 9 y 10 sobre sistemas de coordenadas ayudarán con el entendimiento de puntos de coordenadas y sistemas de cuadriculado.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o se muestra mejor en un globo terráqueo tridimensional.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er el Ejercicio 10, “Sistemas de Coordenadas y Proyecciones”. En forma alternativa, puede realizarse como una demostración a esta altura en la present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sted podría presentar preguntas al grupo. Por ejemplo, “¿Ha tenido alguna experiencia con mapas a escala?”). Esté preparado con ejemplos de mapas a escala que pueda hacer circular en el aula .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diagrama del sistema de cuadriculado UTM muestra cómo se aplana el globo terráqueo tridimensional para hacer un mapa bidimensional. El cuadriculado UTM proporciona una convención para ubicar lugares en el globo y también para crear mapas locales que estén de acuerdo con la convención.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iscutir las fortalezas de los mapas a escala. Antes de mostrar esta diapositiva, preguntar a los participantes sus ideas sobre las fortalezas de los mapas a escala en sus propias palabra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iscutir las limitaciones de los mapas a escala. Antes de mostrar esta diapositiva, preguntar a los participantes sus ideas sobre las limitaciones de los mapas a escala en sus propias palab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un ejemplo de un mapa topográfico en la pared y señalar o hacer que un participante señale, cada uno de estos elemento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iscutir los símbolos. ¿Cuáles son los símbolos comunes que vemos a nuestro alrededor todos los días? Un ejemplo lo constituyen los símbolos en señales de tránsito. ¿Por qué se utilizan los símbolos en señales de tránsito? ¡Para transmitir un mensaje rápidamente! Hay un dicho que dice “una imagen vale más que mil palabra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apas base son como el esqueleto. Toda la restante información en el mapa se estructura y ubica de acuerdo con el esquelet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ostrar ejemplos de uno o más mapas bas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38B44C-D440-4D59-8B7F-F1AA7DC168A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26FB7CB4-6307-4CD8-BFFD-74BDB0837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74A4D73-4E68-49DD-8A16-AA019526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4C51F173-BA42-44BD-9E01-53615C8BC9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2900C9EB-88D5-4BED-B304-D95064B76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55350B8-E3E0-4B56-BE9C-27B412443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9634F80-24DC-4464-9099-2C10AAED3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0407311-20AE-4982-8172-027000D64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B14844C-87F4-490A-9E87-0DF7726CF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82760" y="299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9017B55-B1D0-49DC-A48E-550DA8744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E9633B8-E242-4C6B-B428-0A555B5529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2CCFEA16-99E9-43B0-ADDB-9C866D50B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A5539FE-AB33-4550-8D21-A14C81E0F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5621E97-E466-4C37-9AE9-EF778EA32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DDB0452-B4A2-49FE-8381-D57A31F9D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E131C7F-DAC9-4512-B6D2-A09B470C7F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5A6ECAE-4E43-4E4F-8792-8514ED1EA5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BC62402-B6C5-4567-82ED-FD7F3BC51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73256D8-AF8E-4155-BB7B-18E76914E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4098B2D1-671B-4D48-B593-5A5DA5069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82760" y="299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6DBBB65D-F01D-4215-880C-38270F5FA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CE96C4E-348D-447E-B73B-35DF54C46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B01D52B-CA1F-451E-81C1-B5958F0EE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887581E-278E-40D4-AA08-B07200E26A7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C083-386A-4A6E-B616-30A2021EAB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82760" y="299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91A0-16BC-4199-9D73-57F12CC744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hyperlink" Target="http://creativecommons.org/licenses/by-nc-sa/3.0/" TargetMode="External"/><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Introducción al Mapeo a Escala y a la Cartografía Básica</a:t>
            </a:r>
            <a:endParaRPr b="0" lang="en-US" sz="4000" spc="-1" strike="noStrike">
              <a:solidFill>
                <a:srgbClr val="cc3300"/>
              </a:solidFill>
              <a:latin typeface="Arial"/>
            </a:endParaRPr>
          </a:p>
        </p:txBody>
      </p:sp>
      <p:pic>
        <p:nvPicPr>
          <p:cNvPr id="91"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2" name="Text Box 1031"/>
          <p:cNvSpPr/>
          <p:nvPr/>
        </p:nvSpPr>
        <p:spPr>
          <a:xfrm>
            <a:off x="631800" y="62802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09U01</a:t>
            </a:r>
            <a:endParaRPr b="0" lang="en-US" sz="1800" spc="-1" strike="noStrike">
              <a:solidFill>
                <a:srgbClr val="000000"/>
              </a:solidFill>
              <a:latin typeface="Arial"/>
            </a:endParaRPr>
          </a:p>
        </p:txBody>
      </p:sp>
      <p:pic>
        <p:nvPicPr>
          <p:cNvPr id="93" name="Picture 1032" descr="cc_license_by-nc-sa">
            <a:hlinkClick r:id="rId3"/>
          </p:cNvPr>
          <p:cNvPicPr/>
          <p:nvPr/>
        </p:nvPicPr>
        <p:blipFill>
          <a:blip r:embed="rId4"/>
          <a:stretch/>
        </p:blipFill>
        <p:spPr>
          <a:xfrm>
            <a:off x="4165560" y="6373800"/>
            <a:ext cx="838080" cy="295200"/>
          </a:xfrm>
          <a:prstGeom prst="rect">
            <a:avLst/>
          </a:prstGeom>
          <a:ln w="0">
            <a:noFill/>
          </a:ln>
        </p:spPr>
      </p:pic>
      <p:sp>
        <p:nvSpPr>
          <p:cNvPr id="94" name="Rectangle 1033"/>
          <p:cNvSpPr/>
          <p:nvPr/>
        </p:nvSpPr>
        <p:spPr>
          <a:xfrm>
            <a:off x="3676320" y="450540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as Temáticos</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58920" indent="-35892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scriben un tema o materia específicos sobre una determinada área geográfica.</a:t>
            </a:r>
            <a:endParaRPr b="0" lang="en-US" sz="3200" spc="-1" strike="noStrike">
              <a:solidFill>
                <a:srgbClr val="5f5f5f"/>
              </a:solidFill>
              <a:latin typeface="Arial"/>
            </a:endParaRPr>
          </a:p>
          <a:p>
            <a:pPr marL="358920" indent="-358920">
              <a:lnSpc>
                <a:spcPct val="90000"/>
              </a:lnSpc>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5f5f5f"/>
                </a:solidFill>
                <a:latin typeface="Arial"/>
              </a:rPr>
              <a:t>Ilustran aspectos físicos, sociales, políticos, culturales, económicos, sociológicos, agrícolas u otros de un lugar.</a:t>
            </a:r>
            <a:endParaRPr b="0" lang="en-US" sz="3600" spc="-1" strike="noStrike">
              <a:solidFill>
                <a:srgbClr val="5f5f5f"/>
              </a:solidFill>
              <a:latin typeface="Arial"/>
            </a:endParaRPr>
          </a:p>
          <a:p>
            <a:pPr marL="358920" indent="-35892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58920" indent="-358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jemplos </a:t>
            </a:r>
            <a:r>
              <a:rPr b="0" lang="es-AR" sz="4400" spc="-1" strike="noStrike">
                <a:solidFill>
                  <a:srgbClr val="cc3300"/>
                </a:solidFill>
                <a:latin typeface="Arial"/>
              </a:rPr>
              <a:t>de</a:t>
            </a:r>
            <a:r>
              <a:rPr b="0" lang="en-US" sz="4400" spc="-1" strike="noStrike">
                <a:solidFill>
                  <a:srgbClr val="cc3300"/>
                </a:solidFill>
                <a:latin typeface="Arial"/>
              </a:rPr>
              <a:t> Mapas Temáticos</a:t>
            </a:r>
            <a:endParaRPr b="0" lang="en-US" sz="4400" spc="-1" strike="noStrike">
              <a:solidFill>
                <a:srgbClr val="cc3300"/>
              </a:solidFill>
              <a:latin typeface="Arial"/>
            </a:endParaRPr>
          </a:p>
        </p:txBody>
      </p:sp>
      <p:graphicFrame>
        <p:nvGraphicFramePr>
          <p:cNvPr id="114" name=""/>
          <p:cNvGraphicFramePr/>
          <p:nvPr/>
        </p:nvGraphicFramePr>
        <p:xfrm>
          <a:off x="457200" y="1600200"/>
          <a:ext cx="8229600" cy="4579920"/>
        </p:xfrm>
        <a:graphic>
          <a:graphicData uri="http://schemas.openxmlformats.org/drawingml/2006/table">
            <a:tbl>
              <a:tblPr/>
              <a:tblGrid>
                <a:gridCol w="2455920"/>
                <a:gridCol w="2646360"/>
                <a:gridCol w="312732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Mapas temáticos comuni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Mapas temáticos de la indust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Mapas del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36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Límites consuetudinari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Mapas geológicos para explotación mine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Planificación reg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45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Uso local de los recursos, como ca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Mapas de inventario de made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Planes de desarrollo de los recurs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Uso local de la tierra, como cultiv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Mapas de tipos de suel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Veg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02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Conocimiento y uso de las plantas loc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Áreas de licenci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Sue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7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Eventos históricos loc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Pendi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01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Áreas y sitios sagr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Cli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07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Propiedad de la tierra famili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Relevamiento de la tier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0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Distribución de la rique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Clasificación de la tier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Distribución de la pobl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as Topográficos</a:t>
            </a:r>
            <a:endParaRPr b="0" lang="en-US" sz="4400" spc="-1" strike="noStrike">
              <a:solidFill>
                <a:srgbClr val="cc3300"/>
              </a:solidFill>
              <a:latin typeface="Arial"/>
            </a:endParaRPr>
          </a:p>
        </p:txBody>
      </p:sp>
      <p:sp>
        <p:nvSpPr>
          <p:cNvPr id="116" name=""/>
          <p:cNvSpPr txBox="1"/>
          <p:nvPr/>
        </p:nvSpPr>
        <p:spPr>
          <a:xfrm>
            <a:off x="457200" y="1600200"/>
            <a:ext cx="4495680" cy="41911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tipo más común de mapa base.</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pografía significa forma y elevación de la tierra.</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topografía se muestra con líneas de nivel.</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7" name="Picture 6" descr="topo2.jpg"/>
          <p:cNvPicPr/>
          <p:nvPr/>
        </p:nvPicPr>
        <p:blipFill>
          <a:blip r:embed="rId1"/>
          <a:stretch/>
        </p:blipFill>
        <p:spPr>
          <a:xfrm>
            <a:off x="5181480" y="1379520"/>
            <a:ext cx="3124440" cy="45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íneas de Nivel</a:t>
            </a:r>
            <a:endParaRPr b="0" lang="en-US" sz="4400" spc="-1" strike="noStrike">
              <a:solidFill>
                <a:srgbClr val="cc3300"/>
              </a:solidFill>
              <a:latin typeface="Arial"/>
            </a:endParaRPr>
          </a:p>
        </p:txBody>
      </p:sp>
      <p:sp>
        <p:nvSpPr>
          <p:cNvPr id="119" name=""/>
          <p:cNvSpPr txBox="1"/>
          <p:nvPr/>
        </p:nvSpPr>
        <p:spPr>
          <a:xfrm>
            <a:off x="457200" y="1599840"/>
            <a:ext cx="5410080" cy="42670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dican la altura o elevación de la tierra por encima del nivel del mar.</a:t>
            </a:r>
            <a:endParaRPr b="0" lang="en-US" sz="3200" spc="-1" strike="noStrike">
              <a:solidFill>
                <a:srgbClr val="5f5f5f"/>
              </a:solidFill>
              <a:latin typeface="Arial"/>
            </a:endParaRPr>
          </a:p>
        </p:txBody>
      </p:sp>
      <p:pic>
        <p:nvPicPr>
          <p:cNvPr id="120" name="Picture 5" descr="21.jpg"/>
          <p:cNvPicPr/>
          <p:nvPr/>
        </p:nvPicPr>
        <p:blipFill>
          <a:blip r:embed="rId1"/>
          <a:stretch/>
        </p:blipFill>
        <p:spPr>
          <a:xfrm>
            <a:off x="4325760" y="3022560"/>
            <a:ext cx="4200840" cy="234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íneas de Nivel</a:t>
            </a:r>
            <a:endParaRPr b="0" lang="en-US" sz="4400" spc="-1" strike="noStrike">
              <a:solidFill>
                <a:srgbClr val="cc3300"/>
              </a:solidFill>
              <a:latin typeface="Arial"/>
            </a:endParaRPr>
          </a:p>
        </p:txBody>
      </p:sp>
      <p:sp>
        <p:nvSpPr>
          <p:cNvPr id="122" name="PlaceHolder 2"/>
          <p:cNvSpPr>
            <a:spLocks noGrp="1"/>
          </p:cNvSpPr>
          <p:nvPr>
            <p:ph/>
          </p:nvPr>
        </p:nvSpPr>
        <p:spPr>
          <a:xfrm>
            <a:off x="456840" y="1510920"/>
            <a:ext cx="5295960" cy="4614840"/>
          </a:xfrm>
          <a:prstGeom prst="rect">
            <a:avLst/>
          </a:prstGeom>
          <a:noFill/>
          <a:ln w="0">
            <a:noFill/>
          </a:ln>
        </p:spPr>
        <p:txBody>
          <a:bodyPr anchor="t">
            <a:normAutofit/>
          </a:bodyPr>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patrón de las líneas de nivel muestra la forma del terreno.</a:t>
            </a:r>
            <a:endParaRPr b="0" lang="en-US" sz="3200" spc="-1" strike="noStrike">
              <a:solidFill>
                <a:srgbClr val="5f5f5f"/>
              </a:solidFill>
              <a:latin typeface="Arial"/>
            </a:endParaRPr>
          </a:p>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tar que las líneas de nivel:</a:t>
            </a:r>
            <a:endParaRPr b="0" lang="en-US" sz="32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unca son derechas. </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unca se cruzan entre sí.</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iempre cruzan los ríos.</a:t>
            </a:r>
            <a:endParaRPr b="0" lang="en-US" sz="2800" spc="-1" strike="noStrike">
              <a:solidFill>
                <a:srgbClr val="5f5f5f"/>
              </a:solidFill>
              <a:latin typeface="Arial"/>
            </a:endParaRPr>
          </a:p>
          <a:p>
            <a:pPr marL="358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3" name="Picture 4" descr="22a.jpg"/>
          <p:cNvPicPr/>
          <p:nvPr/>
        </p:nvPicPr>
        <p:blipFill>
          <a:blip r:embed="rId1"/>
          <a:stretch/>
        </p:blipFill>
        <p:spPr>
          <a:xfrm>
            <a:off x="5443560" y="1600200"/>
            <a:ext cx="370044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82760" y="299520"/>
            <a:ext cx="84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quidistancia de las Líneas de Nivel</a:t>
            </a:r>
            <a:endParaRPr b="0" lang="en-US" sz="4000" spc="-1" strike="noStrike">
              <a:solidFill>
                <a:srgbClr val="cc3300"/>
              </a:solidFill>
              <a:latin typeface="Arial"/>
            </a:endParaRPr>
          </a:p>
        </p:txBody>
      </p:sp>
      <p:sp>
        <p:nvSpPr>
          <p:cNvPr id="125" name=""/>
          <p:cNvSpPr txBox="1"/>
          <p:nvPr/>
        </p:nvSpPr>
        <p:spPr>
          <a:xfrm>
            <a:off x="456840" y="1600200"/>
            <a:ext cx="4724280" cy="41911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distancia vertical entre dos líneas de nivel adyacentes.</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misma para todas las líneas de nivel en el mapa.</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pende de la escala del mapa.</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6" name="Picture 5" descr="contourInterval.jpg"/>
          <p:cNvPicPr/>
          <p:nvPr/>
        </p:nvPicPr>
        <p:blipFill>
          <a:blip r:embed="rId1"/>
          <a:stretch/>
        </p:blipFill>
        <p:spPr>
          <a:xfrm>
            <a:off x="5095800" y="1828800"/>
            <a:ext cx="333540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significa escala?</a:t>
            </a:r>
            <a:endParaRPr b="0" lang="en-US" sz="4400" spc="-1" strike="noStrike">
              <a:solidFill>
                <a:srgbClr val="cc33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 la escala se trata de la distancia. ¿Cuán largo? ¿Cuán lejos? ¿Cuán ancho? ¿Cuán lejos en el mapa y cuán lejos en el terren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 mapa dibujado a escala significa que la distancia entre dos puntos cualesquiera en el dibujo está en proporción con la distancia en el terreno.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ómo se escribe la escala?</a:t>
            </a:r>
            <a:endParaRPr b="0" lang="en-US" sz="4400" spc="-1" strike="noStrike">
              <a:solidFill>
                <a:srgbClr val="cc33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escala numérica se escribe de esta forma: 1:25.000.</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dice de esta forma: “escala de uno a veinticinco mil”.</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muestra como una escala gráfica en esta forma:</a:t>
            </a:r>
            <a:endParaRPr b="0" lang="en-US" sz="2800" spc="-1" strike="noStrike">
              <a:solidFill>
                <a:srgbClr val="5f5f5f"/>
              </a:solidFill>
              <a:latin typeface="Arial"/>
            </a:endParaRPr>
          </a:p>
        </p:txBody>
      </p:sp>
      <p:pic>
        <p:nvPicPr>
          <p:cNvPr id="131" name="Picture 5" descr="06scale.jpg"/>
          <p:cNvPicPr/>
          <p:nvPr/>
        </p:nvPicPr>
        <p:blipFill>
          <a:blip r:embed="rId1"/>
          <a:stretch/>
        </p:blipFill>
        <p:spPr>
          <a:xfrm>
            <a:off x="2514600" y="3962520"/>
            <a:ext cx="4022640" cy="197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scala 1:25.000</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1 centímetro (cm) en un mapa = 25.000 cm en el terren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1 cm en el mapa = 250 metros (m) en el terren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4 cm en el mapa = 1 kilómetro (km) en el terren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scala Relativa</a:t>
            </a:r>
            <a:endParaRPr b="0" lang="en-US" sz="4400" spc="-1" strike="noStrike">
              <a:solidFill>
                <a:srgbClr val="cc3300"/>
              </a:solidFill>
              <a:latin typeface="Arial"/>
            </a:endParaRPr>
          </a:p>
        </p:txBody>
      </p:sp>
      <p:sp>
        <p:nvSpPr>
          <p:cNvPr id="135" name=""/>
          <p:cNvSpPr txBox="1"/>
          <p:nvPr/>
        </p:nvSpPr>
        <p:spPr>
          <a:xfrm>
            <a:off x="456840" y="1599840"/>
            <a:ext cx="4267080" cy="4343400"/>
          </a:xfrm>
          <a:prstGeom prst="rect">
            <a:avLst/>
          </a:prstGeom>
          <a:noFill/>
          <a:ln w="0">
            <a:noFill/>
          </a:ln>
        </p:spPr>
        <p:txBody>
          <a:bodyPr anchor="t">
            <a:normAutofit fontScale="96000"/>
          </a:bodyPr>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mapas pueden ser a pequeña, mediana o gran escala.</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pa a gran escala: menor área, más detalle, más específico.</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pa a pequeña escala: mayor área, menos detalle, más general.</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136" name="Picture 4" descr="08a.jpg"/>
          <p:cNvPicPr/>
          <p:nvPr/>
        </p:nvPicPr>
        <p:blipFill>
          <a:blip r:embed="rId1"/>
          <a:stretch/>
        </p:blipFill>
        <p:spPr>
          <a:xfrm>
            <a:off x="4946760" y="1600200"/>
            <a:ext cx="331452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a presentación cubr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introducción a los mapas a escala, qué son y cómo se elaboran.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introducción a la cartografía básica y las convenciones estándar en la elaboración de mapa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rección en un Mapa</a:t>
            </a:r>
            <a:endParaRPr b="0" lang="en-US" sz="4400" spc="-1" strike="noStrike">
              <a:solidFill>
                <a:srgbClr val="cc3300"/>
              </a:solidFill>
              <a:latin typeface="Arial"/>
            </a:endParaRPr>
          </a:p>
        </p:txBody>
      </p:sp>
      <p:sp>
        <p:nvSpPr>
          <p:cNvPr id="138" name=""/>
          <p:cNvSpPr txBox="1"/>
          <p:nvPr/>
        </p:nvSpPr>
        <p:spPr>
          <a:xfrm>
            <a:off x="457200" y="1600200"/>
            <a:ext cx="4495680" cy="4038480"/>
          </a:xfrm>
          <a:prstGeom prst="rect">
            <a:avLst/>
          </a:prstGeom>
          <a:noFill/>
          <a:ln w="0">
            <a:noFill/>
          </a:ln>
        </p:spPr>
        <p:txBody>
          <a:bodyPr anchor="t">
            <a:normAutofit fontScale="88000"/>
          </a:bodyPr>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r qué se dibujan los mapas con el norte hacia arriba? Esta es una convención estándar.</a:t>
            </a:r>
            <a:endParaRPr b="0" lang="en-US" sz="3200" spc="-1" strike="noStrike">
              <a:solidFill>
                <a:srgbClr val="5f5f5f"/>
              </a:solidFill>
              <a:latin typeface="Arial"/>
            </a:endParaRPr>
          </a:p>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brújulas están hechas para medir hacia el norte magnético de la Tierra. </a:t>
            </a:r>
            <a:endParaRPr b="0" lang="en-US" sz="3200" spc="-1" strike="noStrike">
              <a:solidFill>
                <a:srgbClr val="5f5f5f"/>
              </a:solidFill>
              <a:latin typeface="Arial"/>
            </a:endParaRPr>
          </a:p>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9" name="Picture 4" descr="11.jpg"/>
          <p:cNvPicPr/>
          <p:nvPr/>
        </p:nvPicPr>
        <p:blipFill>
          <a:blip r:embed="rId1"/>
          <a:stretch/>
        </p:blipFill>
        <p:spPr>
          <a:xfrm>
            <a:off x="5257800" y="1981080"/>
            <a:ext cx="3029040" cy="310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ónde está el norte? </a:t>
            </a:r>
            <a:endParaRPr b="0" lang="en-US" sz="4400" spc="-1" strike="noStrike">
              <a:solidFill>
                <a:srgbClr val="cc33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amos mirando al norte cuando nuestra mano izquierda apunta al oeste, por donde se pone el sol y nuestra mano derecha apunta al este, por donde el sol s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samos una brújula para medir la ubicación del norte. La aguja magnética siempre apunta al norte.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Norte en el Mapa</a:t>
            </a:r>
            <a:endParaRPr b="0" lang="en-US" sz="4400" spc="-1" strike="noStrike">
              <a:solidFill>
                <a:srgbClr val="cc3300"/>
              </a:solidFill>
              <a:latin typeface="Arial"/>
            </a:endParaRPr>
          </a:p>
        </p:txBody>
      </p:sp>
      <p:sp>
        <p:nvSpPr>
          <p:cNvPr id="143" name=""/>
          <p:cNvSpPr txBox="1"/>
          <p:nvPr/>
        </p:nvSpPr>
        <p:spPr>
          <a:xfrm>
            <a:off x="456840" y="1600200"/>
            <a:ext cx="5638680" cy="411480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norte magnético se mide mediante una brújul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norte del cuadriculado sigue las líneas del cuadriculado del sistema de coordenadas sobre el cual está elaborado el map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norte verdadero corresponde al eje de la tierra, el Polo Norte.</a:t>
            </a:r>
            <a:endParaRPr b="0" lang="en-US" sz="2800" spc="-1" strike="noStrike">
              <a:solidFill>
                <a:srgbClr val="5f5f5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144" name="Picture 4" descr="14c.jpg"/>
          <p:cNvPicPr/>
          <p:nvPr/>
        </p:nvPicPr>
        <p:blipFill>
          <a:blip r:embed="rId1"/>
          <a:stretch/>
        </p:blipFill>
        <p:spPr>
          <a:xfrm>
            <a:off x="6400800" y="1600200"/>
            <a:ext cx="2514600" cy="259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eclinación Magnética</a:t>
            </a:r>
            <a:endParaRPr b="0" lang="en-US" sz="4400" spc="-1" strike="noStrike">
              <a:solidFill>
                <a:srgbClr val="cc33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diferencia o ángulo entre norte magnético y norte verdader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cálculo para la diferencia se muestra en un mapa topográfic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justar su brújula en consecuencia.</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edir Dirección en un Mapa</a:t>
            </a:r>
            <a:endParaRPr b="0" lang="en-US" sz="4400" spc="-1" strike="noStrike">
              <a:solidFill>
                <a:srgbClr val="cc3300"/>
              </a:solidFill>
              <a:latin typeface="Arial"/>
            </a:endParaRPr>
          </a:p>
        </p:txBody>
      </p:sp>
      <p:sp>
        <p:nvSpPr>
          <p:cNvPr id="148" name=""/>
          <p:cNvSpPr txBox="1"/>
          <p:nvPr/>
        </p:nvSpPr>
        <p:spPr>
          <a:xfrm>
            <a:off x="457200" y="1600200"/>
            <a:ext cx="4114800" cy="3733920"/>
          </a:xfrm>
          <a:prstGeom prst="rect">
            <a:avLst/>
          </a:prstGeom>
          <a:noFill/>
          <a:ln w="0">
            <a:noFill/>
          </a:ln>
        </p:spPr>
        <p:txBody>
          <a:bodyPr anchor="t">
            <a:normAutofit fontScale="88000"/>
          </a:bodyPr>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r un transportador o brújula para medir los grados o ángulo desde la línea de norte.</a:t>
            </a:r>
            <a:endParaRPr b="0" lang="en-US" sz="3200" spc="-1" strike="noStrike">
              <a:solidFill>
                <a:srgbClr val="5f5f5f"/>
              </a:solidFill>
              <a:latin typeface="Arial"/>
            </a:endParaRPr>
          </a:p>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mbos se miden utilizando un círculo de 360 grados.</a:t>
            </a:r>
            <a:endParaRPr b="0" lang="en-US" sz="3200" spc="-1" strike="noStrike">
              <a:solidFill>
                <a:srgbClr val="5f5f5f"/>
              </a:solidFill>
              <a:latin typeface="Arial"/>
            </a:endParaRPr>
          </a:p>
        </p:txBody>
      </p:sp>
      <p:pic>
        <p:nvPicPr>
          <p:cNvPr id="149" name="Picture 4" descr="14.jpg"/>
          <p:cNvPicPr/>
          <p:nvPr/>
        </p:nvPicPr>
        <p:blipFill>
          <a:blip r:embed="rId1"/>
          <a:stretch/>
        </p:blipFill>
        <p:spPr>
          <a:xfrm>
            <a:off x="4702320" y="1905120"/>
            <a:ext cx="335592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Cuadriculado del Mapa</a:t>
            </a:r>
            <a:endParaRPr b="0" lang="en-US" sz="4400" spc="-1" strike="noStrike">
              <a:solidFill>
                <a:srgbClr val="cc3300"/>
              </a:solidFill>
              <a:latin typeface="Arial"/>
            </a:endParaRPr>
          </a:p>
        </p:txBody>
      </p:sp>
      <p:sp>
        <p:nvSpPr>
          <p:cNvPr id="151" name=""/>
          <p:cNvSpPr txBox="1"/>
          <p:nvPr/>
        </p:nvSpPr>
        <p:spPr>
          <a:xfrm>
            <a:off x="4038480" y="1600200"/>
            <a:ext cx="4572000" cy="4572000"/>
          </a:xfrm>
          <a:prstGeom prst="rect">
            <a:avLst/>
          </a:prstGeom>
          <a:noFill/>
          <a:ln w="0">
            <a:noFill/>
          </a:ln>
        </p:spPr>
        <p:txBody>
          <a:bodyPr anchor="t">
            <a:normAutofit fontScale="99000"/>
          </a:bodyPr>
          <a:p>
            <a:pPr marL="339480" indent="-3394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íneas imaginarias que atraviesan el globo terráqueo.</a:t>
            </a:r>
            <a:endParaRPr b="0" lang="en-US" sz="2800" spc="-1" strike="noStrike">
              <a:solidFill>
                <a:srgbClr val="5f5f5f"/>
              </a:solidFill>
              <a:latin typeface="Arial"/>
            </a:endParaRPr>
          </a:p>
          <a:p>
            <a:pPr marL="339480" indent="-3394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meridianos se dibujan de norte a sur.</a:t>
            </a:r>
            <a:endParaRPr b="0" lang="en-US" sz="2800" spc="-1" strike="noStrike">
              <a:solidFill>
                <a:srgbClr val="5f5f5f"/>
              </a:solidFill>
              <a:latin typeface="Arial"/>
            </a:endParaRPr>
          </a:p>
          <a:p>
            <a:pPr marL="339480" indent="-3394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paralelos se dibujan de este a oeste.</a:t>
            </a:r>
            <a:endParaRPr b="0" lang="en-US" sz="2800" spc="-1" strike="noStrike">
              <a:solidFill>
                <a:srgbClr val="5f5f5f"/>
              </a:solidFill>
              <a:latin typeface="Arial"/>
            </a:endParaRPr>
          </a:p>
          <a:p>
            <a:pPr marL="339480" indent="-3394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onde se cruzan las líneas es un punto de coordenadas.</a:t>
            </a:r>
            <a:endParaRPr b="0" lang="en-US" sz="2800" spc="-1" strike="noStrike">
              <a:solidFill>
                <a:srgbClr val="5f5f5f"/>
              </a:solidFill>
              <a:latin typeface="Arial"/>
            </a:endParaRPr>
          </a:p>
        </p:txBody>
      </p:sp>
      <p:pic>
        <p:nvPicPr>
          <p:cNvPr id="152" name="Picture 4" descr="globalgrid.jpg"/>
          <p:cNvPicPr/>
          <p:nvPr/>
        </p:nvPicPr>
        <p:blipFill>
          <a:blip r:embed="rId1"/>
          <a:stretch/>
        </p:blipFill>
        <p:spPr>
          <a:xfrm>
            <a:off x="609480" y="1811160"/>
            <a:ext cx="3313080" cy="293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istemas de Coordenadas</a:t>
            </a:r>
            <a:endParaRPr b="0" lang="en-US" sz="4400" spc="-1" strike="noStrike">
              <a:solidFill>
                <a:srgbClr val="cc33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os sistemas de coordenadas comunes so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Sistema de Coordenadas Geográfic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Sistema de Coordenadas Universal Transversal de Mercator (UTM)</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02680" y="299520"/>
            <a:ext cx="877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Sistema de Coordenadas Geográficas</a:t>
            </a:r>
            <a:endParaRPr b="0" lang="en-US" sz="4000" spc="-1" strike="noStrike">
              <a:solidFill>
                <a:srgbClr val="cc33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líneas de latitud corren de este a oeste y son paralel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líneas de longitud corren de norte a sur.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líneas se numeran en grados, minutos y segundos, como cuando se lee un reloj.</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r qué grados? Porque los ángulos siempre se miden en grado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atitud-Longitud</a:t>
            </a:r>
            <a:endParaRPr b="0" lang="en-US" sz="4400" spc="-1" strike="noStrike">
              <a:solidFill>
                <a:srgbClr val="cc3300"/>
              </a:solidFill>
              <a:latin typeface="Arial"/>
            </a:endParaRPr>
          </a:p>
        </p:txBody>
      </p:sp>
      <p:pic>
        <p:nvPicPr>
          <p:cNvPr id="158" name="Content Placeholder 4" descr="globalgrid2.jpg"/>
          <p:cNvPicPr/>
          <p:nvPr/>
        </p:nvPicPr>
        <p:blipFill>
          <a:blip r:embed="rId1"/>
          <a:stretch/>
        </p:blipFill>
        <p:spPr>
          <a:xfrm>
            <a:off x="2263680" y="1601640"/>
            <a:ext cx="4616640" cy="452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1904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Sistema de Coordenadas Universal Transversal de Mercator (UTM)</a:t>
            </a:r>
            <a:endParaRPr b="0" lang="en-US" sz="4000" spc="-1" strike="noStrike">
              <a:solidFill>
                <a:srgbClr val="cc3300"/>
              </a:solidFill>
              <a:latin typeface="Arial"/>
            </a:endParaRPr>
          </a:p>
        </p:txBody>
      </p:sp>
      <p:sp>
        <p:nvSpPr>
          <p:cNvPr id="160" name="PlaceHolder 2"/>
          <p:cNvSpPr>
            <a:spLocks noGrp="1"/>
          </p:cNvSpPr>
          <p:nvPr>
            <p:ph/>
          </p:nvPr>
        </p:nvSpPr>
        <p:spPr>
          <a:xfrm>
            <a:off x="419040" y="210816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n un mapa global, las líneas UTM son recta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M es un tipo de proyección, calculada para elaborar un mapa plano de la redondez de la Tierra. </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s zonas UTM son numeradas de este a oeste y marcadas con letras de norte a sur. </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da zona es equivalente a 6</a:t>
            </a:r>
            <a:r>
              <a:rPr b="0" lang="es-AR" sz="2800" spc="-1" strike="noStrike" baseline="30000">
                <a:solidFill>
                  <a:srgbClr val="5f5f5f"/>
                </a:solidFill>
                <a:latin typeface="Arial"/>
              </a:rPr>
              <a:t>o</a:t>
            </a:r>
            <a:r>
              <a:rPr b="0" lang="es-AR" sz="2800" spc="-1" strike="noStrike">
                <a:solidFill>
                  <a:srgbClr val="5f5f5f"/>
                </a:solidFill>
                <a:latin typeface="Arial"/>
              </a:rPr>
              <a:t>.</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unidad de medición es el metro.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un Mapa a Escala?</a:t>
            </a: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 mapa dibujado utilizando medic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uestra una distancia medida en el terreno de acuerdo con una determinada proporc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mbién mide direcc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ualquier punto en el mapa tiene una relación con cualquier otro punto de acuerdo con una distancia y dirección medid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TM</a:t>
            </a:r>
            <a:endParaRPr b="0" lang="en-US" sz="4400" spc="-1" strike="noStrike">
              <a:solidFill>
                <a:srgbClr val="cc3300"/>
              </a:solidFill>
              <a:latin typeface="Arial"/>
            </a:endParaRPr>
          </a:p>
        </p:txBody>
      </p:sp>
      <p:pic>
        <p:nvPicPr>
          <p:cNvPr id="162" name="Content Placeholder 4" descr="19utmZones.gif"/>
          <p:cNvPicPr/>
          <p:nvPr/>
        </p:nvPicPr>
        <p:blipFill>
          <a:blip r:embed="rId1"/>
          <a:stretch/>
        </p:blipFill>
        <p:spPr>
          <a:xfrm>
            <a:off x="596880" y="1600200"/>
            <a:ext cx="795024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Fortalezas de los Mapas a Escala</a:t>
            </a:r>
            <a:endParaRPr b="0" lang="en-US" sz="4000" spc="-1" strike="noStrike">
              <a:solidFill>
                <a:srgbClr val="cc33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medir distancia, dirección y superfici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aborados de acuerdo con convenciones, por lo que tienen validez frente a las autoridad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nto de vista objetivo lleva a aclarar la discusión entre la comunidad y las “partes externa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Limitaciones de los Mapas a Escala</a:t>
            </a:r>
            <a:endParaRPr b="0" lang="en-US" sz="4000" spc="-1" strike="noStrike">
              <a:solidFill>
                <a:srgbClr val="cc3300"/>
              </a:solidFill>
              <a:latin typeface="Arial"/>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embros comunitarios pueden no entender el mapa o el proces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sulta difícil dibujar la percepción local de la tierra y la importancia subjetiva de las cos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discusiones con las autoridades pueden desviarse a tecnología y exactitud y alejarse de los temas reale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la cartografía?</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cartografía es el arte y la ciencia de elaborar map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isten convenciones cartográficas estándar para la elaboración de mapas a escal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ementos Básicos de un Mapa a Escala</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ímbolos y una leyen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cal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rección (indicada por la flecha de nor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uadriculado del mapa o sistema de coordena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obre el mapa: fecha de creación, título, autor, información de fuent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or qué utilizar símbolos en un mapa?</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palabras solas ocasionarían saturación de información en el map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símbolos pueden ayudar a organizar la inform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símbolos pueden describir ideas o cosas complej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leyenda o referencia explica los símbolo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ipos de Mapas</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apas base muestran dónde se encuentra algo en el espac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apas temáticos cuentan la historia sobre el luga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as Base</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apas base son mapas de referencia. Contienen:</a:t>
            </a:r>
            <a:endParaRPr b="0" lang="en-US" sz="32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racterísticas de referencia, como por ejemplo, ríos, caminos, terreno y centros poblados.</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ferencias cartográficas, como por ejemplo, un sistema de coordenadas, dirección norte y escala.</a:t>
            </a:r>
            <a:endParaRPr b="0" lang="en-US" sz="2800" spc="-1" strike="noStrike">
              <a:solidFill>
                <a:srgbClr val="5f5f5f"/>
              </a:solidFill>
              <a:latin typeface="Arial"/>
            </a:endParaRPr>
          </a:p>
          <a:p>
            <a:pPr marL="358920" indent="-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82760" y="29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ipos de Mapas Base</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Mapas topográficos</a:t>
            </a:r>
            <a:r>
              <a:rPr b="0" lang="es-AR"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Mapas de imágenes por rad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Mapas de fotografías aéreas</a:t>
            </a:r>
            <a:r>
              <a:rPr b="0" lang="es-AR"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Mapas de imágenes satelit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Mapas de río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4:21:46Z</dcterms:created>
  <dc:creator>Giulia Pedone</dc:creator>
  <dc:description/>
  <cp:keywords>pgis training kit</cp:keywords>
  <dc:language>en-US</dc:language>
  <cp:lastModifiedBy>Valeria</cp:lastModifiedBy>
  <dcterms:modified xsi:type="dcterms:W3CDTF">2010-04-12T14:56:02Z</dcterms:modified>
  <cp:revision>130</cp:revision>
  <dc:subject/>
  <dc:title>Presentación - Introducción al Mapeo a Escala y la Cartografía Bás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