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808080"/>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808080"/>
                </a:solidFill>
                <a:latin typeface="Times New Roman"/>
                <a:ea typeface="Times New Roman"/>
              </a:rPr>
              <a:t>Apoyo a la difusión de buenas prácticas en la generación, la gestión, el análisis y la comunicación de información territorial</a:t>
            </a: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DC040-9F0D-4012-98B2-4A84394F28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948B-6D7F-426E-8FA8-97379AF649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e es un panorama general de los conceptos. Los conceptos son mejor entendidos en la práctica. Invitar a los participantes a ver qué conceptos surgen en cada uno de los diversos ejercicios en esta Unidad y otros a lo largo de este Módulo. También considerar la forma en que cada uno de estos conceptos se relaciona con el contexto particular o proyecto de mapeo asociado con la capacitación. </a:t>
            </a: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3F52D-655A-4B63-B59F-D95F0EA585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os términos se usan a menudo incorrectamente en forma intercambiable. No son intercambiables, sino que los conceptos están interrelacionados. Se puede utilizar un dispositivo de medición de precisión para medir la altura de alguien y decir que tiene 160,75 centímetros. Sin embargo, en virtud de que omitió percibir que la persona está usando zapatos de taco alto, su medición no es exacta. En realidad tiene 158 centímetros de altura. Otro ejemplo del mapeo: en un mapa a escala 1:50.000, la resolución es tal que la marca de un marcador de 1 mm representaría 50 metros en el terreno. Como es imposible dibujar a una precisión submétrica, es necesario utilizar herramientas de relevamiento con precisión submétric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02904-447B-4980-9FAC-D88CEDF85E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GPS mide la ubicación absoluta. Las mediciones con brújula siempre proporcionan la ubicación relativa. </a:t>
            </a: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C77D-24B0-4B4A-AE52-BA2FE20321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puntos de enlace son particularmente importantes al manejarnos con ubicaciones relativas o en el “enlace” de ubicaciones relativas a ubicaciones absolutas. </a:t>
            </a: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D239-87F1-4A35-9364-478CE5B267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mapas se dibujan a partir de un conjunto de datos. A menudo en los proyectos de mapeo, la persona que dibuja el mapa puede o puede no ser parte del equipo de relevamiento. Por lo tanto, las notas deben ser claras y sistemáticamente presentadas, de manera que el mapa pueda ser dibujado correctament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e panorama general apunta a dar una idea de toda la variedad de métodos de recolección de datos para mapeo a escala. No todos los métodos son utilizados en cada proyecto de mapeo. Si ya se sabe qué métodos abordará la capacitación, dichos métodos deberán ser enfatizado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ás sobre el trabajo con mapas base en la Unidad 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Unidad 3 presenta más sobre el uso del mapa y la brújula. Este es uno de los métodos de mapeo más difíciles porque requiere un buen entendimiento del uso de la brújula, interpretación de mapas y geometría. También requiere una cierta cantidad de plantificación estratégica.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 itinerario o relevamiento con brújula es quizás el método más básico de mapeo porque sigue un proceso simple paso por paso. M09U04 presenta más sobre hacer un itinerario con brújul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GPS es una herramienta de mapeo versátil e útil, esencial para el mapeo a escala de grandes superficies. Operar una unidad de GPS y recolectar puntos de coordenadas es muy fácil. Entender cómo funciona el sistema puede presentar mayores desafíos porque los conceptos son bastante abstractos. M09U05 presenta más información sobre est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yberTracker es esencialmente una forma muy eficiente de recolectar datos GP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la capacitación está teniendo lugar para un proyecto de mapeo en particular, iniciar una discusión sobre la forma en que cada uno de estos factores se aplica al contexto de la capacitació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E7F93E-68EE-4BD6-8F48-42550EFE062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6C37CB5A-523D-4457-BD5D-1FC483D2C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EEB31CDF-2D68-420C-AB7D-DDF27FDD0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8475A0AD-42F8-474A-ADD2-F1F80CE70CC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B47C6A8F-8DE4-4A05-80D3-21918EA09E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786CA760-85C3-4EF2-BFA7-C82DE0C8A4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3A28DBC-F6DA-4827-9821-4198F7239A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C2E4AA87-A149-4154-9857-FE08CEC088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52C1E39C-72A9-436E-B12E-20C96350FE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67B1B05B-FCF8-4EA1-B490-3F1C2BED6A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F1F6420-21A2-471C-95E8-943924B440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497614F4-34B0-4CDF-ADD4-4F9944D7E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57DACDD-0D49-4FEB-B524-707CBDF4B5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E4E7AF0-0DB1-4E59-A8D6-0AC92353C6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CC84EEE-81EA-4F61-8A4B-11783922B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3AC16BA0-AD80-4580-9E76-A9334F3350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88C9905C-2F43-48F1-80DE-6A6210A0AB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6A0D3708-FEBE-4752-B1E7-01FD50468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AB258FEF-0F85-43BC-9C7F-D18ADE87C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33CC9EF0-A3BF-4D03-98F4-FAE6D00EA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7D560E4C-E066-4B45-AF06-498CC156F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26A46F50-5CC9-468E-89AD-F6EEE7EB4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68D0F511-E5EC-4B1B-AC1D-FE6A4228C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67FF078A-DA6F-4D03-AB3E-653A72739BF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F4AA-81EA-4B42-846D-E0F39B3043B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263A-8815-4F71-9336-60EE3262616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ecolección de Información para Mapeo a Escala</a:t>
            </a: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a:t>
            </a:r>
            <a:endParaRPr b="0" lang="en-US" sz="3200" spc="-1" strike="noStrike">
              <a:solidFill>
                <a:srgbClr val="5f5f5f"/>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09U02</a:t>
            </a:r>
            <a:endParaRPr b="0" lang="en-US" sz="1800" spc="-1" strike="noStrike">
              <a:solidFill>
                <a:srgbClr val="000000"/>
              </a:solidFill>
              <a:latin typeface="Arial"/>
            </a:endParaRPr>
          </a:p>
        </p:txBody>
      </p:sp>
      <p:pic>
        <p:nvPicPr>
          <p:cNvPr id="93"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4" name="Rectangle 8"/>
          <p:cNvSpPr/>
          <p:nvPr/>
        </p:nvSpPr>
        <p:spPr>
          <a:xfrm>
            <a:off x="3808440" y="5157720"/>
            <a:ext cx="25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ceptos para Recolectar Información de Calidad</a:t>
            </a:r>
            <a:endParaRPr b="0" lang="en-US" sz="4400" spc="-1" strike="noStrike">
              <a:solidFill>
                <a:srgbClr val="cc33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tegridad de la inform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ecisión, resolución y exactitu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riangul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bicaciones absolutas y relativ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ntos de enlace del relevamient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trevistas de mape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egridad de la Información</a:t>
            </a:r>
            <a:endParaRPr b="0" lang="en-US" sz="4400" spc="-1" strike="noStrike">
              <a:solidFill>
                <a:srgbClr val="cc33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 esencial para que los mapas sean verosími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iedras angulares de la integridad de la información: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astreabilida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nsistenci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Verificabilidad.</a:t>
            </a: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Resolución, Precisión y Exactitud</a:t>
            </a:r>
            <a:endParaRPr b="0" lang="en-US" sz="4000" spc="-1" strike="noStrike">
              <a:solidFill>
                <a:srgbClr val="cc33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solución:  Sensibilidad del dispositivo o escala de medición.</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ecisión: Sensibilidad del dispositivo o escala de medición, más el factor humano y exactitud pretendida.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xactitud:  La corrección real de la información, como se corresponde con la realidad.</a:t>
            </a:r>
            <a:endParaRPr b="0" lang="en-US" sz="3200" spc="-1" strike="noStrike">
              <a:solidFill>
                <a:srgbClr val="5f5f5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	</a:t>
            </a:r>
            <a:r>
              <a:rPr b="0" lang="es-AR" sz="3200" spc="-1" strike="noStrike">
                <a:solidFill>
                  <a:srgbClr val="5f5f5f"/>
                </a:solidFill>
                <a:latin typeface="Arial"/>
              </a:rPr>
              <a: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xactitud Territorial</a:t>
            </a:r>
            <a:endParaRPr b="0" lang="en-US" sz="4400" spc="-1" strike="noStrike">
              <a:solidFill>
                <a:srgbClr val="cc33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i la ubicación medida y mapeada se encuentra dentro de una determinada distancia de la ubicación real:</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 nivel aceptable de exactitud depende del objetivo del map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a resolución y precisión adecuadas de las herramientas y métodos dependen de la exactitud deseada.</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Exactitud de Atributos y</a:t>
            </a:r>
            <a:br>
              <a:rPr sz="4000"/>
            </a:br>
            <a:r>
              <a:rPr b="0" lang="es-AR" sz="4000" spc="-1" strike="noStrike">
                <a:solidFill>
                  <a:srgbClr val="cc3300"/>
                </a:solidFill>
                <a:latin typeface="Arial"/>
              </a:rPr>
              <a:t> Exactitud Conceptual</a:t>
            </a:r>
            <a:endParaRPr b="0" lang="en-US" sz="4000" spc="-1" strike="noStrike">
              <a:solidFill>
                <a:srgbClr val="cc33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xactitud de atributos = cuán correctamente se describen y dibujan los datos de atribut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xactitud conceptual = cuán correctamente el mapa representa la visión conceptual de los miembros comunitario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Exactitud de Atributos y </a:t>
            </a:r>
            <a:br>
              <a:rPr sz="4000"/>
            </a:br>
            <a:r>
              <a:rPr b="0" lang="es-AR" sz="4000" spc="-1" strike="noStrike">
                <a:solidFill>
                  <a:srgbClr val="cc3300"/>
                </a:solidFill>
                <a:latin typeface="Arial"/>
              </a:rPr>
              <a:t>Exactitud Conceptual</a:t>
            </a:r>
            <a:endParaRPr b="0" lang="en-US" sz="4000" spc="-1" strike="noStrike">
              <a:solidFill>
                <a:srgbClr val="cc33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exactitud de atributos y conceptual depende de: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 nivel de participación y representación aceptabl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a metodología sistemática para la documentación, realización de entrevistas y toma de nota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Oportunidades de verificación, corrección y revisión a nivel comunitario. </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Triangulación</a:t>
            </a:r>
            <a:endParaRPr b="0" lang="en-US" sz="4400" spc="-1" strike="noStrike">
              <a:solidFill>
                <a:srgbClr val="cc33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Una forma de verificar en forma cruzada datos de atributos:</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cer preguntas a una persona en diferentes forma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cer a diferentes personas la misma pregunta.</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cer a la misma o a una persona diferente la misma pregunta mientras se mira a un lugar desde un punto de vista diferente.</a:t>
            </a:r>
            <a:endParaRPr b="0" lang="en-US" sz="2800" spc="-1" strike="noStrike">
              <a:solidFill>
                <a:srgbClr val="5f5f5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Ubicación Absoluta y</a:t>
            </a:r>
            <a:br>
              <a:rPr sz="4000"/>
            </a:br>
            <a:r>
              <a:rPr b="0" lang="es-AR" sz="4000" spc="-1" strike="noStrike">
                <a:solidFill>
                  <a:srgbClr val="cc3300"/>
                </a:solidFill>
                <a:latin typeface="Arial"/>
              </a:rPr>
              <a:t> Ubicación Relativa</a:t>
            </a:r>
            <a:endParaRPr b="0" lang="en-US" sz="4000" spc="-1" strike="noStrike">
              <a:solidFill>
                <a:srgbClr val="cc33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bicación absoluta = punto de coordenad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bicación relativa = ubicación medida hacia o desde otra ubicación.</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Puntos de Enlace del Relevamiento</a:t>
            </a:r>
            <a:endParaRPr b="0" lang="en-US" sz="4000" spc="-1" strike="noStrike">
              <a:solidFill>
                <a:srgbClr val="cc33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dicación de puntos de referencia que nos permiten verificar en forma cruzada información territorial utilizando diferentes métodos de relevamiento o cartográficos.</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Toma de Notas de Campo Sistemáticas</a:t>
            </a:r>
            <a:endParaRPr b="0" lang="en-US" sz="4000" spc="-1" strike="noStrike">
              <a:solidFill>
                <a:srgbClr val="cc33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Ventaja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ermite un registro rápido y eficient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duce las preguntas y errores al procesar los datos y dibujar map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uestra claramente el método de recolección de datos y otorga credibilidad al map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acilita el agregado y actualización de datos del mapa posteriorment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ecolección de Información para Mapeo a Escala</a:t>
            </a:r>
            <a:endParaRPr b="0" lang="en-US" sz="4400" spc="-1" strike="noStrike">
              <a:solidFill>
                <a:srgbClr val="cc33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anorama general de los métodos para elaborar mapas a escal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lección del méto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nceptos para la recolección de datos de calida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ejor práctica en la toma de notas de camp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Toma de Notas de Campo Sistemáticas</a:t>
            </a:r>
            <a:endParaRPr b="0" lang="en-US" sz="4000" spc="-1" strike="noStrike">
              <a:solidFill>
                <a:srgbClr val="cc33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eparar un formato antes de ir al camp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rear suficiente espacio para notas complet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gistrar la fecha, el nombre de la comunidad o área y nombre del topógraf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scribir en forma detallada y clar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tilizar lápiz en vez de bolígraf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scribir notas como si fuesen un registro permanente - ¡lo son!</a:t>
            </a: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Descripción de Ubicación en Palabras</a:t>
            </a:r>
            <a:endParaRPr b="0" lang="en-US" sz="4000" spc="-1" strike="noStrike">
              <a:solidFill>
                <a:srgbClr val="cc33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tilizar hitos  con denominación.</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a referencia de mapa común para tod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eguntar constantemente los nombres de lugare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tilizar la terminología del paisaje loca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abore un diccionario para traducir el idioma local al nacional y para describir el significado de término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gistrar notas en el idioma del hablante.</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Descripción de Ubicación en Números</a:t>
            </a:r>
            <a:endParaRPr b="0" lang="en-US" sz="4000" spc="-1" strike="noStrike">
              <a:solidFill>
                <a:srgbClr val="cc33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números son una forma abreviada de identificar una ubicación.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rear un sistema de numeración para mantener los puntos de referencia territorial en orden.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Descripción de Ubicación en Croquis</a:t>
            </a:r>
            <a:endParaRPr b="0" lang="en-US" sz="4000" spc="-1" strike="noStrike">
              <a:solidFill>
                <a:srgbClr val="cc33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 usan para registrar observaciones para ser agregadas al dibujar el mapa definitivo.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levan menos tiempo que escribir las mismas observaciones en palabr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Hay dos tipos de croqui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anorámic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e transecto.</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Verificación Conjunta de Notas</a:t>
            </a:r>
            <a:endParaRPr b="0" lang="en-US" sz="4400" spc="-1" strike="noStrike">
              <a:solidFill>
                <a:srgbClr val="cc33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Verificar las notas regularmente como equipo, al final de cada día de relevamiento, si fuese posible.</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ás fácil de hacer cuando los recuerdos están frescos en la memoria.</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oporciona la oportunidad de verificar en el terreno, corregir y llenar vacíos.</a:t>
            </a:r>
            <a:endParaRPr b="0" lang="en-US" sz="2800" spc="-1" strike="noStrike">
              <a:solidFill>
                <a:srgbClr val="5f5f5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Verificar la integridad y consistencia.</a:t>
            </a:r>
            <a:endParaRPr b="0" lang="en-US" sz="3200" spc="-1" strike="noStrike">
              <a:solidFill>
                <a:srgbClr val="5f5f5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67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Panorama General de los Métodos de Recolección de Información para Mapeo a Escala</a:t>
            </a:r>
            <a:endParaRPr b="0" lang="en-US" sz="4000" spc="-1" strike="noStrike">
              <a:solidFill>
                <a:srgbClr val="cc3300"/>
              </a:solidFill>
              <a:latin typeface="Arial"/>
            </a:endParaRPr>
          </a:p>
        </p:txBody>
      </p:sp>
      <p:sp>
        <p:nvSpPr>
          <p:cNvPr id="98" name=""/>
          <p:cNvSpPr txBox="1"/>
          <p:nvPr/>
        </p:nvSpPr>
        <p:spPr>
          <a:xfrm>
            <a:off x="457200" y="2984400"/>
            <a:ext cx="8229600" cy="4525920"/>
          </a:xfrm>
          <a:prstGeom prst="rect">
            <a:avLst/>
          </a:prstGeom>
          <a:noFill/>
          <a:ln w="0">
            <a:noFill/>
          </a:ln>
        </p:spPr>
        <p:txBody>
          <a:bodyPr anchor="t">
            <a:normAutofit/>
          </a:bodyPr>
          <a:p>
            <a:pPr marL="343080" indent="-343080">
              <a:lnSpc>
                <a:spcPct val="8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Arial"/>
              </a:rPr>
              <a:t>Utilización de mapas a escala existentes.</a:t>
            </a:r>
            <a:endParaRPr b="0" lang="en-US" sz="3200" spc="-1" strike="noStrike">
              <a:solidFill>
                <a:srgbClr val="5f5f5f"/>
              </a:solidFill>
              <a:latin typeface="Arial"/>
            </a:endParaRPr>
          </a:p>
          <a:p>
            <a:pPr marL="343080" indent="-343080">
              <a:lnSpc>
                <a:spcPct val="8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5f5f5f"/>
                </a:solidFill>
                <a:latin typeface="Arial"/>
              </a:rPr>
              <a:t>Utilización</a:t>
            </a:r>
            <a:r>
              <a:rPr b="0" lang="es-ES" sz="3200" spc="-1" strike="noStrike">
                <a:solidFill>
                  <a:srgbClr val="5f5f5f"/>
                </a:solidFill>
                <a:latin typeface="Arial"/>
              </a:rPr>
              <a:t> de un mapa a escala con una brújula.</a:t>
            </a:r>
            <a:endParaRPr b="0" lang="en-US" sz="3200" spc="-1" strike="noStrike">
              <a:solidFill>
                <a:srgbClr val="5f5f5f"/>
              </a:solidFill>
              <a:latin typeface="Arial"/>
            </a:endParaRPr>
          </a:p>
          <a:p>
            <a:pPr marL="343080" indent="-343080">
              <a:lnSpc>
                <a:spcPct val="8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Arial"/>
              </a:rPr>
              <a:t>Itinerario con brújula.</a:t>
            </a:r>
            <a:endParaRPr b="0" lang="en-US" sz="3200" spc="-1" strike="noStrike">
              <a:solidFill>
                <a:srgbClr val="5f5f5f"/>
              </a:solidFill>
              <a:latin typeface="Arial"/>
            </a:endParaRPr>
          </a:p>
          <a:p>
            <a:pPr marL="343080" indent="-343080">
              <a:lnSpc>
                <a:spcPct val="8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Arial"/>
              </a:rPr>
              <a:t>Sistema de Posicionamiento Global.</a:t>
            </a:r>
            <a:endParaRPr b="0" lang="en-US" sz="3200" spc="-1" strike="noStrike">
              <a:solidFill>
                <a:srgbClr val="5f5f5f"/>
              </a:solidFill>
              <a:latin typeface="Arial"/>
            </a:endParaRPr>
          </a:p>
          <a:p>
            <a:pPr marL="343080" indent="-343080">
              <a:lnSpc>
                <a:spcPct val="8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Arial"/>
              </a:rPr>
              <a:t>CyberTracker.</a:t>
            </a:r>
            <a:endParaRPr b="0" lang="en-US" sz="3200" spc="-1" strike="noStrike">
              <a:solidFill>
                <a:srgbClr val="5f5f5f"/>
              </a:solidFill>
              <a:latin typeface="Arial"/>
            </a:endParaRPr>
          </a:p>
          <a:p>
            <a:pPr marL="343080" indent="-343080">
              <a:lnSpc>
                <a:spcPct val="8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Utilización de Mapas a Escala Existentes</a:t>
            </a:r>
            <a:endParaRPr b="0" lang="en-US" sz="4000" spc="-1" strike="noStrike">
              <a:solidFill>
                <a:srgbClr val="cc33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forma más rápida de elaborar un mapa a escal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Útil para grandes áreas (esto es, 1.000 km</a:t>
            </a:r>
            <a:r>
              <a:rPr b="0" lang="es-AR" sz="3200" spc="-1" strike="noStrike" baseline="30000">
                <a:solidFill>
                  <a:srgbClr val="5f5f5f"/>
                </a:solidFill>
                <a:latin typeface="Arial"/>
              </a:rPr>
              <a:t>2</a:t>
            </a:r>
            <a:r>
              <a:rPr b="0" lang="es-AR" sz="3200" spc="-1" strike="noStrike">
                <a:solidFill>
                  <a:srgbClr val="5f5f5f"/>
                </a:solidFill>
                <a:latin typeface="Arial"/>
              </a:rPr>
              <a:t>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ecisión adecuada para mapas a pequeña escal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Necesita topografía bien definid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 basa en una buena facilitación.</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pa y Brújula</a:t>
            </a:r>
            <a:endParaRPr b="0" lang="en-US" sz="4400" spc="-1" strike="noStrike">
              <a:solidFill>
                <a:srgbClr val="cc33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triangulación utilizando marcaciones con brújula o utilizando un telémetro láser que permite el mapeo a escala a distancia.</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ebe ser capaz de enfocar características topográficas. Es decir, acceso a puntos de observación.</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arcaciones de parcelas sobre mapa base georreferenciado.</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mbinación con relevamiento GPS mediante la toma de marcaciones de puntos de referencia.</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tinerario con Brújula</a:t>
            </a:r>
            <a:endParaRPr b="0" lang="en-US" sz="4400" spc="-1" strike="noStrike">
              <a:solidFill>
                <a:srgbClr val="cc33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ide la distancia con un metro (u otro instrumento) y la dirección con una brújul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Bueno para mapear pequeñas áreas en detal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foque práctico demuestra claramente los principios del mapeo a escala.</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elevamiento GPS</a:t>
            </a:r>
            <a:endParaRPr b="0" lang="en-US" sz="4400" spc="-1" strike="noStrike">
              <a:solidFill>
                <a:srgbClr val="cc33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forma más rápida de recolectar cantidades de datos territoriale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quiere salir al terreno  y realizar el relevamiento a pie.</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datos pueden ser usados para dibujar mapas desde cero.</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datos pueden ser trazados en un mapa base con la ventaja de visualizar el paisaje.</a:t>
            </a:r>
            <a:endParaRPr b="0" lang="en-US" sz="3200" spc="-1" strike="noStrike">
              <a:solidFill>
                <a:srgbClr val="5f5f5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yberTracker</a:t>
            </a:r>
            <a:endParaRPr b="0" lang="en-US" sz="4400" spc="-1" strike="noStrike">
              <a:solidFill>
                <a:srgbClr val="cc33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stalado en un dispositivo digital portátil, como por ejemplo, un PDA o teléfono inteligente.</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corporado a un GP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tiliza pantallas personalizadas con íconos y texto para ingresar observacione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orma altamente eficiente de recolectar grandes cantidades de observaciones de campo georreferenciadas.</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Selección de un Método de Recolección de Información</a:t>
            </a: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Objetivo del esfuerzo de mape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amaño del áre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opografí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Nivel de precisión requeri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ipo de mapas temáticos necesari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sto del equipamiento y capacitació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5T13:49:29Z</dcterms:created>
  <dc:creator>Alix Flavelle</dc:creator>
  <dc:description/>
  <cp:keywords>pgis training kit</cp:keywords>
  <dc:language>en-US</dc:language>
  <cp:lastModifiedBy>martens</cp:lastModifiedBy>
  <dcterms:modified xsi:type="dcterms:W3CDTF">2010-04-26T15:56:41Z</dcterms:modified>
  <cp:revision>84</cp:revision>
  <dc:subject/>
  <dc:title>Presentación - Recolección de Información para mapeo a escal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