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80808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808080"/>
                </a:solidFill>
                <a:latin typeface="Times New Roman"/>
                <a:ea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1F0-DDBB-491D-B35B-E97609369F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32E1-3C43-4006-87FE-9051996C53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es un panorama general de los conceptos. Los conceptos son mejor entendidos en la práctica. Invitar a los participantes a ver qué conceptos surgen en cada uno de los diversos ejercicios en esta Unidad y otros a lo largo de este Módulo. También considerar la forma en que cada uno de estos conceptos se relaciona con el contexto particular o proyecto de mapeo asociado con la capacitación. </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BBF8-5C13-458C-8A2F-47A1C9B8FC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s términos se usan a menudo incorrectamente en forma intercambiable. No son intercambiables, sino que los conceptos están interrelacionados. Se puede utilizar un dispositivo de medición de precisión para medir la altura de alguien y decir que tiene 160,75 centímetros. Sin embargo, en virtud de que omitió percibir que la persona está usando zapatos de taco alto, su medición no es exacta. En realidad tiene 158 centímetros de altura. Otro ejemplo del mapeo: en un mapa a escala 1:50.000, la resolución es tal que la marca de un marcador de 1 mm representaría 50 metros en el terreno. Como es imposible dibujar a una precisión submétrica, es necesario utilizar herramientas de relevamiento con precisión submétric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D2A7-13E8-481A-924E-151737F0CB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mide la ubicación absoluta. Las mediciones con brújula siempre proporcionan la ubicación relativa. </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F412-0120-4247-8707-F43D470FD1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untos de enlace son particularmente importantes al manejarnos con ubicaciones relativas o en el “enlace” de ubicaciones relativas a ubicaciones absolutas.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7ABB-2D4C-4866-8B35-B0893837B2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se dibujan a partir de un conjunto de datos. A menudo en los proyectos de mapeo, la persona que dibuja el mapa puede o puede no ser parte del equipo de relevamiento. Por lo tanto, las notas deben ser claras y sistemáticamente presentadas, de manera que el mapa pueda ser dibujado correctamen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panorama general apunta a dar una idea de toda la variedad de métodos de recolección de datos para mapeo a escala. No todos los métodos son utilizados en cada proyecto de mapeo. Si ya se sabe qué métodos abordará la capacitación, dichos métodos deberán ser enfatizad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ás sobre el trabajo con mapas base en la Unidad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3 presenta más sobre el uso del mapa y la brújula. Este es uno de los métodos de mapeo más difíciles porque requiere un buen entendimiento del uso de la brújula, interpretación de mapas y geometría. También requiere una cierta cantidad de plantificación estratégic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itinerario o relevamiento con brújula es quizás el método más básico de mapeo porque sigue un proceso simple paso por paso. M09U04 presenta más sobre hacer un itinerario con brúju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GPS es una herramienta de mapeo versátil e útil, esencial para el mapeo a escala de grandes superficies. Operar una unidad de GPS y recolectar puntos de coordenadas es muy fácil. Entender cómo funciona el sistema puede presentar mayores desafíos porque los conceptos son bastante abstractos. M09U05 presenta más información sobre es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yberTracker es esencialmente una forma muy eficiente de recolectar datos G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la capacitación está teniendo lugar para un proyecto de mapeo en particular, iniciar una discusión sobre la forma en que cada uno de estos factores se aplica al contexto de la capacitació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B0D10D-7F00-4CBA-BC65-96A309565E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ECAE7C9-40D2-4306-A8A1-5E7A9AE45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721D5C2D-3253-4F4E-9F09-ECEF2F1A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26C8BBEB-B3AF-45A3-91F6-E3B243C03C6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F8DE929-ACC7-43DC-B281-78128F3A1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5FB2449-FF02-4EE2-BDB1-C6FF4DCF9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FBB8819-AA43-4F1A-AA41-8A98D924D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5A9BA97-2CA4-4DAA-8B6F-0D6E103C0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02E575D-BDB3-4214-ACDB-2D38A34AA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286C79B-AE0D-45B5-9DBC-735CC14EA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432EB4B-AB2A-4E14-97E7-20D6BD027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A2F361D-7852-4FB4-B8C5-BBF58319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FB0A0B8-E5B7-4778-881B-B256152BA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2540850-CCD0-400B-AE1A-5112C072B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8B57F58-C0E9-44E3-BB69-E644B5BCE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1C2D5AD-E75E-490F-8F94-D067B8F001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B870021-92C1-4403-89B5-690F5E72C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ACA61A6-07D7-4B96-987D-A40382EC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3E19F75-2DAE-44ED-93B2-778A26EC7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9606C8A9-5127-4F2E-9AC0-22AC4D0BC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A566651F-4540-47F0-8E72-94A359D5F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B60F2B6-6592-4779-BDDB-FCF90DF13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917CF9A-072B-4B50-B53B-66941C72A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19C3F98-8AAE-4C95-B0AC-CD26347F5E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9341-6AC3-420C-8C06-10FD609C12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8B4-D57A-420C-9C89-57F36AC60D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2</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4" name="Rectangle 8"/>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ceptos para Recolectar Información de Calidad</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gridad de la inform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resolución y exactitu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iangul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ones absolutas y relativ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ntos de enlace del releva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revistas de mape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egridad de la Información</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esencial para que los mapas sean verosím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iedras angulares de la integridad de la informació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astreabilid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siste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ificabilidad.</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solución, Precisión y Exactitud</a:t>
            </a:r>
            <a:endParaRPr b="0" lang="en-US" sz="4000" spc="-1" strike="noStrike">
              <a:solidFill>
                <a:srgbClr val="cc33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olución:  Sensibilidad del dispositivo o escala de medi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Sensibilidad del dispositivo o escala de medición, más el factor humano y exactitud pretendid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La corrección real de la información, como se corresponde con la realidad.</a:t>
            </a:r>
            <a:endParaRPr b="0" lang="en-US" sz="3200" spc="-1" strike="noStrike">
              <a:solidFill>
                <a:srgbClr val="5f5f5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actitud Territorial</a:t>
            </a: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 la ubicación medida y mapeada se encuentra dentro de una determinada distancia de la ubicación real:</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aceptable de exactitud depende del objetivo de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solución y precisión adecuadas de las herramientas y métodos dependen de la exactitud desead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a:t>
            </a:r>
            <a:br>
              <a:rPr sz="4000"/>
            </a:br>
            <a:r>
              <a:rPr b="0" lang="es-AR" sz="4000" spc="-1" strike="noStrike">
                <a:solidFill>
                  <a:srgbClr val="cc3300"/>
                </a:solidFill>
                <a:latin typeface="Arial"/>
              </a:rPr>
              <a:t> Exactitud Conceptual</a:t>
            </a:r>
            <a:endParaRPr b="0" lang="en-US" sz="4000" spc="-1" strike="noStrike">
              <a:solidFill>
                <a:srgbClr val="cc33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de atributos = cuán correctamente se describen y dibujan los datos de atribu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conceptual = cuán correctamente el mapa representa la visión conceptual de los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xactitud de Atributos y </a:t>
            </a:r>
            <a:br>
              <a:rPr sz="4000"/>
            </a:br>
            <a:r>
              <a:rPr b="0" lang="es-AR" sz="4000" spc="-1" strike="noStrike">
                <a:solidFill>
                  <a:srgbClr val="cc3300"/>
                </a:solidFill>
                <a:latin typeface="Arial"/>
              </a:rPr>
              <a:t>Exactitud Conceptual</a:t>
            </a:r>
            <a:endParaRPr b="0" lang="en-US" sz="4000" spc="-1" strike="noStrike">
              <a:solidFill>
                <a:srgbClr val="cc33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xactitud de atributos y conceptual depende d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nivel de participación y representación aceptab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metodología sistemática para la documentación, realización de entrevistas y toma de nota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portunidades de verificación, corrección y revisión a nivel comunitario.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iangulación</a:t>
            </a:r>
            <a:endParaRPr b="0" lang="en-US" sz="4400" spc="-1" strike="noStrike">
              <a:solidFill>
                <a:srgbClr val="cc33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Una forma de verificar en forma cruzada datos de atributo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preguntas a una persona en diferentes form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diferentes personas la misma pregunt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cer a la misma o a una persona diferente la misma pregunta mientras se mira a un lugar desde un punto de vista diferente.</a:t>
            </a:r>
            <a:endParaRPr b="0" lang="en-US" sz="2800" spc="-1" strike="noStrike">
              <a:solidFill>
                <a:srgbClr val="5f5f5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bicación Absoluta y</a:t>
            </a:r>
            <a:br>
              <a:rPr sz="4000"/>
            </a:br>
            <a:r>
              <a:rPr b="0" lang="es-AR" sz="4000" spc="-1" strike="noStrike">
                <a:solidFill>
                  <a:srgbClr val="cc3300"/>
                </a:solidFill>
                <a:latin typeface="Arial"/>
              </a:rPr>
              <a:t> Ubicación Relativa</a:t>
            </a:r>
            <a:endParaRPr b="0" lang="en-US" sz="4000" spc="-1" strike="noStrike">
              <a:solidFill>
                <a:srgbClr val="cc33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absoluta = punto de coorden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bicación relativa = ubicación medida hacia o desde otra ubic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untos de Enlace del Relevamiento</a:t>
            </a:r>
            <a:endParaRPr b="0" lang="en-US" sz="4000" spc="-1" strike="noStrike">
              <a:solidFill>
                <a:srgbClr val="cc33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icación de puntos de referencia que nos permiten verificar en forma cruzada información territorial utilizando diferentes métodos de relevamiento o cartográficos.</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ntaja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mite un registro rápido y eficien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ce las preguntas y errores al procesar los datos y dibujar m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estra claramente el método de recolección de datos y otorga credibilidad al map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ta el agregado y actualización de datos del mapa posteriorm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colección de Información para Mapeo a Escala</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orama general de los métodos para elaborar mapas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lección del méto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ceptos para la recolección de datos de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 práctica en la toma de notas de ca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Notas de Campo Sistemáticas</a:t>
            </a:r>
            <a:endParaRPr b="0" lang="en-US" sz="40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parar un formato antes de ir al camp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suficiente espacio para notas complet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gistrar la fecha, el nombre de la comunidad o área y nombre del topó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en forma detallada y cla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ápiz en vez de bolí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cribir notas como si fuesen un registro permanente - ¡lo son!</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Palabras</a:t>
            </a:r>
            <a:endParaRPr b="0" lang="en-US" sz="40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hitos  con denominació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referencia de mapa común para tod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guntar constantemente los nombres de lugar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r la terminología del paisaje loc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abore un diccionario para traducir el idioma local al nacional y para describir el significado de término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gistrar notas en el idioma del hablant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Números</a:t>
            </a:r>
            <a:endParaRPr b="0" lang="en-US" sz="4000" spc="-1" strike="noStrike">
              <a:solidFill>
                <a:srgbClr val="cc33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números son una forma abreviada de identificar una ubicació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 sistema de numeración para mantener los puntos de referencia territorial en orde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scripción de Ubicación en Croquis</a:t>
            </a:r>
            <a:endParaRPr b="0" lang="en-US" sz="40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usan para registrar observaciones para ser agregadas al dibujar el mapa definitiv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evan menos tiempo que escribir las mismas observaciones en palab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y dos tipos de croqui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norámic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 transec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erificación Conjunta de Nota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s notas regularmente como equipo, al final de cada día de relevamiento, si fuese posible.</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ás fácil de hacer cuando los recuerdos están frescos en la memori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 la oportunidad de verificar en el terreno, corregir y llenar vacíos.</a:t>
            </a:r>
            <a:endParaRPr b="0" lang="en-US" sz="28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a integridad y consistencia.</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6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anorama General de los Métodos de Recolección de Información para Mapeo a Escala</a:t>
            </a:r>
            <a:endParaRPr b="0" lang="en-US" sz="4000" spc="-1" strike="noStrike">
              <a:solidFill>
                <a:srgbClr val="cc3300"/>
              </a:solidFill>
              <a:latin typeface="Arial"/>
            </a:endParaRPr>
          </a:p>
        </p:txBody>
      </p:sp>
      <p:sp>
        <p:nvSpPr>
          <p:cNvPr id="98" name=""/>
          <p:cNvSpPr txBox="1"/>
          <p:nvPr/>
        </p:nvSpPr>
        <p:spPr>
          <a:xfrm>
            <a:off x="457200" y="2984400"/>
            <a:ext cx="8229600" cy="4525920"/>
          </a:xfrm>
          <a:prstGeom prst="rect">
            <a:avLst/>
          </a:prstGeom>
          <a:noFill/>
          <a:ln w="0">
            <a:noFill/>
          </a:ln>
        </p:spPr>
        <p:txBody>
          <a:bodyPr anchor="t">
            <a:normAutofit/>
          </a:bodyPr>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Utilización de mapas a escala existentes.</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Arial"/>
              </a:rPr>
              <a:t>Utilización</a:t>
            </a:r>
            <a:r>
              <a:rPr b="0" lang="es-ES" sz="3200" spc="-1" strike="noStrike">
                <a:solidFill>
                  <a:srgbClr val="5f5f5f"/>
                </a:solidFill>
                <a:latin typeface="Arial"/>
              </a:rPr>
              <a:t> de un mapa a escala con una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Itinerario con brújul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Sistema de Posicionamiento Global.</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CyberTracker.</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tilización de Mapas a Escala Existentes</a:t>
            </a:r>
            <a:endParaRPr b="0" lang="en-US" sz="40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elaborar un mapa 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grandes áreas (esto es, 1.000 km</a:t>
            </a:r>
            <a:r>
              <a:rPr b="0" lang="es-AR" sz="3200" spc="-1" strike="noStrike" baseline="30000">
                <a:solidFill>
                  <a:srgbClr val="5f5f5f"/>
                </a:solidFill>
                <a:latin typeface="Arial"/>
              </a:rPr>
              <a:t>2</a:t>
            </a:r>
            <a:r>
              <a:rPr b="0" lang="es-AR"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cisión adecuada para mapas a pequeña 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ecesita topografía bien defin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basa en una buena facilit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 y Brújul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triangulación utilizando marcaciones con brújula o utilizando un telémetro láser que permite el mapeo a escala a distanci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be ser capaz de enfocar características topográficas. Es decir, acceso a puntos de observación.</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rcaciones de parcelas sobre mapa base georreferenciad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binación con relevamiento GPS mediante la toma de marcaciones de puntos de referencia.</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con Brújul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de la distancia con un metro (u otro instrumento) y la dirección con una brúju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ueno para mapear pequeñas áreas en detal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foque práctico demuestra claramente los principios del mapeo a escala.</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levamiento G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forma más rápida de recolectar cantidades de datos territoriale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quiere salir al terreno  y realizar el relevamiento a pie.</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usados para dibujar mapas desde cer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trazados en un mapa base con la ventaja de visualizar el paisaje.</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yberTracker</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stalado en un dispositivo digital portátil, como por ejemplo, un PDA o teléfono inteligent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o a un GP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tiliza pantallas personalizadas con íconos y texto para ingresar observacion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rma altamente eficiente de recolectar grandes cantidades de observaciones de campo georreferenciadas.</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elección de un Método de Recolección de Inform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bjetivo del esfuerzo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año del á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pografí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ivel de precisión requeri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 de mapas temáticos necesari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sto del equipamiento y capacit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Alix Flavelle</dc:creator>
  <dc:description/>
  <cp:keywords>pgis training kit</cp:keywords>
  <dc:language>en-US</dc:language>
  <cp:lastModifiedBy>martens</cp:lastModifiedBy>
  <dcterms:modified xsi:type="dcterms:W3CDTF">2010-04-26T15:56:41Z</dcterms:modified>
  <cp:revision>84</cp:revision>
  <dc:subject/>
  <dc:title>Presentación - Recolección de Información para mapeo a esc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