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7A12-4178-4B94-AE10-DD9E773868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2D18-B56D-4938-B388-B64ED395D8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varios tipos diferentes de brújula. La brújula de placa base es común. Los nombres de las partes de la brújula indican la función esencial de una brújula. </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0C57-3793-45CA-A2AB-B5522F3C13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mecánicas de ajuste de la brújula son diferentes dependiendo del tipo de brújula. La cantidad de declinación o  el ángulo es diferente dependiendo del lugar de la Tierra en que se encuentra. La declinación cambia con el tiempo, de manera que el cálculo depende del número de años a partir del momento en que el mapa fue elaborado hasta el año a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marcaciones se miden en grados. Hay 360</a:t>
            </a:r>
            <a:r>
              <a:rPr b="0" lang="es-AR" sz="1200" spc="-1" strike="noStrike" baseline="30000">
                <a:solidFill>
                  <a:srgbClr val="000000"/>
                </a:solidFill>
                <a:latin typeface="Arial"/>
              </a:rPr>
              <a:t>o</a:t>
            </a:r>
            <a:r>
              <a:rPr b="0" lang="es-AR" sz="1200" spc="-1" strike="noStrike">
                <a:solidFill>
                  <a:srgbClr val="000000"/>
                </a:solidFill>
                <a:latin typeface="Arial"/>
              </a:rPr>
              <a:t> en la rosa de los vientos o el limbo de la brújula. Recuerde el Ejercicio No 8 “Carrera de la Rosa de los Vientos” en M09U01. Es mejor aprender a usar una brújula haciendo el ejercicio No. 1 “Utilización de la Brújula” en esta Unidad. </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9031-09DD-4572-8189-F40A5E47A1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acticar esto en el Ejercicio No. 2 “Encontrar Marcaciones en un Mapa”.</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0C46-1FAA-4B27-946D-E502D362BF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acticar esto en el Ejercicio No. 2 “Encontrar Marcaciones en un Mapa”. Notar que una forma alternativa de encontrar marcaciones en el mapa es usando un transportador. Notar que un transportador siempre medirá el cuadriculado norte. Estar conciente entonces de la declinación magnética y si su brújula está midiendo el norte magnético o ha sido ajustada al cuadriculado norte. </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5C78-3048-48AB-8725-43392DF89D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se familiarice con encontrar marcaciones en un mapa, se puede ver cómo funciona la triangulación. La triangulación  es un término genérico para el proceso de medir a dos o más puntos conocidos para determinar, utilizando geometría,  la ubicación de un punto desconocido. De hecho, existen tres métodos, según se muestra en esta diapositiva. Practicarla triangulación en el Ejercicio No. 2,  “Encontrar Marcaciones en un Mapa”. </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A8CB-A22E-4837-8A17-2C940B3366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4DFE2-F126-44D0-A34D-59FB53F06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97156-8C04-4651-84C4-19E7B01B2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A21F2-33C5-4D2A-998E-98014FE97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E5291-53FB-4F1C-8624-7C28FC08F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5D2089F-5D19-4AE2-8FE1-1D32A03DF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0352C0-27B4-4519-A247-B3772AAA7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3A3948-C080-4F57-9097-7FB80AA8D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815E9E-2568-4C84-8A22-8FCE86D7D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5B08AA-B9E1-4A70-BCFB-2B5DDBA25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934A2D-6F68-495A-9D82-DF94C017E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3EC6A5-3C4F-4336-920B-4DED81997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9FB0-E5B4-4647-8C76-10599485F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53AD28-8B32-4E07-8DCE-DEC152291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C3B45C-83CC-48F7-8DEA-074DEC958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0D5E51-B042-4A14-99D8-B94AD387A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AA3D48-5C45-4C03-B0C7-258B3AD40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0DDED5-88DC-401E-85B6-A0B808AC0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4494E-5D49-4791-BC1B-72795EDBC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09E79-3943-473A-B2CA-A3035E2D0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FB20C-6A10-4EB1-98E9-3CE8905A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A533D-511F-4031-BC42-F699983F8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5BD1D-77C3-49C3-8211-3BFBBDB8C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9BBA-45ED-415E-8A75-D5C354868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2534-E826-4C01-87CA-BE0464F64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C579-B70F-49FC-9EEF-AB08CB8EC8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50328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68360" y="159228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4E6A-2C3E-4146-B474-8539A748273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 de la Brújula</a:t>
            </a:r>
            <a:endParaRPr b="0" lang="en-US" sz="4400" spc="-1" strike="noStrike">
              <a:solidFill>
                <a:srgbClr val="cc3300"/>
              </a:solidFill>
              <a:latin typeface="Arial"/>
            </a:endParaRPr>
          </a:p>
        </p:txBody>
      </p:sp>
      <p:sp>
        <p:nvSpPr>
          <p:cNvPr id="92" name="PlaceHolder 2"/>
          <p:cNvSpPr>
            <a:spLocks noGrp="1"/>
          </p:cNvSpPr>
          <p:nvPr>
            <p:ph type="subTitle"/>
          </p:nvPr>
        </p:nvSpPr>
        <p:spPr>
          <a:xfrm>
            <a:off x="1382760" y="387828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09U04</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
        <p:nvSpPr>
          <p:cNvPr id="95" name=""/>
          <p:cNvSpPr/>
          <p:nvPr/>
        </p:nvSpPr>
        <p:spPr>
          <a:xfrm>
            <a:off x="381132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Usos de una Brújula</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medir dirección (marcaci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trazar lugares en un mapa (triangul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a realizar un relevamiento con brújula (itinerario).</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La Brújula</a:t>
            </a:r>
            <a:endParaRPr b="0" lang="en-US" sz="4400" spc="-1" strike="noStrike">
              <a:solidFill>
                <a:srgbClr val="cc33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artes de una</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rújula de placa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base típica</a:t>
            </a:r>
            <a:endParaRPr b="0" lang="en-US" sz="3200" spc="-1" strike="noStrike">
              <a:solidFill>
                <a:srgbClr val="5f5f5f"/>
              </a:solidFill>
              <a:latin typeface="Arial"/>
            </a:endParaRPr>
          </a:p>
        </p:txBody>
      </p:sp>
      <p:pic>
        <p:nvPicPr>
          <p:cNvPr id="100" name="Picture 4" descr="compass.jpg"/>
          <p:cNvPicPr/>
          <p:nvPr/>
        </p:nvPicPr>
        <p:blipFill>
          <a:blip r:embed="rId1"/>
          <a:stretch/>
        </p:blipFill>
        <p:spPr>
          <a:xfrm>
            <a:off x="4648320" y="1447920"/>
            <a:ext cx="3233520" cy="467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eclinación Magnética</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leyenda de un mapa topográfico muest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rte magnético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rte del cuadricula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Norte verdadero.</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justar la brújula cuando se usa con un map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r una Marcación a un Objeto</a:t>
            </a:r>
            <a:endParaRPr b="0" lang="en-US" sz="40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ostener la brújula en forma horizont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antener el brazo extendi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nfocar el objet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eer la marcació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6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razado de Marcaciones en un Mapa</a:t>
            </a:r>
            <a:endParaRPr b="0" lang="en-US" sz="40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ijar la marcación en el limbo de la brújul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r el lateral de la brújula sobre el punto conocido, es decir, de donde fue tomada la marc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irar la placa de la brújula de manera que las líneas de norte se alineen con las líneas de norte en el map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Toma de Marcaciones de un Mapa</a:t>
            </a:r>
            <a:endParaRPr b="0" lang="en-US" sz="40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linear la placa base con una línea imaginaria entre dos puntos en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Girar el limbo de la brújula hasta que las líneas de norte se alineen con las líneas de norte en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eer la marcación fijada en el limbo de la brújul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Triangulació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Resección: Marcaciones </a:t>
            </a:r>
            <a:r>
              <a:rPr b="0" lang="es-AR" sz="3200" spc="-1" strike="noStrike" u="sng">
                <a:solidFill>
                  <a:srgbClr val="5f5f5f"/>
                </a:solidFill>
                <a:uFillTx/>
                <a:latin typeface="Arial"/>
              </a:rPr>
              <a:t>a</a:t>
            </a:r>
            <a:r>
              <a:rPr b="0" lang="es-AR" sz="3200" spc="-1" strike="noStrike">
                <a:solidFill>
                  <a:srgbClr val="5f5f5f"/>
                </a:solidFill>
                <a:latin typeface="Arial"/>
              </a:rPr>
              <a:t> dos ubicaciones conocidas para determinar una ubicación desconoci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rsección: Marcaciones </a:t>
            </a:r>
            <a:r>
              <a:rPr b="0" lang="es-AR" sz="3200" spc="-1" strike="noStrike" u="sng">
                <a:solidFill>
                  <a:srgbClr val="5f5f5f"/>
                </a:solidFill>
                <a:uFillTx/>
                <a:latin typeface="Arial"/>
              </a:rPr>
              <a:t>desde</a:t>
            </a:r>
            <a:r>
              <a:rPr b="0" lang="es-AR" sz="3200" spc="-1" strike="noStrike">
                <a:solidFill>
                  <a:srgbClr val="5f5f5f"/>
                </a:solidFill>
                <a:latin typeface="Arial"/>
              </a:rPr>
              <a:t> dos ubicaciones conocidas para determinar una ubicación desconocid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iangulación: Tercera marcación para verificación.</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4:20:13Z</dcterms:created>
  <dc:creator>Alix Flavelle</dc:creator>
  <dc:description/>
  <cp:keywords>pgis training kit</cp:keywords>
  <dc:language>en-US</dc:language>
  <cp:lastModifiedBy>bertrodenburg</cp:lastModifiedBy>
  <dcterms:modified xsi:type="dcterms:W3CDTF">2010-04-26T21:40:28Z</dcterms:modified>
  <cp:revision>87</cp:revision>
  <dc:subject/>
  <dc:title>Presentación 1 - Uso de la Brújula y Map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