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0929-F9D2-4713-A627-89FE19F647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0AB9-9212-4DF0-B91F-6D5935C975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un proceso de mapeo participativo ya habrán existido discusiones sobre qué tipo de información mapear. Discutir con los participantes qué tipos de mapas temáticos podrían imaginarse hacer en su comunidad y realizar una lluvia de ideas para elaborar una lista de elementos de la leyenda específicos para cada tema.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0075-12A9-4EC0-94A6-0172AE4895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apas se hacen desde cero cuando no hay un mapa base disponible. Toma tiempo relevar el “cuadriculado local” y suficiente información temática. Por lo tanto, los mapas desde cero a menudo se elaboran con un fin específico. Los relevamientos con brújula son normalmente dibujados desde cero, a mano o en computadora. Son generalmente elaborados para una pequeña área y con un fin específico. Los datos de relevamiento GPS son más a menudo mapeados o combinados con información de mapa bas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os son elementos estándar en todos los mapas a escal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inclusión de estas anotaciones opcionales depende del objetivo del mapa y del diseño de la serie de mapas.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B617-CA82-4560-B752-1E57EA3519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el mapa, los datos de fuentes son identificados en forma abreviad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meta-datos se registran y guardan en documentos separados. Los meta-datos nos dicen cómo se elaboró el mapa y cómo encontrar los datos que fueron usados, si es que quisiéramos alguna vez recrear el map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proceso de verificación variará de acuerdo con el diseño del proyecto de mapeo, su alcance y el número de comunidades involucradas. Es importante comenzar inmediatamente, mientras el interés es alto y el mapeo está fresco en las mentes de todos. Permitir suficiente tiempo en una sesión para asegurarse de que las personas entienden los mapas. Permitir suficiente tiempo para aportes, aunque signifique organizar unas pocas sesiones durante unas pocas semanas. Al mismo tiempo, ser cuidadoso de no perder el impulso y el interés, permitiendo que se extienda por mucho tiemp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proceso de verificación y corrección es un proceso repetitivo. Cuanto más profundo y participativo sea cada paso, menor cantidad de repeticiones será necesaria para llegar al punto en que los mapas son validad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e es el esquema de la presentació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CBF0-34B7-482D-8649-B14AC6B653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569BB-8E91-4CA5-80C5-F6014B3A0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F09C1-1BA1-4603-955C-1303378AE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93707-A137-492C-B995-A69EE5541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10CB0-8430-42A7-BC8B-8AF781260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942D498-5218-4C5D-A8DF-39A151CC6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C6207B-572B-41D7-B865-537088CDC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F4795A-33C8-424C-B146-BFFCF013E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22E467-2930-49F5-8AD2-6DF6DFD1D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A460370-9E20-497B-8A5E-1D8FF8234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4B17AB-6607-4F8C-ACCF-42867EA9C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9C9AE5-B2ED-49B2-A66F-C9875F1BC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64407-A801-4915-9D8C-E0C1A7150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A2D491-D422-4BDF-8DB4-67B58DEBE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8A350B-8D41-48E2-BB82-B58F7D6A9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D6E84C-F832-4D53-B299-1776CD3E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E0B9F29-6912-40EB-9721-3C344ADE86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9659D8-FB8E-42E2-98D8-A05ECDC802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FF764-7B03-4AED-9D6D-F711696AC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2F0A6-9048-467E-A818-E9F77431C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CD13-A6B5-4DF8-BBC2-C7940EB21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4D81-C93B-4FD3-9C46-1C0EF5218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59DC6-1990-4FA5-8665-AAA22724D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35C04-7051-49FA-A04C-A23B52039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33BA-C4DD-4C2E-897B-E43AD43EF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E7CC-39B1-4881-BB4D-9113682969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0EBE-8064-4BED-9DB1-F68E296E7AD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bujo y Producción de Mapas a Escala</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Rectangle 7"/>
          <p:cNvSpPr/>
          <p:nvPr/>
        </p:nvSpPr>
        <p:spPr>
          <a:xfrm>
            <a:off x="381132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seño de Mapas Temáticos</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n aspecto del diseño de map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tegorizar, ¿qué información será mostrada en cada “capa del mapa” diferen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señar la leyenda c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ementos comunes a todas las cap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lementos específicos a cada cap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nstrucción de las Capas del Mapa</a:t>
            </a:r>
            <a:endParaRPr b="0" lang="en-US" sz="40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razar o digitalizar información seleccionada a partir de los borradores de mapas.</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gregar datos a partir de notas de campo. </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leccionar en primer lugar la información común a todas las capas.</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or ejemplo, ríos, límites, caminos, centros poblados.</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tinuar seleccionando y trazando datos comunitarios a cada mapa temático en la serie.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Mapas a Escala elaborados Desde Cero</a:t>
            </a:r>
            <a:endParaRPr b="0" lang="en-US" sz="40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aborados a partir de un itinerario con brújula o datos de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ruta de relevamiento es el “mapa ba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sventaja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ríos y caminos, el “cuadriculado local” también deben ser relevad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leva tiempo recolectar información temática.</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ista de Verificación de Elementos Esenciales del Mapa</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ítulo d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lecha de nor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ca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uadricul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eyen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a de ubic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notaciones Opcionale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claración de derechos de aut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ota explicativ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Número de serie d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irmas de validació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ocumentación de los Datos de Fuentes en el Mapa</a:t>
            </a:r>
            <a:endParaRPr b="0" lang="en-US" sz="40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ferencia del mapa ba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ferencia de mapa temátic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ción de relevamiento; cuándo, quié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uente de información temática;  quién proporcionó la información comunitaria.</a:t>
            </a:r>
            <a:endParaRPr b="0" lang="en-US" sz="32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ocumentación de Meta-Datos</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atos de fuente original de catálogo y archivo. </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rear un documento de meta-datos para:</a:t>
            </a:r>
            <a:endParaRPr b="0" lang="en-US" sz="28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istema de coordenadas y nivel de referencia.</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Declinación magnética.</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Tamaños de bolígrafos y plantillas para el dibujo a mano. </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Fuentes, códigos de colores, códigos de símbolos.</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ista de nombres de archivos en computadora. </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Nombres de personas involucradas en el relevamiento, dibujo y suministro de información del mapa.</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oceso de Verificación</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miembros comunitarios deben tener la oportunidad de verificar que la información que aportaron fue dibujada correctamente. </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n una única o una serie de reuniones comunitaria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 la comunidad como un todo o con el sector de conocimiento. </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fectivamente realizado en pequeños grupos. </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omándose tiempo para explicar los mapas en un lenguaje simple. </a:t>
            </a: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orrección y Actualización de Mapas</a:t>
            </a:r>
            <a:endParaRPr b="0" lang="en-US" sz="40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levar y comprobar en el terreno las correcciones, según sea necesari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bujar nuevamente los mapas según sea necesa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nuevament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pas dibujados a mano o en computador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proceso de dibujar mapas definitivos.</a:t>
            </a:r>
            <a:endParaRPr b="0" lang="en-US" sz="32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Organizar el relevamiento y mapear los datos.</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Diseñar los mapas temáticos.</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Seleccionar y trazar a partir de mapas base.</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Elaborar mapas desde cero.</a:t>
            </a:r>
            <a:endParaRPr b="0" lang="en-US" sz="2600" spc="-1" strike="noStrike">
              <a:solidFill>
                <a:srgbClr val="5f5f5f"/>
              </a:solidFill>
              <a:latin typeface="Arial"/>
            </a:endParaRPr>
          </a:p>
          <a:p>
            <a:pPr lvl="1" marL="743040" indent="-285840">
              <a:lnSpc>
                <a:spcPct val="8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Verificar.</a:t>
            </a:r>
            <a:endParaRPr b="0" lang="en-US" sz="26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mentos en un mapa.</a:t>
            </a:r>
            <a:endParaRPr b="0" lang="en-US" sz="3200" spc="-1" strike="noStrike">
              <a:solidFill>
                <a:srgbClr val="5f5f5f"/>
              </a:solidFill>
              <a:latin typeface="Arial"/>
            </a:endParaRPr>
          </a:p>
          <a:p>
            <a:pPr marL="343080" indent="-343080">
              <a:lnSpc>
                <a:spcPct val="8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ocumentación de datos de fuentes.</a:t>
            </a:r>
            <a:endParaRPr b="0" lang="en-US" sz="3200" spc="-1" strike="noStrike">
              <a:solidFill>
                <a:srgbClr val="5f5f5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ección entre Dibujo a Mano o en Computadora</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atos de fuentes.</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os mapas topográficos con brújula y papel son fácilmente dibujados a mano.</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os datos de GPS e imágenes satelitales se ingresan fácilmente en una computadora.</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oceso deseado en la comunidad.</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s el dibujo a mano más accesible y entendible?</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sultado deseado.</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l aspecto del mapa.</a:t>
            </a:r>
            <a:endParaRPr b="0" lang="en-US" sz="24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Fortalezas de los Mapas Dibujados a Mano</a:t>
            </a:r>
            <a:endParaRPr b="0" lang="en-US" sz="40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ás personas pueden ver y saber cómo manejar los dato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a sentido de pertenencia.</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otencialmente más personas pueden participar.</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nos capacitación, menos costo de capital.</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resenta un sentimiento personalizado, hacia el mapa dibujado a mano.</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bilidades de los Mapas Dibujados a Mano</a:t>
            </a:r>
            <a:endParaRPr b="0" lang="en-US" sz="40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levan tiempo para dibujar, dibujar nuevamente y actualizar.</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randes cantidades de datos de GPS son lentos de procesar.</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reproducción en color no siempre es posible.</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apa definitivo está solamente en formato en papel, que no es duradero; puede deteriorarse y desvanecerse.</a:t>
            </a: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Fortalezas de los Mapas Dibujados en Computadora</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on rápidos de elaborar (una vez que es sistema está establecido y los datos son ingresado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Grandes cantidades de datos de GPS son fáciles de procesar.</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ácilmente actualizados, corregidos y dibujados nuevament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Fácilmente producidos y reproducidos en color y en diferentes escala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ás opciones en diseño de mapas.</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Debilidades de los Mapas Dibujados en Computadora</a:t>
            </a:r>
            <a:endParaRPr b="0" lang="en-US" sz="40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s personas pueden perder el entendimiento de adónde fueron los datos. Lo cual puede ser  mitigado mediante un buen proceso de verificación.</a:t>
            </a:r>
            <a:endParaRPr b="0" lang="en-US" sz="2800" spc="-1" strike="noStrike">
              <a:solidFill>
                <a:srgbClr val="5f5f5f"/>
              </a:solidFill>
              <a:latin typeface="Arial"/>
            </a:endParaRPr>
          </a:p>
          <a:p>
            <a:pPr marL="325800" indent="-3258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 tan accesible para los pobladores de áreas rurales.</a:t>
            </a:r>
            <a:endParaRPr b="0" lang="en-US" sz="2800" spc="-1" strike="noStrike">
              <a:solidFill>
                <a:srgbClr val="5f5f5f"/>
              </a:solidFill>
              <a:latin typeface="Arial"/>
            </a:endParaRPr>
          </a:p>
          <a:p>
            <a:pPr marL="325800" indent="-3258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ndencia a que los mapas tengan una apariencia de cortador/molde de galleta. Es un asunto de habilidad en diseño. </a:t>
            </a:r>
            <a:endParaRPr b="0" lang="en-US" sz="2800" spc="-1" strike="noStrike">
              <a:solidFill>
                <a:srgbClr val="5f5f5f"/>
              </a:solidFill>
              <a:latin typeface="Arial"/>
            </a:endParaRPr>
          </a:p>
          <a:p>
            <a:pPr marL="325800" indent="-3258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to costo en capacitación y equipamiento.</a:t>
            </a:r>
            <a:endParaRPr b="0" lang="en-US" sz="2800" spc="-1" strike="noStrike">
              <a:solidFill>
                <a:srgbClr val="5f5f5f"/>
              </a:solidFill>
              <a:latin typeface="Arial"/>
            </a:endParaRPr>
          </a:p>
          <a:p>
            <a:pPr marL="325800" indent="-32580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endencia de la tecnología en computadora a disimular datos de mala calida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El Proceso</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rganizar el relevamiento y mapear los dato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señar mapas temáticos.</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leccionar y trazar a partir de mapas base.</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 forma alternativa, dibujar mapas desde cero.</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bujar el mapa definitivo.</a:t>
            </a:r>
            <a:endParaRPr b="0" lang="en-US" sz="3200" spc="-1" strike="noStrike">
              <a:solidFill>
                <a:srgbClr val="5f5f5f"/>
              </a:solidFill>
              <a:latin typeface="Arial"/>
            </a:endParaRPr>
          </a:p>
          <a:p>
            <a:pPr marL="339480" indent="-3394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erificar los mapas con la comunida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Organización de los Datos del Mapa </a:t>
            </a:r>
            <a:endParaRPr b="0" lang="en-US" sz="40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rganizar y compilar los datos de relevamie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azar los datos de relevamiento en forma manual o en computador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pilar borradores de mapas y mapas de camp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mpilar mapas temáticos a partir de otras fuentes y ajustar la escal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3:58:41Z</dcterms:created>
  <dc:creator>Alix Flavelle</dc:creator>
  <dc:description/>
  <cp:keywords>pgis training kit</cp:keywords>
  <dc:language>en-US</dc:language>
  <cp:lastModifiedBy>martens</cp:lastModifiedBy>
  <dcterms:modified xsi:type="dcterms:W3CDTF">2010-04-27T08:34:08Z</dcterms:modified>
  <cp:revision>96</cp:revision>
  <dc:subject>M09 - Scale Mapping and Surveying</dc:subject>
  <dc:title>Presentación - Dibujo y Producción de Mapas a Esca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