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5f5f5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5f5f5f"/>
                </a:solidFill>
                <a:latin typeface="Times New Roman"/>
              </a:rPr>
              <a:t>Apoyo a la difusión de buenas prácticas en la generación, la gestión, el análisis y la comunicación de información territorial</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AFD8-BD6B-47FF-9C04-9874923505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6704-0B37-4D7A-9B40-20CE6BFBCA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F513-77AE-4C84-BE86-88907E7ACF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e Módulo se compone de cuatro Unidad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1496-843C-48DD-B075-CD25748F58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la Unidad M10U03, hemos preparado un pequeño modelo 3D que usaremos para reproducir una situación del mundo real. El modelo en blanco ha sido montado antes del ejerc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Unidad M10U04 trata de la extracción de datos de un modelo 3D y de la minimización de errores. Los métodos que usaremos son apropiados para ser reproducidos en condiciones difíciles, como por ejemplo, áreas remotas. Esencialmente, observaremos cómo capturar datos mediante fotografía digital de alta resolución y cómo georreferenciar las imágenes resultantes para digitalización en pan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6EFF-B5B4-45DA-9E37-AB6754B795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uego de completar el Módulo, se estará listo para describir el método y planificar un ejercicio. Si todo funciona bien, también se podrá estar listo para co-facilitar un ejercicio de este tipo. Para conocer bien el método, se deben utilizar por lo menos diez días en el campo con profesionales experimentados  que faciliten un caso re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EA500-FAC8-4D4D-B076-B3B50EE5A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A458C-6446-49E7-949F-C1BAD19E1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D8C34-350C-489C-B589-2123494AD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EBA4E-C0DE-4086-A949-61F4087E1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71D51E8-0C1F-4119-81F6-E0A671C33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7316558-9F2C-4023-B213-288B7F5B9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58543F-3BAB-4601-B207-D896EF1CA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61E8E0-9C73-4F9D-981F-1A5C3E0DD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DB8753-4D71-4758-BE50-ABDB510B8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F29AA98-DDE1-4EE4-A0ED-41DF1C848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EB29F4-728E-4701-9C21-92F831D4D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83EFF-A562-4770-AA49-3E15232BA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0EA3D8-F93D-455B-BC87-43714AA7B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B34684-71C3-4BB8-BD2F-8532B39D2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115E55-720F-4013-AC53-0D5D56A6B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8F4CF3-2AF6-43D1-AE72-BCA035F8B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766C110-ABBA-4352-98FD-B145E0FBE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2934B-01AD-4C1D-8B94-7924EFBC4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98409-DF63-4312-BB80-D94BCB704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85313-0C1F-46A6-83C1-2F2167822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4E9F4-E3D2-4DED-A463-0C515F70F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65F0-1094-42C0-A88F-43F927AC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14BF-7CFE-4995-A821-F390CD5C9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80CD-D93F-4F00-BA1B-FC5360E82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87F0-DBEE-4328-B9EC-DD2EB228FB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0D80-3687-475E-88D3-8223837F40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ódulo M10:</a:t>
            </a:r>
            <a:br>
              <a:rPr sz="4400"/>
            </a:br>
            <a:r>
              <a:rPr b="0" lang="es-AR" sz="4400" spc="-1" strike="noStrike">
                <a:solidFill>
                  <a:srgbClr val="cc3300"/>
                </a:solidFill>
                <a:latin typeface="Arial"/>
              </a:rPr>
              <a:t>Modelado Participativo 3D</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Introducción</a:t>
            </a:r>
            <a:endParaRPr b="0" lang="en-US" sz="3200" spc="-1" strike="noStrike">
              <a:solidFill>
                <a:srgbClr val="5f5f5f"/>
              </a:solidFill>
              <a:latin typeface="Arial"/>
            </a:endParaRPr>
          </a:p>
        </p:txBody>
      </p:sp>
      <p:sp>
        <p:nvSpPr>
          <p:cNvPr id="93" name="Rectangle 4"/>
          <p:cNvSpPr/>
          <p:nvPr/>
        </p:nvSpPr>
        <p:spPr>
          <a:xfrm>
            <a:off x="3218400" y="514368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Giacomo Rambaldi</a:t>
            </a:r>
            <a:endParaRPr b="0" lang="en-US" sz="1800" spc="-1" strike="noStrike">
              <a:solidFill>
                <a:srgbClr val="000000"/>
              </a:solidFill>
              <a:latin typeface="Arial"/>
            </a:endParaRPr>
          </a:p>
        </p:txBody>
      </p:sp>
      <p:sp>
        <p:nvSpPr>
          <p:cNvPr id="94"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Módulo: M10</a:t>
            </a:r>
            <a:endParaRPr b="0" lang="en-US" sz="1800" spc="-1" strike="noStrike">
              <a:solidFill>
                <a:srgbClr val="000000"/>
              </a:solidFill>
              <a:latin typeface="Arial"/>
            </a:endParaRPr>
          </a:p>
        </p:txBody>
      </p:sp>
      <p:pic>
        <p:nvPicPr>
          <p:cNvPr id="95"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obre este Módulo</a:t>
            </a:r>
            <a:endParaRPr b="0" lang="en-US" sz="4400" spc="-1" strike="noStrike">
              <a:solidFill>
                <a:srgbClr val="cc33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imera Unidad: Introducción al Modelado Participativo 3D:</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obre el Modelado Participativo 3D (MP3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ideo sobre MP3D (20 mi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paración para un ejercicio de MP3D.</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gunda Unidad: La Leyenda del Map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jercicios y reflexion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obre este Módulo</a:t>
            </a:r>
            <a:endParaRPr b="0" lang="en-US" sz="4400" spc="-1" strike="noStrike">
              <a:solidFill>
                <a:srgbClr val="cc3300"/>
              </a:solidFill>
              <a:latin typeface="Arial"/>
            </a:endParaRPr>
          </a:p>
        </p:txBody>
      </p:sp>
      <p:sp>
        <p:nvSpPr>
          <p:cNvPr id="99" name=""/>
          <p:cNvSpPr txBox="1"/>
          <p:nvPr/>
        </p:nvSpPr>
        <p:spPr>
          <a:xfrm>
            <a:off x="42876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ercera Unidad: Ejercicio de MP3D Práctic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rabajo sobre un modelo 3D real más una serie de ejercicios relacionado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uarta Unidad: Captura de Datos de un Modelo 3D y su Georreferencia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Objetivo de Aprendizaje del Módulo</a:t>
            </a:r>
            <a:endParaRPr b="0" lang="en-US" sz="4400" spc="-1" strike="noStrike">
              <a:solidFill>
                <a:srgbClr val="cc3300"/>
              </a:solidFill>
              <a:latin typeface="Arial"/>
            </a:endParaRPr>
          </a:p>
        </p:txBody>
      </p:sp>
      <p:sp>
        <p:nvSpPr>
          <p:cNvPr id="101" name=""/>
          <p:cNvSpPr txBox="1"/>
          <p:nvPr/>
        </p:nvSpPr>
        <p:spPr>
          <a:xfrm>
            <a:off x="42876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uego de completar el Módulo, se estará listo para describir el método de MP3D y planificar un ejercici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04:42:50Z</dcterms:created>
  <dc:creator>Giacomo Rambaldi</dc:creator>
  <dc:description/>
  <dc:language>en-US</dc:language>
  <cp:lastModifiedBy>Valeria</cp:lastModifiedBy>
  <dcterms:modified xsi:type="dcterms:W3CDTF">2010-05-27T03:03:33Z</dcterms:modified>
  <cp:revision>25</cp:revision>
  <dc:subject/>
  <dc:title>Presentación 1 - Módulo M10: Modelado Participativo 3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Document</vt:lpwstr>
  </property>
  <property fmtid="{D5CDD505-2E9C-101B-9397-08002B2CF9AE}" pid="7" name="ContentTypeId">
    <vt:lpwstr>0x0101008C84B226A9342E48A609F5C5A1DE5B0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_SourceUrl">
    <vt:lpwstr/>
  </property>
  <property fmtid="{D5CDD505-2E9C-101B-9397-08002B2CF9AE}" pid="18" name="xd_ProgID">
    <vt:lpwstr/>
  </property>
</Properties>
</file>