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6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126F-9355-4797-8E6E-5D18B6E4A64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Nota para el presentador: 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Sírvase remitirse al Material Informativo para el Participante M07U02 y a las lecturas recomendadas, por más información sobre este te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0206-8EC3-43BA-B44D-026E958657E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4C68-CD3A-4390-A53C-B412C9C5DDC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41DD-82FF-4EDF-B531-638E63FF052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D3A2-9BE2-4CA9-A0DC-35E02C1F048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l modelo se inclina y su base se coloca perpendicularmente al piso (Imagen de la derecha). Las líneas se marcan en el piso a determinados intervalos para guiar la colocación de la cámara y la dirección de la to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1755-E100-468A-A3CB-5DBCCB8D606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as imágenes tomadas en secuencia, movimiento paralelo de la cámara, incluyen áreas de superposi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647A-C0DD-48E1-A59B-D434F0EB23F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75AB-7C15-4016-BD7B-F4B92EA890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tos son algunos ejemplos de imágenes capturadas de modelos 3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E3D83-72E2-4648-9B71-4FCC694D7D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D2962-0D4F-4CF1-B521-1D5D6353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E7A3B-F4D0-4AC0-80D3-63851AF2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F12FA-4A3F-4CD0-9B3D-9FA200376C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5C7C9-2975-471F-AA86-014139B9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847E6-C271-4A48-965A-429A0DD0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A515A-BBEF-4B54-BF91-9B86B302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AE324-7D73-4FD8-A235-EE231BB0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93195-1B4C-4C57-8F23-50FB21FD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C1DC7-33ED-4A40-8AF4-44CBBFCA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95476-63FC-4E0F-B503-6246DBC4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44825-4AC5-4C03-82B7-C7D0AC9F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146C2-5557-4C23-9CD1-C2BDF6B5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8B3CC-9957-4135-9A50-1B8605F2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AE12D-4528-435C-BD27-8BB843DA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A950C-F89F-4968-BF03-969D523F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76DC0-E30C-45B9-BDD3-D7ECC7F5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8335C-58CF-4895-B05F-61232E76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4BAE2-1AEC-4F3D-A8F0-BAA489AD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DD993-285F-4480-B737-82CB13B1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21744-F8B6-43F2-A24C-6DED3AAC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FFB11-5437-4284-B5F1-49302EFC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9D8BB-29AE-491D-9BD6-86B61807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C5712-B1F6-4178-BB44-7DD2CCA5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E959-2747-461E-962B-643D732A58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5D1A-9973-4D9F-A24C-E0C422372A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aptura de Datos Utilizando Fotografía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172240" y="5210280"/>
            <a:ext cx="46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Giacomo Rambaldi y Jeroen Verpl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 M10U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lujo de la Presen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quipo necesari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eparación del modelo para la extracción de dat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aptura de datos usando fotografía digit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Equipo Necesario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ámara digital réflex de lente única (SLR) de alta resoluc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entes de alta calidad con zoom ajustable y zoom manual y opciones de foc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Trípod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lomad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Hilos de color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lavos / chinchet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Preparación del Modelo para la Extracción de Dat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locar un cuadriculado sobre el modelo 3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7" name="Picture 5" descr="http://www.iapad.org/images/pic_110_pumat_model+grid_0.jpg"/>
          <p:cNvPicPr/>
          <p:nvPr/>
        </p:nvPicPr>
        <p:blipFill>
          <a:blip r:embed="rId1"/>
          <a:stretch/>
        </p:blipFill>
        <p:spPr>
          <a:xfrm>
            <a:off x="3495600" y="2173320"/>
            <a:ext cx="478332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TextBox 4"/>
          <p:cNvSpPr/>
          <p:nvPr/>
        </p:nvSpPr>
        <p:spPr>
          <a:xfrm>
            <a:off x="3495600" y="6119640"/>
            <a:ext cx="484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7f7f7f"/>
                </a:solidFill>
                <a:latin typeface="Arial"/>
              </a:rPr>
              <a:t>Imágen cortesía de </a:t>
            </a:r>
            <a:r>
              <a:rPr b="0" lang="en-GB" sz="1600" spc="-1" strike="noStrike">
                <a:solidFill>
                  <a:srgbClr val="7f7f7f"/>
                </a:solidFill>
                <a:latin typeface="Arial"/>
              </a:rPr>
              <a:t>Giacomo Rambaldi/ARC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Preparación del Modelo para la Extracción de Dat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49928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clinar el model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eparar el ambiente para la tom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1" name="Picture 6" descr="IMG_5217a"/>
          <p:cNvPicPr/>
          <p:nvPr/>
        </p:nvPicPr>
        <p:blipFill>
          <a:blip r:embed="rId1"/>
          <a:stretch/>
        </p:blipFill>
        <p:spPr>
          <a:xfrm>
            <a:off x="4930920" y="1581120"/>
            <a:ext cx="339408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Picture 7" descr="IMG_5218"/>
          <p:cNvPicPr/>
          <p:nvPr/>
        </p:nvPicPr>
        <p:blipFill>
          <a:blip r:embed="rId2"/>
          <a:stretch/>
        </p:blipFill>
        <p:spPr>
          <a:xfrm>
            <a:off x="804960" y="3249720"/>
            <a:ext cx="3779640" cy="28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TextBox 5"/>
          <p:cNvSpPr/>
          <p:nvPr/>
        </p:nvSpPr>
        <p:spPr>
          <a:xfrm>
            <a:off x="2655720" y="6299280"/>
            <a:ext cx="394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f7f7f"/>
                </a:solidFill>
                <a:latin typeface="Arial"/>
              </a:rPr>
              <a:t>Imágenes cortesía de Giacomo Rambaldi/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7" descr="107-0790_IMG_2"/>
          <p:cNvPicPr/>
          <p:nvPr/>
        </p:nvPicPr>
        <p:blipFill>
          <a:blip r:embed="rId1"/>
          <a:stretch/>
        </p:blipFill>
        <p:spPr>
          <a:xfrm>
            <a:off x="4572000" y="1635120"/>
            <a:ext cx="403848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aptura de Da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Movimiento paralelo de la cámar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431640" y="3068640"/>
            <a:ext cx="4500720" cy="32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1332000" y="3789360"/>
            <a:ext cx="0" cy="71928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4"/>
          <p:cNvSpPr/>
          <p:nvPr/>
        </p:nvSpPr>
        <p:spPr>
          <a:xfrm>
            <a:off x="4390920" y="3429000"/>
            <a:ext cx="0" cy="2158920"/>
          </a:xfrm>
          <a:prstGeom prst="line">
            <a:avLst/>
          </a:prstGeom>
          <a:ln w="63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1332000" y="37879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6"/>
          <p:cNvSpPr/>
          <p:nvPr/>
        </p:nvSpPr>
        <p:spPr>
          <a:xfrm>
            <a:off x="1332000" y="450864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1332000" y="52261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>
            <a:off x="1319040" y="5829480"/>
            <a:ext cx="3059280" cy="0"/>
          </a:xfrm>
          <a:prstGeom prst="line">
            <a:avLst/>
          </a:prstGeom>
          <a:ln w="28440">
            <a:solidFill>
              <a:srgbClr val="cc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 rot="16200000">
            <a:off x="-235080" y="4195800"/>
            <a:ext cx="22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imiento de la cámara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0"/>
          <p:cNvSpPr/>
          <p:nvPr/>
        </p:nvSpPr>
        <p:spPr>
          <a:xfrm rot="5400000">
            <a:off x="3919320" y="4283280"/>
            <a:ext cx="12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delo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1"/>
          <p:cNvSpPr/>
          <p:nvPr/>
        </p:nvSpPr>
        <p:spPr>
          <a:xfrm>
            <a:off x="1973160" y="564048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m de di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4"/>
          <p:cNvSpPr/>
          <p:nvPr/>
        </p:nvSpPr>
        <p:spPr>
          <a:xfrm>
            <a:off x="1332000" y="4508640"/>
            <a:ext cx="0" cy="71892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5110200" y="4863960"/>
            <a:ext cx="358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f7f7f"/>
                </a:solidFill>
                <a:latin typeface="Arial"/>
              </a:rPr>
              <a:t>Imágen cortesía de G. Rambaldi/ARC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Secuencia de Imágen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0" name="Content Placeholder 8" descr="shot-sequence.jpg"/>
          <p:cNvPicPr/>
          <p:nvPr/>
        </p:nvPicPr>
        <p:blipFill>
          <a:blip r:embed="rId1"/>
          <a:stretch/>
        </p:blipFill>
        <p:spPr>
          <a:xfrm>
            <a:off x="446040" y="1635120"/>
            <a:ext cx="8229600" cy="2309760"/>
          </a:xfrm>
          <a:prstGeom prst="rect">
            <a:avLst/>
          </a:prstGeom>
          <a:ln w="0">
            <a:noFill/>
          </a:ln>
        </p:spPr>
      </p:pic>
      <p:sp>
        <p:nvSpPr>
          <p:cNvPr id="121" name="Right Triangle 15"/>
          <p:cNvSpPr/>
          <p:nvPr/>
        </p:nvSpPr>
        <p:spPr>
          <a:xfrm rot="18847800">
            <a:off x="5037120" y="3755880"/>
            <a:ext cx="1123920" cy="1158840"/>
          </a:xfrm>
          <a:prstGeom prst="rtTriangle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ight Triangle 16"/>
          <p:cNvSpPr/>
          <p:nvPr/>
        </p:nvSpPr>
        <p:spPr>
          <a:xfrm rot="18847800">
            <a:off x="7089480" y="3744720"/>
            <a:ext cx="1123920" cy="1158840"/>
          </a:xfrm>
          <a:prstGeom prst="rtTriangle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ight Triangle 17"/>
          <p:cNvSpPr/>
          <p:nvPr/>
        </p:nvSpPr>
        <p:spPr>
          <a:xfrm rot="18847800">
            <a:off x="954000" y="3740040"/>
            <a:ext cx="1123920" cy="1158840"/>
          </a:xfrm>
          <a:prstGeom prst="rtTriangle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ight Triangle 18"/>
          <p:cNvSpPr/>
          <p:nvPr/>
        </p:nvSpPr>
        <p:spPr>
          <a:xfrm rot="18847800">
            <a:off x="2993760" y="3744720"/>
            <a:ext cx="1123920" cy="1158840"/>
          </a:xfrm>
          <a:prstGeom prst="rtTriangle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ight Arrow 19"/>
          <p:cNvSpPr/>
          <p:nvPr/>
        </p:nvSpPr>
        <p:spPr>
          <a:xfrm>
            <a:off x="1522440" y="5214960"/>
            <a:ext cx="1973160" cy="1096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ovimie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e la cám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ight Arrow 20"/>
          <p:cNvSpPr/>
          <p:nvPr/>
        </p:nvSpPr>
        <p:spPr>
          <a:xfrm>
            <a:off x="3606840" y="5237280"/>
            <a:ext cx="1973160" cy="10746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ight Arrow 21"/>
          <p:cNvSpPr/>
          <p:nvPr/>
        </p:nvSpPr>
        <p:spPr>
          <a:xfrm>
            <a:off x="5730840" y="5214960"/>
            <a:ext cx="1973160" cy="1096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Ejemplo de </a:t>
            </a: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mágenes</a:t>
            </a: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 Extraída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9" name="Picture 8" descr="IMG_5199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pic>
        <p:nvPicPr>
          <p:cNvPr id="130" name="Picture 9" descr="IMG_5180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pic>
        <p:nvPicPr>
          <p:cNvPr id="131" name="Picture 10" descr="107-0787_IMG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pic>
        <p:nvPicPr>
          <p:cNvPr id="132" name="Picture 11" descr="IMG_5268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sp>
        <p:nvSpPr>
          <p:cNvPr id="133" name="TextBox 6"/>
          <p:cNvSpPr/>
          <p:nvPr/>
        </p:nvSpPr>
        <p:spPr>
          <a:xfrm>
            <a:off x="2655720" y="6299280"/>
            <a:ext cx="39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7f7f7f"/>
                </a:solidFill>
                <a:latin typeface="Arial"/>
              </a:rPr>
              <a:t>Imágenes</a:t>
            </a:r>
            <a:r>
              <a:rPr b="0" lang="en-GB" sz="1600" spc="-1" strike="noStrike">
                <a:solidFill>
                  <a:srgbClr val="7f7f7f"/>
                </a:solidFill>
                <a:latin typeface="Arial"/>
              </a:rPr>
              <a:t> cortesía de Giacomo Rambal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3:03:13Z</dcterms:created>
  <dc:creator>Giacomo Rambaldi</dc:creator>
  <dc:description/>
  <cp:keywords>pgis training kit</cp:keywords>
  <dc:language>en-US</dc:language>
  <cp:lastModifiedBy>martens</cp:lastModifiedBy>
  <dcterms:modified xsi:type="dcterms:W3CDTF">2010-06-08T14:09:14Z</dcterms:modified>
  <cp:revision>31</cp:revision>
  <dc:subject/>
  <dc:title>Presentación 1 - Captura de Datos Utilizando Fotografía Digit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