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BB3-DE97-45A5-A73B-62BF69018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BEB-B1DA-48D3-B300-8FF9BFF88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dar esta presentación, leer el Material Informativo para el Participante de la Unidad M10U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BEE8-8524-47A0-98AA-C902F79F3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E81-200C-45B0-AC53-2BF90293F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3EF5-C966-4D44-ACB6-F62D4DB2E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9C6-6D22-4EE4-A176-138E5A824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1AB7-5CBB-4886-A828-6F1825EAD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ABD-F5DB-4B3B-BFE3-53BE108F3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66A2-0D77-4386-8562-7C445A001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04E-D184-458C-A619-D3616FA00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F3E-91D4-4229-9C58-B87F57CA9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7A62-80CE-4444-8F36-D7A5B2D33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la definición del término “digitalización” como un concepto en SIG. Por supuesto, hay otras definiciones de diccionario para la palabra en otros contex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D585-FD66-4E9D-8619-2B171249B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1BB6-9D27-4ED7-8ABB-72D1A5B56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ualmente, la digitalización manual con un cursor del mouse en la pantalla de la computadora es el método más practicado. Requiere el ingreso de coordenadas a través de un tecl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e puede usar una tableta de digitalización como una alternativa al uso de un mouse pero este equipo está disponible con menos frecu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software usado para hacer la digitalización debe tener una funcionalidad fotogramétrica digital (de SIG). En principio, la digitalización puede hacerse en cualquier software de edición de imágenes y fotografías, pero es esencial usar software SIG para obtener un mapa geométricamente correcto con coorden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digitalización automática y semiautomática requieren técnicas avanzadas preprogramadas que sean útiles solamente si la digitalización es una tarea repetitiva y frecuente. Son métodos poco importantes en 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E161-E628-40C3-99EB-C2AB2397E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ferentes enfoques son posibles para agregar la información de un modelo 3D en una base de datos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a figura, seguimos la línea ro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punto de comienzo son las fotografías digitales tomadas del modelo (DOCUMENT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 requerimos escaneado sino que podemos ir directamente a la digitalización en pantalla donde abrimos la imagen de TRAMA (fotografías) y vectorizamos las diferentes características en el modelo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apa VECTORIAL que se obtiene finalmente puede ser agregado a una base de datos geográfica con otros datos SIG; por ejemplo, versiones digitales del mapa base del mod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D465-97D7-40CA-AA21-99961F0EC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e Módulo, solamente cubrimos las preparaciones para la digitalización en panta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AFE-EC11-4E14-8338-0D5EA6BEA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F702-62BE-4BBB-8F42-05B9FA25D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BBD-EBCC-461B-B981-AED33D296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2D4F-6CA7-4E29-9F0E-CFC461F5F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F16-9E1E-4437-8C0B-02AAAFEBC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7CA9-0675-407D-B9C5-67C632322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1F42-7754-4BE1-AC3A-9CD66677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C53A-AC54-4283-9134-EF1D083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A366-E807-462A-B6D1-4C35D95A0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23F69-320A-49FC-BEB7-6F948516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62B36-7DFD-4C85-9124-B8F159D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72850-6F8F-4A8C-9F4C-0555969E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C81C-AD13-4B9A-9B0D-0092915E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B5816-0DEF-4821-A041-D1FBE55A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77CD1-FB05-477A-A2F9-C5FE01D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887A8-B240-4339-BB82-4368ACE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3926-8F9B-411A-8561-9ADCB25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E59BE-F050-4D3C-8E31-8EF886B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A06F-C0D5-46A8-949A-62271F4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B5BA7-1D63-4FF5-B1B7-264E1C1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15BD4-910E-425F-954B-BB4E5380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0874-4D3F-406A-9F1A-E74190C1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289D-5D02-461B-9B41-CD1677B7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02C9-8B83-4539-A8F4-98435977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1C29-6E13-40B1-BEBB-27FBA80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F368-2ABB-452E-8A5C-537F436D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15C4-FDCE-45E8-9060-2A5E39F7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F135-0B07-448B-AE9D-44A757A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448B-FC0C-4EA5-8A04-8437D48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9691-CE40-4A2F-B0E3-3C14E207A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D477-8285-4DC1-8323-641BC863C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eorreferenciación para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17400" y="51577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</a:t>
            </a: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Willy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 Kock y Jeroen 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</a:t>
            </a: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blecer puntos de control del mapa ba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rían marcarse por lo menos cuatro puntos con coordenadas conocidas en el map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6" name="Picture 5" descr="H:\docs\My Pictures\P3dm_video\Fig_66.jpg"/>
          <p:cNvPicPr/>
          <p:nvPr/>
        </p:nvPicPr>
        <p:blipFill>
          <a:blip r:embed="rId1"/>
          <a:stretch/>
        </p:blipFill>
        <p:spPr>
          <a:xfrm>
            <a:off x="4724280" y="1676520"/>
            <a:ext cx="3581640" cy="4919400"/>
          </a:xfrm>
          <a:prstGeom prst="rect">
            <a:avLst/>
          </a:prstGeom>
          <a:ln w="0">
            <a:noFill/>
          </a:ln>
        </p:spPr>
      </p:pic>
      <p:sp>
        <p:nvSpPr>
          <p:cNvPr id="157" name="Right Arrow 6"/>
          <p:cNvSpPr/>
          <p:nvPr/>
        </p:nvSpPr>
        <p:spPr>
          <a:xfrm rot="18787200">
            <a:off x="5430600" y="2635200"/>
            <a:ext cx="1981440" cy="914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noFill/>
          <a:ln w="73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60600" cy="3192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33520" y="19807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cribir las coordenadas x, y de cada punt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eorreferenciación de la imagen. Marcar coordenadas: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ilizar las herramientas de georreferenciación del software para seleccionar y agregar puntos de contro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cer clic con el puntero del mouse sobre un punto conocido en la capa de trama para la cual se tienen las coordenadas x e 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85800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5105520" y="1447920"/>
            <a:ext cx="3352320" cy="4378320"/>
            <a:chOff x="5105520" y="1447920"/>
            <a:chExt cx="3352320" cy="4378320"/>
          </a:xfrm>
        </p:grpSpPr>
        <p:grpSp>
          <p:nvGrpSpPr>
            <p:cNvPr id="168" name="Group 12"/>
            <p:cNvGrpSpPr/>
            <p:nvPr/>
          </p:nvGrpSpPr>
          <p:grpSpPr>
            <a:xfrm>
              <a:off x="5105520" y="1447920"/>
              <a:ext cx="3352320" cy="4378320"/>
              <a:chOff x="5105520" y="1447920"/>
              <a:chExt cx="3352320" cy="4378320"/>
            </a:xfrm>
          </p:grpSpPr>
          <p:pic>
            <p:nvPicPr>
              <p:cNvPr id="169" name="Picture 13" descr="Fig_66"/>
              <p:cNvPicPr/>
              <p:nvPr/>
            </p:nvPicPr>
            <p:blipFill>
              <a:blip r:embed="rId1"/>
              <a:stretch/>
            </p:blipFill>
            <p:spPr>
              <a:xfrm>
                <a:off x="5105520" y="1447920"/>
                <a:ext cx="3149640" cy="43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" descr="ne2"/>
              <p:cNvPicPr/>
              <p:nvPr/>
            </p:nvPicPr>
            <p:blipFill>
              <a:blip r:embed="rId2"/>
              <a:stretch/>
            </p:blipFill>
            <p:spPr>
              <a:xfrm>
                <a:off x="6375240" y="2466720"/>
                <a:ext cx="2082600" cy="946800"/>
              </a:xfrm>
              <a:prstGeom prst="rect">
                <a:avLst/>
              </a:prstGeom>
              <a:ln w="9360">
                <a:solidFill>
                  <a:srgbClr val="071215"/>
                </a:solidFill>
                <a:miter/>
              </a:ln>
            </p:spPr>
          </p:pic>
        </p:grpSp>
        <p:sp>
          <p:nvSpPr>
            <p:cNvPr id="171" name="AutoShape 15"/>
            <p:cNvSpPr/>
            <p:nvPr/>
          </p:nvSpPr>
          <p:spPr>
            <a:xfrm rot="17301000">
              <a:off x="6335640" y="1514160"/>
              <a:ext cx="445680" cy="1083240"/>
            </a:xfrm>
            <a:prstGeom prst="upArrow">
              <a:avLst>
                <a:gd name="adj1" fmla="val 50000"/>
                <a:gd name="adj2" fmla="val 6076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AutoShape 17"/>
          <p:cNvCxnSpPr/>
          <p:nvPr/>
        </p:nvCxnSpPr>
        <p:spPr>
          <a:xfrm>
            <a:off x="5455800" y="1833120"/>
            <a:ext cx="459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3" name="AutoShape 18"/>
          <p:cNvCxnSpPr/>
          <p:nvPr/>
        </p:nvCxnSpPr>
        <p:spPr>
          <a:xfrm>
            <a:off x="5686200" y="1612800"/>
            <a:ext cx="1080" cy="427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ego de agregar por lo menos cuatro puntos, se puede evaluar la trans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l software SIG, se puede examinar el error “residual” para cada punto y el error “RMS” (raíz media cuadrática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situación ideal, el error RMS no debería ser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abla muestra errores residuales de puntos de control que resultan en un error RMS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" name="Picture 4" descr="ne7"/>
          <p:cNvPicPr/>
          <p:nvPr/>
        </p:nvPicPr>
        <p:blipFill>
          <a:blip r:embed="rId1"/>
          <a:stretch/>
        </p:blipFill>
        <p:spPr>
          <a:xfrm>
            <a:off x="1371600" y="2971800"/>
            <a:ext cx="5562720" cy="34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Left Arrow 5"/>
          <p:cNvSpPr/>
          <p:nvPr/>
        </p:nvSpPr>
        <p:spPr>
          <a:xfrm>
            <a:off x="6477120" y="5562720"/>
            <a:ext cx="1981080" cy="6094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l RMS fuera mayor a un píxel, borrar los puntos de control con los mayores errores residuales y crear nuevos pu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MS menor a un píxel: OK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3" name="Picture 4" descr="ne8"/>
          <p:cNvPicPr/>
          <p:nvPr/>
        </p:nvPicPr>
        <p:blipFill>
          <a:blip r:embed="rId1"/>
          <a:stretch/>
        </p:blipFill>
        <p:spPr>
          <a:xfrm>
            <a:off x="1447920" y="2362320"/>
            <a:ext cx="556236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Left Arrow 5"/>
          <p:cNvSpPr/>
          <p:nvPr/>
        </p:nvSpPr>
        <p:spPr>
          <a:xfrm>
            <a:off x="6629400" y="4952880"/>
            <a:ext cx="1981080" cy="60984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de georreferenciación es diferente para cada programa de softwar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tes de comenzar a digitalizar las imágenes, es mejor unir las diferentes imágenes superpuestas del model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para “unir” es diferente para cada programa de software. 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tura de datos mediante la conversión de características en un mapa en papel o fotografía aérea (digital) en formato vectorial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ndo la imagen está completamente georreferenciada y unida, se puede comenzar la digitalización en pantalla, trazando las características en una nueva capa vectori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e método se trata en M12U04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458200" cy="4754520"/>
        </p:xfrm>
        <a:graphic>
          <a:graphicData uri="http://schemas.openxmlformats.org/drawingml/2006/table">
            <a:tbl>
              <a:tblPr/>
              <a:tblGrid>
                <a:gridCol w="3054240"/>
                <a:gridCol w="540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si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manu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Ingreso de coordenadas mediante el tecl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ableta de digitalización con curs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ursor del mouse en el monitor de la computadora: digitalización en pantalla (hacia arrib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Fotogrametría digi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án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semi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aner y software de seguimiento con digitalización de líne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Digtechnigues"/>
          <p:cNvPicPr/>
          <p:nvPr/>
        </p:nvPicPr>
        <p:blipFill>
          <a:blip r:embed="rId1"/>
          <a:stretch/>
        </p:blipFill>
        <p:spPr>
          <a:xfrm>
            <a:off x="649440" y="1157400"/>
            <a:ext cx="7986600" cy="55767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3327480" y="1752480"/>
            <a:ext cx="3267000" cy="3886200"/>
            <a:chOff x="3327480" y="1752480"/>
            <a:chExt cx="3267000" cy="3886200"/>
          </a:xfrm>
        </p:grpSpPr>
        <p:sp>
          <p:nvSpPr>
            <p:cNvPr id="137" name="Rectangle 7"/>
            <p:cNvSpPr/>
            <p:nvPr/>
          </p:nvSpPr>
          <p:spPr>
            <a:xfrm>
              <a:off x="4934160" y="2185920"/>
              <a:ext cx="13334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3327480" y="1752480"/>
              <a:ext cx="3267000" cy="388620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3886200"/>
                <a:gd name="textAreaBottom" fmla="*/ 3886560 h 3886200"/>
              </a:gdLst>
              <a:ahLst/>
              <a:rect l="textAreaLeft" t="textAreaTop" r="textAreaRight" b="textAreaBottom"/>
              <a:pathLst>
                <a:path w="10000" h="9189">
                  <a:moveTo>
                    <a:pt x="3343" y="0"/>
                  </a:moveTo>
                  <a:cubicBezTo>
                    <a:pt x="4022" y="526"/>
                    <a:pt x="856" y="1502"/>
                    <a:pt x="1944" y="2343"/>
                  </a:cubicBezTo>
                  <a:cubicBezTo>
                    <a:pt x="3033" y="3184"/>
                    <a:pt x="9750" y="4462"/>
                    <a:pt x="9874" y="5045"/>
                  </a:cubicBezTo>
                  <a:cubicBezTo>
                    <a:pt x="10000" y="5628"/>
                    <a:pt x="1554" y="5435"/>
                    <a:pt x="777" y="6126"/>
                  </a:cubicBezTo>
                  <a:cubicBezTo>
                    <a:pt x="0" y="6817"/>
                    <a:pt x="4194" y="8304"/>
                    <a:pt x="5209" y="9189"/>
                  </a:cubicBezTo>
                </a:path>
              </a:pathLst>
            </a:custGeom>
            <a:noFill/>
            <a:ln w="25560">
              <a:solidFill>
                <a:srgbClr val="b9243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Digitalización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Manual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dos métodos para digitalización manu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con tablet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en pantall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 vs Digitalización con Table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cómoda para el operad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precisa. Facilidades de zoo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rápida. Semi-automática, digitalización y edición al mismo tiem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cedimientos de actualización. Las imágenes satelitales geométricamente corregidas y las fotografías aéreas digitales pueden ser superpuestas con los antiguos datos vectori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se necesita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de escaneado y de edición de imáge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SIG (QGIS, ILWIS, ArcGIS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cedimiento de Digitalización en Pantal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Abrir/importar una capa de trama existente (fotografía) a su programa de SIG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 imagen será mostrada en la pantalla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aracterísticas pueden ser trazadas mediante un mouse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oordenadas x, y de estas características son registradas y almacenadas como datos territoriale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n primer lugar, georreferenciar las fotografía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1447560"/>
            <a:ext cx="4038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ágen es una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otografía del model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Content Placeholder 9"/>
          <p:cNvSpPr/>
          <p:nvPr/>
        </p:nvSpPr>
        <p:spPr>
          <a:xfrm>
            <a:off x="152280" y="2819520"/>
            <a:ext cx="75438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todav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están estructu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objetos clasificad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dific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de imágenes tienen que 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ctorizados y estructurados e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g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5105520" y="1523880"/>
            <a:ext cx="3724200" cy="2800440"/>
            <a:chOff x="5105520" y="1523880"/>
            <a:chExt cx="3724200" cy="2800440"/>
          </a:xfrm>
        </p:grpSpPr>
        <p:pic>
          <p:nvPicPr>
            <p:cNvPr id="152" name="Picture 7" descr=""/>
            <p:cNvPicPr/>
            <p:nvPr/>
          </p:nvPicPr>
          <p:blipFill>
            <a:blip r:embed="rId1"/>
            <a:stretch/>
          </p:blipFill>
          <p:spPr>
            <a:xfrm>
              <a:off x="5105520" y="1523880"/>
              <a:ext cx="3724200" cy="2800440"/>
            </a:xfrm>
            <a:prstGeom prst="rect">
              <a:avLst/>
            </a:prstGeom>
            <a:ln w="9360">
              <a:solidFill>
                <a:srgbClr val="0d0d0d"/>
              </a:solidFill>
              <a:miter/>
            </a:ln>
          </p:spPr>
        </p:pic>
        <p:pic>
          <p:nvPicPr>
            <p:cNvPr id="153" name="Picture 10" descr="107-0787_IMG"/>
            <p:cNvPicPr/>
            <p:nvPr/>
          </p:nvPicPr>
          <p:blipFill>
            <a:blip r:embed="rId2"/>
            <a:stretch/>
          </p:blipFill>
          <p:spPr>
            <a:xfrm>
              <a:off x="5478480" y="1869480"/>
              <a:ext cx="2916360" cy="218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ens</cp:lastModifiedBy>
  <dcterms:modified xsi:type="dcterms:W3CDTF">2010-06-08T14:07:41Z</dcterms:modified>
  <cp:revision>28</cp:revision>
  <dc:subject/>
  <dc:title>Presentación 2 - Georreferenciación para Digital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