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03CC-CF4C-4AF3-960C-10583C544549}"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a para el presentador: Remitirse al Material Informativo para el Participante (M10U02) y otros materiales informativos disponibles en esta Unidad para más informació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diapositiva también remite a la ética del mape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7C4B-5C82-40E7-A11A-BF5DB0A1DC45}"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0869-05C2-4672-9A5E-32CE64FA7147}"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articipantes verán diferentes tipos de diversidad comunitaria en el ejercicio y material inform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complejidad, el conocimiento tácito y la ambigüedad son cosas a buscar en la obtención y pueden presentar desafíos y oportunidades para el aprendizaj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28B8-9EFC-4E50-85CD-E718E395A9B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970A-97E8-4564-8DF4-A8491CFA9C86}"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 el artículo, “</a:t>
            </a:r>
            <a:r>
              <a:rPr b="0" lang="es-ES" sz="1200" spc="-1" strike="noStrike">
                <a:solidFill>
                  <a:srgbClr val="000000"/>
                </a:solidFill>
                <a:latin typeface="Arial"/>
              </a:rPr>
              <a:t>A través de los ojos de los cazadores-recolectores</a:t>
            </a:r>
            <a:r>
              <a:rPr b="0" lang="es-AR" sz="1200" spc="-1" strike="noStrike">
                <a:solidFill>
                  <a:srgbClr val="000000"/>
                </a:solidFill>
                <a:latin typeface="Arial"/>
              </a:rPr>
              <a:t>”. Este texto proporciona un ejemplo de cómo fue usada una matriz para capturar información compleja sobre áreas en un modelo durante la obtenció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038A-28AD-4D90-A8DF-FA5A2B54949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ucir la ambigüedad es importante para la elaboración de la leyenda. Una mala obtención inicial causará confusión después. El entrevistador necesita estar seguro de que ha entendido el significado total de un término antes de que esté finalizado en la leyend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E538-6D22-44BC-9B81-50AF0285FEB4}"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es una oportunidad de preguntar a los participantes qué consideran que son los grupos con intereses comunes diferentes en sus propias comunidades o en comunidades donde han trabajad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C7A0-7A7E-4E2B-BD30-5D2BB5F968CC}"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opónimos: Escribir nombres en etiquetas y agregarlos al mapa, no a la leyend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diapositiva también remite a la ética del mape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8F6BE4-8660-48C7-B33D-64B85B2A94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DFC9128-6F52-4339-9ACB-89D825276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456E40FE-209B-4F1F-B668-73300F0AD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8FE92B9-D25B-47E9-99FC-8EE3AAE366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3EC4443-7B38-422E-A489-7A8ACE0B6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CE07582-D90C-4414-9D9C-01F11D179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E7A570D-5983-4B08-8318-4CB7C7807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47BF698-DAA4-4C21-92CB-A52E83D11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837EF1F-FDAB-40AD-84EC-0A39D9169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0D69355-1A3C-46A7-801B-810BE2B34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C89B987-AAB3-478C-8310-AE36CEFFF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64AA35C-2ECC-4594-AFD7-CD02168F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C1DC99B-3C3D-4CDD-B9AD-C19B75C70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C188BBD-3ED5-4A15-9E9A-441BF99A8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8AA1B70-729A-4DDD-B92B-333935FC3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38FA01A-2127-4B49-8B79-364C38449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0096710-404E-4963-A38F-38BE214843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6EEAB0D-7F8F-4BB6-8A90-4EB4774AB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A869126-095C-4F9B-B24E-3888B05EB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F940A1DC-2D6D-4E81-83DF-B18C06956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21CA7ECD-B28A-4833-8E4F-4B26E5EB0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711EE2D-3740-4990-B99C-C083221A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58E79D6-E771-48C3-953F-35BBCB82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052A434-1690-453A-ADD6-96D0691BDAB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6D7C-8F82-4DA0-B560-6EFCC5DC4B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75E1-C8F3-4A28-8AA6-E4879E5EDF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eparación de la Leyenda</a:t>
            </a:r>
            <a:br>
              <a:rPr sz="4400"/>
            </a:br>
            <a:r>
              <a:rPr b="0" lang="es-AR" sz="4400" spc="-1" strike="noStrike">
                <a:solidFill>
                  <a:srgbClr val="cc3300"/>
                </a:solidFill>
                <a:latin typeface="Arial"/>
              </a:rPr>
              <a:t>del Mapa </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La clave para un buen mapeo</a:t>
            </a:r>
            <a:endParaRPr b="0" lang="en-US" sz="3200" spc="-1" strike="noStrike">
              <a:solidFill>
                <a:srgbClr val="5f5f5f"/>
              </a:solidFill>
              <a:latin typeface="Arial"/>
            </a:endParaRPr>
          </a:p>
        </p:txBody>
      </p:sp>
      <p:sp>
        <p:nvSpPr>
          <p:cNvPr id="91" name="Rectangle 4"/>
          <p:cNvSpPr/>
          <p:nvPr/>
        </p:nvSpPr>
        <p:spPr>
          <a:xfrm>
            <a:off x="3567960" y="501336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Nigel Crawhall</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0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fidencialidad Cultural</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olores y las normas sociales varían entre comunidad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oger colores y códigos apropi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petar las reglas y normas sociales mientras se incentiva la participación divers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a Leyenda es Todo</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mapa es silencioso sin su leyen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a leyenda es la base del diálogo intercultural en mapeo participativ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écnica de MP3D muestra al mundo el conocimiento “tácito” sobre los paisajes culturales-naturales, pero la leyenda pone esto a disposición de otr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btención de los Elementos de la Leyenda</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ntes de mapear, comenzar a desarrollar la leyenda con quienes poseen conocimiento local y portadores de cultur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omunidades son diversas. Quienes trabajan en la leyenda necesitan representar esa diversidad.</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conocimiento local puede ser complejo, tácito y/o ambigu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ocimiento Tácito</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conocimiento tácito hace referencia a  las cosas que los habitantes locales saben sobre el paisaje, el ecosistema, la biodiversidad o el uso cultural, pero sobre el cual no hablan regularment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s personas pueden conocer el paisaje haciendo u observando. Durante el mapeo pueden hablar sobre esto por primera vez.</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facilitador puede hacer salir conocimiento tácito a la superficie haciendo buenas preguntas y escuchando atentam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mplejidad</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palabra puede ocultar información compleja sobre el mapa o ecosistema.</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uenas técnicas de entrevista ayudan a obtener qué significa un término complejo. No se trata sólo de traducir simplemente de un idioma a otr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a información compleja, una matriz u otro tipo de documentación puede ayudar a capturar el significado completo atrás de los elementos de la leyend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ducción de la Ambigüedad</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ambigüedad significa que una palabra tiene más de un significado. Esto puede ser confuso al mapea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es claro sobre qué significa un elemento de la leyend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 ejemplos de ambigüedades en el material informativo.</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uenas técnicas de entrevista reducirán la ambigüedad y ahorrarán tiempo despué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versidad Biocultural</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tener un buen proceso de mapeo, incluir a diversos poseedores de conocimiento y portadores de cultura: </a:t>
            </a:r>
            <a:endParaRPr b="0" lang="en-US" sz="32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jeres, parteras, especialistas en medicina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cianos, iniciados, jóvenes, cazadores, rastreadore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íderes y practicantes religioso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hamanes, adivinadores y curandero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stores, criadores de abejas, pescado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aboración de la Leyenda</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418608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dos los elementos de la leyenda necesitan ser clasificados e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Áre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íne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nt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opónimos.</a:t>
            </a:r>
            <a:endParaRPr b="0" lang="en-US" sz="2800" spc="-1" strike="noStrike">
              <a:solidFill>
                <a:srgbClr val="5f5f5f"/>
              </a:solidFill>
              <a:latin typeface="Arial"/>
            </a:endParaRPr>
          </a:p>
        </p:txBody>
      </p:sp>
      <p:pic>
        <p:nvPicPr>
          <p:cNvPr id="108" name="Picture 7" descr="legendlightOgiek06"/>
          <p:cNvPicPr/>
          <p:nvPr/>
        </p:nvPicPr>
        <p:blipFill>
          <a:blip r:embed="rId1"/>
          <a:stretch/>
        </p:blipFill>
        <p:spPr>
          <a:xfrm>
            <a:off x="4572000" y="2205000"/>
            <a:ext cx="4357800" cy="326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fidencialidad Cultural</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da información no debería estar en un map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delicada sobre especies en peligro de extin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itios sagrados o áreas tabú.</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cursos valiosos.</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0:36:23Z</dcterms:created>
  <dc:creator>Nigel Crawhall</dc:creator>
  <dc:description/>
  <cp:keywords>pgis training kit</cp:keywords>
  <dc:language>en-US</dc:language>
  <cp:lastModifiedBy>martens</cp:lastModifiedBy>
  <dcterms:modified xsi:type="dcterms:W3CDTF">2010-06-03T14:16:53Z</dcterms:modified>
  <cp:revision>50</cp:revision>
  <dc:subject/>
  <dc:title>Presentación 1 - Preparación de la leyenda del map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