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3E6-DE7A-4770-8DF1-AA2134A952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: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írvase remitirse al Material Informativo para el Participante M07U02 y a las lecturas recomendadas, por más información sobre este 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F52-4C9A-44FE-95C4-040A522E94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C6CB-DF72-4E25-BA92-5595D4A1ED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3F9-C9C9-4098-A058-BD62723CD5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489-E524-449F-9846-AD1CCD0663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odelo se inclina y su base se coloca perpendicularmente al piso (Imagen de la derecha). Las líneas se marcan en el piso a determinados intervalos para guiar la colocación de la cámara y la dirección de la t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5C2-0E9E-48F7-BB9A-407DDE962B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s imágenes tomadas en secuencia, movimiento paralelo de la cámara, incluyen áreas de superposi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D59-B709-4D63-A8CD-74D7ADB86F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9176-FCD1-4B7E-8071-5D2413023E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os son algunos ejemplos de imágenes capturadas de modelos 3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C822-1095-4722-8F78-ED714D17D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48EE-B01C-4714-A6AE-9A94AED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4F2E-D381-4879-BE8C-5797E71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1A57-DA85-4A92-B62C-10D3F4C91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353D9-6D32-4EEA-9E07-A907C6A5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F3E65-7E46-4882-9FC8-0623F58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3979-E03F-49C5-A362-31A96DD7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205CE-A55C-48BE-9685-B58256E9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2AA5-25AC-4D9C-A8D3-1B3DD5D4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B470-D3E5-48A4-BB49-F90D8BA6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C70EA-1FE3-4314-9977-B0547A98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9C2C-84A6-4DEE-BE20-130DF81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C4041-D9FF-4A63-9830-6C70AB5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BE66-99FD-4909-9768-29423F0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EE532-4ACC-4303-8403-7A726A5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D1C4-DCB3-4BA9-9822-50BF71F6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A6077-D4E8-479B-BDE3-1B784E2E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0E17-7CBD-4FA4-AF30-A2636C2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0B8D-5213-431B-B696-D97BCF60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0702-B727-4578-A8B8-DDBB138A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4345-A3DD-46B6-BCF3-9E3380FF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4CFD-D299-4C4B-8395-7801E07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E65E-1763-4274-A4D4-6B67F68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6708-72A7-43FA-85CD-101FA471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970-9397-4337-8CF8-6084EC51C3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C64-3E1F-4B52-AC00-168AD1515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 Utilizando Fotografí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72240" y="521028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Giacomo Rambaldi y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lujo de la 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quipo necesari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paración del modelo para la extracción de da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ptura de datos usando fotografía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quipo Necesario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ámara digital réflex de lente única (SLR) de alta resolu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entes de alta calidad con zoom ajustable y zoom manual y opciones de foc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rípo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loma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ilos de colo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lavos / chinche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car un cuadriculado sobre el modelo 3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7" name="Picture 5" descr="http://www.iapad.org/images/pic_110_pumat_model+grid_0.jpg"/>
          <p:cNvPicPr/>
          <p:nvPr/>
        </p:nvPicPr>
        <p:blipFill>
          <a:blip r:embed="rId1"/>
          <a:stretch/>
        </p:blipFill>
        <p:spPr>
          <a:xfrm>
            <a:off x="3495600" y="2173320"/>
            <a:ext cx="47833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4"/>
          <p:cNvSpPr/>
          <p:nvPr/>
        </p:nvSpPr>
        <p:spPr>
          <a:xfrm>
            <a:off x="3495600" y="6119640"/>
            <a:ext cx="48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 cortesía de 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Giacomo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eparación del Modelo para la Extracción de Dat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4992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inar el model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parar el ambiente para la tom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" name="Picture 6" descr="IMG_5217a"/>
          <p:cNvPicPr/>
          <p:nvPr/>
        </p:nvPicPr>
        <p:blipFill>
          <a:blip r:embed="rId1"/>
          <a:stretch/>
        </p:blipFill>
        <p:spPr>
          <a:xfrm>
            <a:off x="4930920" y="1581120"/>
            <a:ext cx="3394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7" descr="IMG_5218"/>
          <p:cNvPicPr/>
          <p:nvPr/>
        </p:nvPicPr>
        <p:blipFill>
          <a:blip r:embed="rId2"/>
          <a:stretch/>
        </p:blipFill>
        <p:spPr>
          <a:xfrm>
            <a:off x="804960" y="3249720"/>
            <a:ext cx="3779640" cy="28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2655720" y="6299280"/>
            <a:ext cx="394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es cortesía de Giacomo Rambaldi/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7" descr="107-0790_IMG_2"/>
          <p:cNvPicPr/>
          <p:nvPr/>
        </p:nvPicPr>
        <p:blipFill>
          <a:blip r:embed="rId1"/>
          <a:stretch/>
        </p:blipFill>
        <p:spPr>
          <a:xfrm>
            <a:off x="4572000" y="16351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ptura de Da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ovimiento paralelo de la cáma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431640" y="3068640"/>
            <a:ext cx="4500720" cy="32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1332000" y="3789360"/>
            <a:ext cx="0" cy="71928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390920" y="3429000"/>
            <a:ext cx="0" cy="215892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332000" y="37879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1332000" y="4508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1332000" y="52261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1319040" y="5829480"/>
            <a:ext cx="3059280" cy="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 rot="16200000">
            <a:off x="-235080" y="419580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miento de la cáma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 rot="5400000">
            <a:off x="3919320" y="4283280"/>
            <a:ext cx="1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o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973160" y="564048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m de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4"/>
          <p:cNvSpPr/>
          <p:nvPr/>
        </p:nvSpPr>
        <p:spPr>
          <a:xfrm>
            <a:off x="1332000" y="4508640"/>
            <a:ext cx="0" cy="7189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110200" y="4863960"/>
            <a:ext cx="35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ágen cortesía de G.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ecuencia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Content Placeholder 8" descr="shot-sequence.jpg"/>
          <p:cNvPicPr/>
          <p:nvPr/>
        </p:nvPicPr>
        <p:blipFill>
          <a:blip r:embed="rId1"/>
          <a:stretch/>
        </p:blipFill>
        <p:spPr>
          <a:xfrm>
            <a:off x="446040" y="1635120"/>
            <a:ext cx="8229600" cy="2309760"/>
          </a:xfrm>
          <a:prstGeom prst="rect">
            <a:avLst/>
          </a:prstGeom>
          <a:ln w="0">
            <a:noFill/>
          </a:ln>
        </p:spPr>
      </p:pic>
      <p:sp>
        <p:nvSpPr>
          <p:cNvPr id="121" name="Right Triangle 15"/>
          <p:cNvSpPr/>
          <p:nvPr/>
        </p:nvSpPr>
        <p:spPr>
          <a:xfrm rot="18847800">
            <a:off x="5037120" y="375588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Triangle 16"/>
          <p:cNvSpPr/>
          <p:nvPr/>
        </p:nvSpPr>
        <p:spPr>
          <a:xfrm rot="18847800">
            <a:off x="708948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Triangle 17"/>
          <p:cNvSpPr/>
          <p:nvPr/>
        </p:nvSpPr>
        <p:spPr>
          <a:xfrm rot="18847800">
            <a:off x="954000" y="374004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Triangle 18"/>
          <p:cNvSpPr/>
          <p:nvPr/>
        </p:nvSpPr>
        <p:spPr>
          <a:xfrm rot="18847800">
            <a:off x="299376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9"/>
          <p:cNvSpPr/>
          <p:nvPr/>
        </p:nvSpPr>
        <p:spPr>
          <a:xfrm>
            <a:off x="15224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la cá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20"/>
          <p:cNvSpPr/>
          <p:nvPr/>
        </p:nvSpPr>
        <p:spPr>
          <a:xfrm>
            <a:off x="3606840" y="5237280"/>
            <a:ext cx="1973160" cy="1074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21"/>
          <p:cNvSpPr/>
          <p:nvPr/>
        </p:nvSpPr>
        <p:spPr>
          <a:xfrm>
            <a:off x="57308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jemplo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Extraíd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9" name="Picture 8" descr="IMG_519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0" name="Picture 9" descr="IMG_518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1" name="Picture 10" descr="107-0787_IMG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2" name="Picture 11" descr="IMG_52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sp>
        <p:nvSpPr>
          <p:cNvPr id="133" name="TextBox 6"/>
          <p:cNvSpPr/>
          <p:nvPr/>
        </p:nvSpPr>
        <p:spPr>
          <a:xfrm>
            <a:off x="2655720" y="629928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7f7f7f"/>
                </a:solidFill>
                <a:latin typeface="Arial"/>
              </a:rPr>
              <a:t>Imágenes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 cortesía de Giacomo Rambal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03:13Z</dcterms:created>
  <dc:creator>Giacomo Rambaldi</dc:creator>
  <dc:description/>
  <cp:keywords>pgis training kit</cp:keywords>
  <dc:language>en-US</dc:language>
  <cp:lastModifiedBy>martens</cp:lastModifiedBy>
  <dcterms:modified xsi:type="dcterms:W3CDTF">2010-06-08T14:09:14Z</dcterms:modified>
  <cp:revision>31</cp:revision>
  <dc:subject/>
  <dc:title>Presentación 1 - Captura de Datos Utilizando Fotografía Dig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