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C2B-FE8D-476B-BF9B-24FF6A1B76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B1A7-ED7C-4A06-AA3B-F306F2B5A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dar esta presentación, leer el Material Informativo para el Participante de la Unidad M10U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FF2-97FD-4F52-A4A8-FEB656748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360B-87C5-4510-8729-678763258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146F-6EA9-43C8-AC04-47F4CA4A6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527-ECA9-4812-A46E-A6C37BAFD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97E-7A39-48FA-A5A4-970383E2F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3D1-F6D2-4974-B7C7-974078587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99A-4CAE-4208-88A8-3A046A57D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BF15-407F-479B-9E6B-C471084DE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A047-5809-4A90-AB5F-CF89EFB76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426C-137B-469A-8139-2220FD4CA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 es la definición del término “digitalización” como un concepto en SIG. Por supuesto, hay otras definiciones de diccionario para la palabra en otros contex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F75-9404-4C64-8F54-80019A614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D560-4A7C-4342-865D-61D33654D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ualmente, la digitalización manual con un cursor del mouse en la pantalla de la computadora es el método más practicado. Requiere el ingreso de coordenadas a través de un tecl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e puede usar una tableta de digitalización como una alternativa al uso de un mouse pero este equipo está disponible con menos frecu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software usado para hacer la digitalización debe tener una funcionalidad fotogramétrica digital (de SIG). En principio, la digitalización puede hacerse en cualquier software de edición de imágenes y fotografías, pero es esencial usar software SIG para obtener un mapa geométricamente correcto con coorden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digitalización automática y semiautomática requieren técnicas avanzadas preprogramadas que sean útiles solamente si la digitalización es una tarea repetitiva y frecuente. Son métodos poco importantes en este ca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C7D7-40BE-46AB-BC18-004DDD075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iferentes enfoques son posibles para agregar la información de un modelo 3D en una base de datos terr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a figura, seguimos la línea ro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punto de comienzo son las fotografías digitales tomadas del modelo (DOCUMENT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 requerimos escaneado sino que podemos ir directamente a la digitalización en pantalla donde abrimos la imagen de TRAMA (fotografías) y vectorizamos las diferentes características en el modelo 3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apa VECTORIAL que se obtiene finalmente puede ser agregado a una base de datos geográfica con otros datos SIG; por ejemplo, versiones digitales del mapa base del mod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395-C5A9-426F-AFDB-51A2D1DF0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n este Módulo, solamente cubrimos las preparaciones para la digitalización en panta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0A2D-59BB-4418-AF29-FED1D9E91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AA12-901A-4B26-A623-D07C5198B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E22-3E89-4915-A9F6-A365F2471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CE19-7D32-4FD8-8FC4-D573F102A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7A0-B251-48B8-B41C-53A2B9003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054E-6010-4C29-BC9F-EDC7466ED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5494-5FDE-4640-9A6E-21FF934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F82A-9ACC-4A23-8B99-6C900E3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8AF3-BF7D-49F1-82F6-9455BBC7B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62870-D1DB-437F-A4EA-5A86CC1A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A51A-B753-49DF-9AC8-2BDB0E4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65A92-885D-4FD0-B369-F553B84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2737B-5E1F-4946-AFAA-33A7A7E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E9815-9E7D-4739-AFA9-74112AA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0E99-B1B2-4CD4-9E9A-94779E4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83B53-C696-476D-88B5-82CEC6B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F3AD-F268-46E0-BE8E-C9621878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35568-1D2D-4B85-A015-E30CBDF1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94946-FE6C-4387-9A76-8B1634E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25B31-B100-46C2-8BAE-8B43499D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16F02-272F-41A9-B67A-7BA57C9E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1F683-10B2-4367-975C-50FCE364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EBE2-CC8B-446A-821C-863703B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6480-6496-42E6-8536-8205F8BD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886E-070B-4AB8-84F3-140F8494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05D7-40FD-4373-83AD-71FD2110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DDA5-C5F6-4B10-AAC2-27F1E71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12FA-B7A1-4156-998E-6266B2B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70CE-1762-48D0-8F4C-7651403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E12C-17F0-4477-BC4F-5F40C0920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580-24E4-43EE-869D-BABF49F03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eorreferenciación para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17400" y="51577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</a:t>
            </a: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Willy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 Kock y Jeroen 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</a:t>
            </a: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blecer puntos de control del mapa ba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rían marcarse por lo menos cuatro puntos con coordenadas conocidas en el map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6" name="Picture 5" descr="H:\docs\My Pictures\P3dm_video\Fig_66.jpg"/>
          <p:cNvPicPr/>
          <p:nvPr/>
        </p:nvPicPr>
        <p:blipFill>
          <a:blip r:embed="rId1"/>
          <a:stretch/>
        </p:blipFill>
        <p:spPr>
          <a:xfrm>
            <a:off x="4724280" y="1676520"/>
            <a:ext cx="3581640" cy="4919400"/>
          </a:xfrm>
          <a:prstGeom prst="rect">
            <a:avLst/>
          </a:prstGeom>
          <a:ln w="0">
            <a:noFill/>
          </a:ln>
        </p:spPr>
      </p:pic>
      <p:sp>
        <p:nvSpPr>
          <p:cNvPr id="157" name="Right Arrow 6"/>
          <p:cNvSpPr/>
          <p:nvPr/>
        </p:nvSpPr>
        <p:spPr>
          <a:xfrm rot="18787200">
            <a:off x="5430600" y="2635200"/>
            <a:ext cx="1981440" cy="914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noFill/>
          <a:ln w="73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60600" cy="3192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33520" y="19807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cribir las coordenadas x, y de cada punt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eorreferenciación de la imagen. Marcar coordenadas: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tilizar las herramientas de georreferenciación del software para seleccionar y agregar puntos de contro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cer clic con el puntero del mouse sobre un punto conocido en la capa de trama para la cual se tienen las coordenadas x e 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85800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5105520" y="1447920"/>
            <a:ext cx="3352320" cy="4378320"/>
            <a:chOff x="5105520" y="1447920"/>
            <a:chExt cx="3352320" cy="4378320"/>
          </a:xfrm>
        </p:grpSpPr>
        <p:grpSp>
          <p:nvGrpSpPr>
            <p:cNvPr id="168" name="Group 12"/>
            <p:cNvGrpSpPr/>
            <p:nvPr/>
          </p:nvGrpSpPr>
          <p:grpSpPr>
            <a:xfrm>
              <a:off x="5105520" y="1447920"/>
              <a:ext cx="3352320" cy="4378320"/>
              <a:chOff x="5105520" y="1447920"/>
              <a:chExt cx="3352320" cy="4378320"/>
            </a:xfrm>
          </p:grpSpPr>
          <p:pic>
            <p:nvPicPr>
              <p:cNvPr id="169" name="Picture 13" descr="Fig_66"/>
              <p:cNvPicPr/>
              <p:nvPr/>
            </p:nvPicPr>
            <p:blipFill>
              <a:blip r:embed="rId1"/>
              <a:stretch/>
            </p:blipFill>
            <p:spPr>
              <a:xfrm>
                <a:off x="5105520" y="1447920"/>
                <a:ext cx="3149640" cy="43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" descr="ne2"/>
              <p:cNvPicPr/>
              <p:nvPr/>
            </p:nvPicPr>
            <p:blipFill>
              <a:blip r:embed="rId2"/>
              <a:stretch/>
            </p:blipFill>
            <p:spPr>
              <a:xfrm>
                <a:off x="6375240" y="2466720"/>
                <a:ext cx="2082600" cy="946800"/>
              </a:xfrm>
              <a:prstGeom prst="rect">
                <a:avLst/>
              </a:prstGeom>
              <a:ln w="9360">
                <a:solidFill>
                  <a:srgbClr val="071215"/>
                </a:solidFill>
                <a:miter/>
              </a:ln>
            </p:spPr>
          </p:pic>
        </p:grpSp>
        <p:sp>
          <p:nvSpPr>
            <p:cNvPr id="171" name="AutoShape 15"/>
            <p:cNvSpPr/>
            <p:nvPr/>
          </p:nvSpPr>
          <p:spPr>
            <a:xfrm rot="17301000">
              <a:off x="6335640" y="1514160"/>
              <a:ext cx="445680" cy="1083240"/>
            </a:xfrm>
            <a:prstGeom prst="upArrow">
              <a:avLst>
                <a:gd name="adj1" fmla="val 50000"/>
                <a:gd name="adj2" fmla="val 6076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AutoShape 17"/>
          <p:cNvCxnSpPr/>
          <p:nvPr/>
        </p:nvCxnSpPr>
        <p:spPr>
          <a:xfrm>
            <a:off x="5455800" y="1833120"/>
            <a:ext cx="459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3" name="AutoShape 18"/>
          <p:cNvCxnSpPr/>
          <p:nvPr/>
        </p:nvCxnSpPr>
        <p:spPr>
          <a:xfrm>
            <a:off x="5686200" y="1612800"/>
            <a:ext cx="1080" cy="427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ego de agregar por lo menos cuatro puntos, se puede evaluar la trans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mayoría del software SIG, se puede examinar el error “residual” para cada punto y el error “RMS” (raíz media cuadrática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situación ideal, el error RMS no debería ser mayor a un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abla muestra errores residuales de puntos de control que resultan en un error RMS mayor a un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" name="Picture 4" descr="ne7"/>
          <p:cNvPicPr/>
          <p:nvPr/>
        </p:nvPicPr>
        <p:blipFill>
          <a:blip r:embed="rId1"/>
          <a:stretch/>
        </p:blipFill>
        <p:spPr>
          <a:xfrm>
            <a:off x="1371600" y="2971800"/>
            <a:ext cx="5562720" cy="34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Left Arrow 5"/>
          <p:cNvSpPr/>
          <p:nvPr/>
        </p:nvSpPr>
        <p:spPr>
          <a:xfrm>
            <a:off x="6477120" y="5562720"/>
            <a:ext cx="1981080" cy="6094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 el RMS fuera mayor a un píxel, borrar los puntos de control con los mayores errores residuales y crear nuevos pun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MS menor a un píxel: OK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3" name="Picture 4" descr="ne8"/>
          <p:cNvPicPr/>
          <p:nvPr/>
        </p:nvPicPr>
        <p:blipFill>
          <a:blip r:embed="rId1"/>
          <a:stretch/>
        </p:blipFill>
        <p:spPr>
          <a:xfrm>
            <a:off x="1447920" y="2362320"/>
            <a:ext cx="5562360" cy="34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Left Arrow 5"/>
          <p:cNvSpPr/>
          <p:nvPr/>
        </p:nvSpPr>
        <p:spPr>
          <a:xfrm>
            <a:off x="6629400" y="4952880"/>
            <a:ext cx="1981080" cy="60984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dimiento real de georreferenciación es diferente para cada programa de softwar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rificar el software para ayudar a guiarlo sobre este proce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ción en Pantalla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tes de comenzar a digitalizar las imágenes, es mejor unir las diferentes imágenes superpuestas del model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rocedimiento real para “unir” es diferente para cada programa de software. Verificar el software para ayudar a guiarlo sobre este proce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tura de datos mediante la conversión de características en un mapa en papel o fotografía aérea (digital) en formato vectorial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ndo la imagen está completamente georreferenciada y unida, se puede comenzar la digitalización en pantalla, trazando las características en una nueva capa vectori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e método se trata en M12U04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s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458200" cy="4754520"/>
        </p:xfrm>
        <a:graphic>
          <a:graphicData uri="http://schemas.openxmlformats.org/drawingml/2006/table">
            <a:tbl>
              <a:tblPr/>
              <a:tblGrid>
                <a:gridCol w="3054240"/>
                <a:gridCol w="540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si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manu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Ingreso de coordenadas mediante el tecl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ableta de digitalización con curs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ursor del mouse en el monitor de la computadora: digitalización en pantalla (hacia arrib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Fotogrametría digi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automá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scán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gitalización semi automá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buClr>
                          <a:srgbClr val="5f5f5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scaner y software de seguimiento con digitalización de líne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Digtechnigues"/>
          <p:cNvPicPr/>
          <p:nvPr/>
        </p:nvPicPr>
        <p:blipFill>
          <a:blip r:embed="rId1"/>
          <a:stretch/>
        </p:blipFill>
        <p:spPr>
          <a:xfrm>
            <a:off x="649440" y="1157400"/>
            <a:ext cx="7986600" cy="55767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3327480" y="1752480"/>
            <a:ext cx="3267000" cy="3886200"/>
            <a:chOff x="3327480" y="1752480"/>
            <a:chExt cx="3267000" cy="3886200"/>
          </a:xfrm>
        </p:grpSpPr>
        <p:sp>
          <p:nvSpPr>
            <p:cNvPr id="137" name="Rectangle 7"/>
            <p:cNvSpPr/>
            <p:nvPr/>
          </p:nvSpPr>
          <p:spPr>
            <a:xfrm>
              <a:off x="4934160" y="2185920"/>
              <a:ext cx="13334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3327480" y="1752480"/>
              <a:ext cx="3267000" cy="388620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3886200"/>
                <a:gd name="textAreaBottom" fmla="*/ 3886560 h 3886200"/>
              </a:gdLst>
              <a:ahLst/>
              <a:rect l="textAreaLeft" t="textAreaTop" r="textAreaRight" b="textAreaBottom"/>
              <a:pathLst>
                <a:path w="10000" h="9189">
                  <a:moveTo>
                    <a:pt x="3343" y="0"/>
                  </a:moveTo>
                  <a:cubicBezTo>
                    <a:pt x="4022" y="526"/>
                    <a:pt x="856" y="1502"/>
                    <a:pt x="1944" y="2343"/>
                  </a:cubicBezTo>
                  <a:cubicBezTo>
                    <a:pt x="3033" y="3184"/>
                    <a:pt x="9750" y="4462"/>
                    <a:pt x="9874" y="5045"/>
                  </a:cubicBezTo>
                  <a:cubicBezTo>
                    <a:pt x="10000" y="5628"/>
                    <a:pt x="1554" y="5435"/>
                    <a:pt x="777" y="6126"/>
                  </a:cubicBezTo>
                  <a:cubicBezTo>
                    <a:pt x="0" y="6817"/>
                    <a:pt x="4194" y="8304"/>
                    <a:pt x="5209" y="9189"/>
                  </a:cubicBezTo>
                </a:path>
              </a:pathLst>
            </a:custGeom>
            <a:noFill/>
            <a:ln w="25560">
              <a:solidFill>
                <a:srgbClr val="b9243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s de Digitalización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Manual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dos métodos para digitalización manual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gitalización con tablet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gitalización en pantall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 vs Digitalización con Tablet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cómoda para el operad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precisa. Facilidades de zoo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rápida. Semi-automática, digitalización y edición al mismo tiemp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cedimientos de actualización. Las imágenes satelitales geométricamente corregidas y las fotografías aéreas digitales pueden ser superpuestas con los antiguos datos vectori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gitalización en Pantalla: ¿Qué se necesita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oftware de escaneado y de edición de imáge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oftware SIG (QGIS, ILWIS, ArcGIS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cedimiento de Digitalización en Pantall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Abrir/importar una capa de trama existente (fotografía) a su programa de SIG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 imagen será mostrada en la pantalla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s características pueden ser trazadas mediante un mouse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s coordenadas x, y de estas características son registradas y almacenadas como datos territoriale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En primer lugar, georreferenciar las fotografía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1447560"/>
            <a:ext cx="4038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ágen es una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otografía del model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3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orreferenciación: ¿Qué hacer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Content Placeholder 9"/>
          <p:cNvSpPr/>
          <p:nvPr/>
        </p:nvSpPr>
        <p:spPr>
          <a:xfrm>
            <a:off x="152280" y="2819520"/>
            <a:ext cx="75438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atos todav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están estructur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objetos clasificad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dific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atos de imágenes tienen que 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ctorizados y estructurados e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g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5105520" y="1523880"/>
            <a:ext cx="3724200" cy="2800440"/>
            <a:chOff x="5105520" y="1523880"/>
            <a:chExt cx="3724200" cy="2800440"/>
          </a:xfrm>
        </p:grpSpPr>
        <p:pic>
          <p:nvPicPr>
            <p:cNvPr id="152" name="Picture 7" descr=""/>
            <p:cNvPicPr/>
            <p:nvPr/>
          </p:nvPicPr>
          <p:blipFill>
            <a:blip r:embed="rId1"/>
            <a:stretch/>
          </p:blipFill>
          <p:spPr>
            <a:xfrm>
              <a:off x="5105520" y="1523880"/>
              <a:ext cx="3724200" cy="2800440"/>
            </a:xfrm>
            <a:prstGeom prst="rect">
              <a:avLst/>
            </a:prstGeom>
            <a:ln w="9360">
              <a:solidFill>
                <a:srgbClr val="0d0d0d"/>
              </a:solidFill>
              <a:miter/>
            </a:ln>
          </p:spPr>
        </p:pic>
        <p:pic>
          <p:nvPicPr>
            <p:cNvPr id="153" name="Picture 10" descr="107-0787_IMG"/>
            <p:cNvPicPr/>
            <p:nvPr/>
          </p:nvPicPr>
          <p:blipFill>
            <a:blip r:embed="rId2"/>
            <a:stretch/>
          </p:blipFill>
          <p:spPr>
            <a:xfrm>
              <a:off x="5478480" y="1869480"/>
              <a:ext cx="2916360" cy="218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ens</cp:lastModifiedBy>
  <dcterms:modified xsi:type="dcterms:W3CDTF">2010-06-08T14:07:41Z</dcterms:modified>
  <cp:revision>28</cp:revision>
  <dc:subject/>
  <dc:title>Presentación 2 - Georreferenciación para Digital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