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f5f5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FB34-3108-4164-A639-8E6252FD88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796-3978-42A5-9519-29EAEF13A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ta para el presentador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dar esta presentación, leer el Material Informativo para el Participante de la Unidad M10U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E81E-09D2-4631-8EF5-E37A99661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35D5-E7A2-4084-9CA8-6B864EEFB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368F-98F9-46C3-83D8-F0F44BED20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3219-4A67-4271-8019-B972AF640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B4E5-7DA9-463A-84B9-95319C28C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DE0E-E8BB-4418-AAEA-DE7BFD815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42F6-FEA1-4EF4-B718-13DC1FE26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51AA-B867-4396-AD9A-A54A03EE4A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B61F-9700-488F-91E7-88D838C91E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AB01-4E0A-4AE9-AE17-7055B5067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a es la definición del término “digitalización” como un concepto en SIG. Por supuesto, hay otras definiciones de diccionario para la palabra en otros contex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2979-57CA-4607-91D9-D2532B1B2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C78F-82C3-44E1-A3CB-E9C1F1B1C6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ctualmente, la digitalización manual con un cursor del mouse en la pantalla de la computadora es el método más practicado. Requiere el ingreso de coordenadas a través de un tecl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e puede usar una tableta de digitalización como una alternativa al uso de un mouse pero este equipo está disponible con menos frecu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software usado para hacer la digitalización debe tener una funcionalidad fotogramétrica digital (de SIG). En principio, la digitalización puede hacerse en cualquier software de edición de imágenes y fotografías, pero es esencial usar software SIG para obtener un mapa geométricamente correcto con coorden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digitalización automática y semiautomática requieren técnicas avanzadas preprogramadas que sean útiles solamente si la digitalización es una tarea repetitiva y frecuente. Son métodos poco importantes en este ca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B5F-8AC4-41A9-8595-FB550FA98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iferentes enfoques son posibles para agregar la información de un modelo 3D en una base de datos territo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 esta figura, seguimos la línea ro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punto de comienzo son las fotografías digitales tomadas del modelo (DOCUMENTO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 requerimos escaneado sino que podemos ir directamente a la digitalización en pantalla donde abrimos la imagen de TRAMA (fotografías) y vectorizamos las diferentes características en el modelo 3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mapa VECTORIAL que se obtiene finalmente puede ser agregado a una base de datos geográfica con otros datos SIG; por ejemplo, versiones digitales del mapa base del mod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C44F-A892-47F4-AACE-9C1369F43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 este Módulo, solamente cubrimos las preparaciones para la digitalización en pantal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A1CE-7209-4B62-A392-5BFE6533A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942D-A52D-46B4-AFF6-CACEA4057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B934-A5AD-4E63-84D4-9A62EC334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6EC3-5F31-46A5-B30C-03D1EEE80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D07A-D9A7-41B3-8153-C2FB43076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D8A2-822A-4EE3-A833-38F5C6ED4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328B-BB70-45F4-BE6B-B11EA3F1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C2F5-51F8-4ED8-B99C-66C3A32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CDE6-68AB-4886-B376-601329547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43B80-9182-468D-B5EB-347AF8B5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14C55-66F8-4837-832A-D106E7CB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4B665-CA3E-47F2-9865-BBD79BBD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213EE-2979-43B8-A711-61DB42A2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05A3F-6454-4478-BEA5-A782B39C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23D96-A9FE-4A1D-B903-58130403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13720-C56E-487E-A3A5-5A8AB714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B991-0C10-4ADB-A1BA-54503EA9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4635C-4EC6-4DF8-B827-45B70633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8966F-6094-4934-AF61-EC797D0B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8FC99-AFC9-43EA-9CB8-1C38FB07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30388-73EE-43E4-9751-8226CCA3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B132D-F28A-4520-AA89-EC7A1D2D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5D41-9AA4-441B-9046-86CEEAFD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E73F-B287-4DB1-81C2-790153FE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9933-5EFA-4E71-932B-F84F2A99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5401-78CD-4528-B73F-9365BC6D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5CF6-0C66-4F33-8AE6-A28284B7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BCF0-BC04-4E0E-89CF-84418009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F0D9-1FDA-402F-9BEA-D2F111CD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EE7B-DB82-4A7D-A6D4-ACF5112C47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5AE8-310B-464B-8C00-31A114DDE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eorreferenciación para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417400" y="51577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</a:t>
            </a: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Willy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 Kock y Jeroen 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</a:t>
            </a: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M10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blecer puntos de control del mapa ba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erían marcarse por lo menos cuatro puntos con coordenadas conocidas en el map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6" name="Picture 5" descr="H:\docs\My Pictures\P3dm_video\Fig_66.jpg"/>
          <p:cNvPicPr/>
          <p:nvPr/>
        </p:nvPicPr>
        <p:blipFill>
          <a:blip r:embed="rId1"/>
          <a:stretch/>
        </p:blipFill>
        <p:spPr>
          <a:xfrm>
            <a:off x="4724280" y="1676520"/>
            <a:ext cx="3581640" cy="4919400"/>
          </a:xfrm>
          <a:prstGeom prst="rect">
            <a:avLst/>
          </a:prstGeom>
          <a:ln w="0">
            <a:noFill/>
          </a:ln>
        </p:spPr>
      </p:pic>
      <p:sp>
        <p:nvSpPr>
          <p:cNvPr id="157" name="Right Arrow 6"/>
          <p:cNvSpPr/>
          <p:nvPr/>
        </p:nvSpPr>
        <p:spPr>
          <a:xfrm rot="18787200">
            <a:off x="5430600" y="2635200"/>
            <a:ext cx="1981440" cy="914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7086600" y="1981080"/>
            <a:ext cx="457200" cy="457200"/>
          </a:xfrm>
          <a:prstGeom prst="ellipse">
            <a:avLst/>
          </a:prstGeom>
          <a:noFill/>
          <a:ln w="73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260600" cy="3192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533520" y="19807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cribir las coordenadas x, y de cada punto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Georreferenciación de la imagen. Marcar coordenadas: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tilizar las herramientas de georreferenciación del software para seleccionar y agregar puntos de control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cer clic con el puntero del mouse sobre un punto conocido en la capa de trama para la cual se tienen las coordenadas x e 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85800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5105520" y="1447920"/>
            <a:ext cx="3352320" cy="4378320"/>
            <a:chOff x="5105520" y="1447920"/>
            <a:chExt cx="3352320" cy="4378320"/>
          </a:xfrm>
        </p:grpSpPr>
        <p:grpSp>
          <p:nvGrpSpPr>
            <p:cNvPr id="168" name="Group 12"/>
            <p:cNvGrpSpPr/>
            <p:nvPr/>
          </p:nvGrpSpPr>
          <p:grpSpPr>
            <a:xfrm>
              <a:off x="5105520" y="1447920"/>
              <a:ext cx="3352320" cy="4378320"/>
              <a:chOff x="5105520" y="1447920"/>
              <a:chExt cx="3352320" cy="4378320"/>
            </a:xfrm>
          </p:grpSpPr>
          <p:pic>
            <p:nvPicPr>
              <p:cNvPr id="169" name="Picture 13" descr="Fig_66"/>
              <p:cNvPicPr/>
              <p:nvPr/>
            </p:nvPicPr>
            <p:blipFill>
              <a:blip r:embed="rId1"/>
              <a:stretch/>
            </p:blipFill>
            <p:spPr>
              <a:xfrm>
                <a:off x="5105520" y="1447920"/>
                <a:ext cx="3149640" cy="437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3" descr="ne2"/>
              <p:cNvPicPr/>
              <p:nvPr/>
            </p:nvPicPr>
            <p:blipFill>
              <a:blip r:embed="rId2"/>
              <a:stretch/>
            </p:blipFill>
            <p:spPr>
              <a:xfrm>
                <a:off x="6375240" y="2466720"/>
                <a:ext cx="2082600" cy="946800"/>
              </a:xfrm>
              <a:prstGeom prst="rect">
                <a:avLst/>
              </a:prstGeom>
              <a:ln w="9360">
                <a:solidFill>
                  <a:srgbClr val="071215"/>
                </a:solidFill>
                <a:miter/>
              </a:ln>
            </p:spPr>
          </p:pic>
        </p:grpSp>
        <p:sp>
          <p:nvSpPr>
            <p:cNvPr id="171" name="AutoShape 15"/>
            <p:cNvSpPr/>
            <p:nvPr/>
          </p:nvSpPr>
          <p:spPr>
            <a:xfrm rot="17301000">
              <a:off x="6335640" y="1514160"/>
              <a:ext cx="445680" cy="1083240"/>
            </a:xfrm>
            <a:prstGeom prst="upArrow">
              <a:avLst>
                <a:gd name="adj1" fmla="val 50000"/>
                <a:gd name="adj2" fmla="val 6076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2" name="AutoShape 17"/>
          <p:cNvCxnSpPr/>
          <p:nvPr/>
        </p:nvCxnSpPr>
        <p:spPr>
          <a:xfrm>
            <a:off x="5455800" y="1833120"/>
            <a:ext cx="459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3" name="AutoShape 18"/>
          <p:cNvCxnSpPr/>
          <p:nvPr/>
        </p:nvCxnSpPr>
        <p:spPr>
          <a:xfrm>
            <a:off x="5686200" y="1612800"/>
            <a:ext cx="1080" cy="427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uego de agregar por lo menos cuatro puntos, se puede evaluar la transform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mayoría del software SIG, se puede examinar el error “residual” para cada punto y el error “RMS” (raíz media cuadrática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situación ideal, el error RMS no debería ser mayor a un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abla muestra errores residuales de puntos de control que resultan en un error RMS mayor a un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7" name="Picture 4" descr="ne7"/>
          <p:cNvPicPr/>
          <p:nvPr/>
        </p:nvPicPr>
        <p:blipFill>
          <a:blip r:embed="rId1"/>
          <a:stretch/>
        </p:blipFill>
        <p:spPr>
          <a:xfrm>
            <a:off x="1371600" y="2971800"/>
            <a:ext cx="5562720" cy="34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Left Arrow 5"/>
          <p:cNvSpPr/>
          <p:nvPr/>
        </p:nvSpPr>
        <p:spPr>
          <a:xfrm>
            <a:off x="6477120" y="5562720"/>
            <a:ext cx="1981080" cy="60948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i el RMS fuera mayor a un píxel, borrar los puntos de control con los mayores errores residuales y crear nuevos pun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MS menor a un píxel: OK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83" name="Picture 4" descr="ne8"/>
          <p:cNvPicPr/>
          <p:nvPr/>
        </p:nvPicPr>
        <p:blipFill>
          <a:blip r:embed="rId1"/>
          <a:stretch/>
        </p:blipFill>
        <p:spPr>
          <a:xfrm>
            <a:off x="1447920" y="2362320"/>
            <a:ext cx="5562360" cy="34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Left Arrow 5"/>
          <p:cNvSpPr/>
          <p:nvPr/>
        </p:nvSpPr>
        <p:spPr>
          <a:xfrm>
            <a:off x="6629400" y="4952880"/>
            <a:ext cx="1981080" cy="60984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procedimiento real de georreferenciación es diferente para cada programa de softwar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Verificar el software para ayudar a guiarlo sobre este proce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ción en Pantalla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ntes de comenzar a digitalizar las imágenes, es mejor unir las diferentes imágenes superpuestas del model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procedimiento real para “unir” es diferente para cada programa de software. Verificar el software para ayudar a guiarlo sobre este proce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tura de datos mediante la conversión de características en un mapa en papel o fotografía aérea (digital) en formato vectorial digi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ndo la imagen está completamente georreferenciada y unida, se puede comenzar la digitalización en pantalla, trazando las características en una nueva capa vectori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e método se trata en M12U04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étodos de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458200" cy="4754520"/>
        </p:xfrm>
        <a:graphic>
          <a:graphicData uri="http://schemas.openxmlformats.org/drawingml/2006/table">
            <a:tbl>
              <a:tblPr/>
              <a:tblGrid>
                <a:gridCol w="3054240"/>
                <a:gridCol w="540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si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gitalización manu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Ingreso de coordenadas mediante el tecl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ableta de digitalización con curs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ursor del mouse en el monitor de la computadora: digitalización en pantalla (hacia arrib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Fotogrametría digi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gitalización automáti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scán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gitalización semi automáti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scaner y software de seguimiento con digitalización de líne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Digtechnigues"/>
          <p:cNvPicPr/>
          <p:nvPr/>
        </p:nvPicPr>
        <p:blipFill>
          <a:blip r:embed="rId1"/>
          <a:stretch/>
        </p:blipFill>
        <p:spPr>
          <a:xfrm>
            <a:off x="649440" y="1157400"/>
            <a:ext cx="7986600" cy="557676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3327480" y="1752480"/>
            <a:ext cx="3267000" cy="3886200"/>
            <a:chOff x="3327480" y="1752480"/>
            <a:chExt cx="3267000" cy="3886200"/>
          </a:xfrm>
        </p:grpSpPr>
        <p:sp>
          <p:nvSpPr>
            <p:cNvPr id="137" name="Rectangle 7"/>
            <p:cNvSpPr/>
            <p:nvPr/>
          </p:nvSpPr>
          <p:spPr>
            <a:xfrm>
              <a:off x="4934160" y="2185920"/>
              <a:ext cx="13334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3327480" y="1752480"/>
              <a:ext cx="3267000" cy="388620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3886200"/>
                <a:gd name="textAreaBottom" fmla="*/ 3886560 h 3886200"/>
              </a:gdLst>
              <a:ahLst/>
              <a:rect l="textAreaLeft" t="textAreaTop" r="textAreaRight" b="textAreaBottom"/>
              <a:pathLst>
                <a:path w="10000" h="9189">
                  <a:moveTo>
                    <a:pt x="3343" y="0"/>
                  </a:moveTo>
                  <a:cubicBezTo>
                    <a:pt x="4022" y="526"/>
                    <a:pt x="856" y="1502"/>
                    <a:pt x="1944" y="2343"/>
                  </a:cubicBezTo>
                  <a:cubicBezTo>
                    <a:pt x="3033" y="3184"/>
                    <a:pt x="9750" y="4462"/>
                    <a:pt x="9874" y="5045"/>
                  </a:cubicBezTo>
                  <a:cubicBezTo>
                    <a:pt x="10000" y="5628"/>
                    <a:pt x="1554" y="5435"/>
                    <a:pt x="777" y="6126"/>
                  </a:cubicBezTo>
                  <a:cubicBezTo>
                    <a:pt x="0" y="6817"/>
                    <a:pt x="4194" y="8304"/>
                    <a:pt x="5209" y="9189"/>
                  </a:cubicBezTo>
                </a:path>
              </a:pathLst>
            </a:custGeom>
            <a:noFill/>
            <a:ln w="25560">
              <a:solidFill>
                <a:srgbClr val="b9243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étodos de Digitalización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Manual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y dos métodos para digitalización manual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igitalización con tablet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igitalización en pantall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 vs Digitalización con Tablet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cómoda para el operado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precisa. Facilidades de zoo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rápida. Semi-automática, digitalización y edición al mismo tiemp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cedimientos de actualización. Las imágenes satelitales geométricamente corregidas y las fotografías aéreas digitales pueden ser superpuestas con los antiguos datos vectori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: ¿Qué se necesita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oftware de escaneado y de edición de imáge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oftware SIG (QGIS, ILWIS, ArcGIS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cedimiento de Digitalización en Pantall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Abrir/importar una capa de trama existente (fotografía) a su programa de SIG.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 imagen será mostrada en la pantalla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s características pueden ser trazadas mediante un mouse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s coordenadas x, y de estas características son registradas y almacenadas como datos territoriales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En primer lugar, georreferenciar las fotografías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8600" y="1447560"/>
            <a:ext cx="4038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mágen es una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otografía del model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3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Content Placeholder 9"/>
          <p:cNvSpPr/>
          <p:nvPr/>
        </p:nvSpPr>
        <p:spPr>
          <a:xfrm>
            <a:off x="152280" y="2819520"/>
            <a:ext cx="754380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datos todav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o están estructur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objetos clasificado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dific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datos de imágenes tienen que 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vectorizados y estructurados e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ug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5105520" y="1523880"/>
            <a:ext cx="3724200" cy="2800440"/>
            <a:chOff x="5105520" y="1523880"/>
            <a:chExt cx="3724200" cy="2800440"/>
          </a:xfrm>
        </p:grpSpPr>
        <p:pic>
          <p:nvPicPr>
            <p:cNvPr id="152" name="Picture 7" descr=""/>
            <p:cNvPicPr/>
            <p:nvPr/>
          </p:nvPicPr>
          <p:blipFill>
            <a:blip r:embed="rId1"/>
            <a:stretch/>
          </p:blipFill>
          <p:spPr>
            <a:xfrm>
              <a:off x="5105520" y="1523880"/>
              <a:ext cx="3724200" cy="2800440"/>
            </a:xfrm>
            <a:prstGeom prst="rect">
              <a:avLst/>
            </a:prstGeom>
            <a:ln w="9360">
              <a:solidFill>
                <a:srgbClr val="0d0d0d"/>
              </a:solidFill>
              <a:miter/>
            </a:ln>
          </p:spPr>
        </p:pic>
        <p:pic>
          <p:nvPicPr>
            <p:cNvPr id="153" name="Picture 10" descr="107-0787_IMG"/>
            <p:cNvPicPr/>
            <p:nvPr/>
          </p:nvPicPr>
          <p:blipFill>
            <a:blip r:embed="rId2"/>
            <a:stretch/>
          </p:blipFill>
          <p:spPr>
            <a:xfrm>
              <a:off x="5478480" y="1869480"/>
              <a:ext cx="2916360" cy="218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ens</cp:lastModifiedBy>
  <dcterms:modified xsi:type="dcterms:W3CDTF">2010-06-08T14:07:41Z</dcterms:modified>
  <cp:revision>28</cp:revision>
  <dc:subject/>
  <dc:title>Presentación 2 - Georreferenciación para Digitaliz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