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6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4068-F711-4248-A138-96689BBABE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ota para el presentador: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írvase remitirse al Material Informativo para el Participante M07U02 y a las lecturas recomendadas, por más información sobre este t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C4A8-7299-4969-8A4A-EF3D924D5A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87CC-5C19-483E-9E7E-1D6D1A7E00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8EEA-EAC0-48CC-AA5E-DF0509AAA1B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55D0-2CF3-4B50-AB9C-F47131F2B6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modelo se inclina y su base se coloca perpendicularmente al piso (Imagen de la derecha). Las líneas se marcan en el piso a determinados intervalos para guiar la colocación de la cámara y la dirección de la to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176D-EF68-47A2-A8D1-BB2E31F986A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s imágenes tomadas en secuencia, movimiento paralelo de la cámara, incluyen áreas de superposi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010F-EFAF-4B7D-8418-0135433723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E8B7-EE0A-40EA-9930-5E6DFDA40D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os son algunos ejemplos de imágenes capturadas de modelos 3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75C1-FC44-4F76-ACC6-363C0F11FE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D06F-8D2F-4387-9844-36E3094C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4253-D4E0-4D36-8258-4A754583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A448-F9C8-45BB-A953-B20D17326A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058A2-8FFE-4654-9BF4-AC16D6E1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96352-BA29-48A5-97F3-94B2AD93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3DD87-F9C1-4CD2-9AD3-92854AA9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6C933-2EEA-4CC2-8ACA-25141F0C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A810E-5871-482F-9F95-59481CF0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226FB-82E8-43CC-9A86-68BF1E20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BAD0D-D43F-4ABD-B93D-DDBD79B2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E477-BF85-4FE2-941A-93031EE1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1772C-506D-4C0A-953A-AE74D021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8A90A-233E-4D9C-9549-3A1EF1F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C1D4D-3A1B-4587-BE6B-86D9CC71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228D0-568F-4E46-8565-1CC644F1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88BE2-1807-46B6-8BCF-58DB1DDF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7CAC-017C-4437-A12C-A2F7A97E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C3CD-CAEB-4019-8DD0-BAAD71EC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3D6C-21CE-4252-8F8E-EBDF310A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D1C3-C229-44B3-946D-B33141E3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5D7B-0C0C-4519-82BF-74C8A8FE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E327-B335-4B12-9173-6B047002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F21F-BCC8-49D7-8F24-CA7B6180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3DBF-A3A5-4E86-BA45-E4992378D7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9503-AE55-45A9-B7E8-5D69311280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aptura de Datos Utilizando Fotografí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172240" y="521028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Giacomo Rambaldi y Jeroen Verpl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10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lujo de la Presen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quipo necesari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eparación del modelo para la extracción de dat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aptura de datos usando fotografía digit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Equipo Necesario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ámara digital réflex de lente única (SLR) de alta resolu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entes de alta calidad con zoom ajustable y zoom manual y opciones de foc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rípod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lomad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ilos de color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lavos / chinchet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Preparación del Modelo para la Extracción de Dat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locar un cuadriculado sobre el modelo 3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7" name="Picture 5" descr="http://www.iapad.org/images/pic_110_pumat_model+grid_0.jpg"/>
          <p:cNvPicPr/>
          <p:nvPr/>
        </p:nvPicPr>
        <p:blipFill>
          <a:blip r:embed="rId1"/>
          <a:stretch/>
        </p:blipFill>
        <p:spPr>
          <a:xfrm>
            <a:off x="3495600" y="2173320"/>
            <a:ext cx="478332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Box 4"/>
          <p:cNvSpPr/>
          <p:nvPr/>
        </p:nvSpPr>
        <p:spPr>
          <a:xfrm>
            <a:off x="3495600" y="6119640"/>
            <a:ext cx="48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7f7f7f"/>
                </a:solidFill>
                <a:latin typeface="Arial"/>
              </a:rPr>
              <a:t>Imágen cortesía de </a:t>
            </a: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Giacomo Rambaldi/ARC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Preparación del Modelo para la Extracción de Dat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4992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clinar el model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eparar el ambiente para la tom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1" name="Picture 6" descr="IMG_5217a"/>
          <p:cNvPicPr/>
          <p:nvPr/>
        </p:nvPicPr>
        <p:blipFill>
          <a:blip r:embed="rId1"/>
          <a:stretch/>
        </p:blipFill>
        <p:spPr>
          <a:xfrm>
            <a:off x="4930920" y="1581120"/>
            <a:ext cx="33940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7" descr="IMG_5218"/>
          <p:cNvPicPr/>
          <p:nvPr/>
        </p:nvPicPr>
        <p:blipFill>
          <a:blip r:embed="rId2"/>
          <a:stretch/>
        </p:blipFill>
        <p:spPr>
          <a:xfrm>
            <a:off x="804960" y="3249720"/>
            <a:ext cx="3779640" cy="28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TextBox 5"/>
          <p:cNvSpPr/>
          <p:nvPr/>
        </p:nvSpPr>
        <p:spPr>
          <a:xfrm>
            <a:off x="2655720" y="6299280"/>
            <a:ext cx="394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Imágenes cortesía de Giacomo Rambaldi/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7" descr="107-0790_IMG_2"/>
          <p:cNvPicPr/>
          <p:nvPr/>
        </p:nvPicPr>
        <p:blipFill>
          <a:blip r:embed="rId1"/>
          <a:stretch/>
        </p:blipFill>
        <p:spPr>
          <a:xfrm>
            <a:off x="4572000" y="1635120"/>
            <a:ext cx="403848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aptura de Da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ovimiento paralelo de la cámar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431640" y="3068640"/>
            <a:ext cx="4500720" cy="32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1332000" y="3789360"/>
            <a:ext cx="0" cy="71928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4390920" y="3429000"/>
            <a:ext cx="0" cy="2158920"/>
          </a:xfrm>
          <a:prstGeom prst="line">
            <a:avLst/>
          </a:prstGeom>
          <a:ln w="63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332000" y="37879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>
            <a:off x="1332000" y="4508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1332000" y="52261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1319040" y="5829480"/>
            <a:ext cx="3059280" cy="0"/>
          </a:xfrm>
          <a:prstGeom prst="line">
            <a:avLst/>
          </a:prstGeom>
          <a:ln w="2844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 rot="16200000">
            <a:off x="-235080" y="419580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imiento de la cámar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 rot="5400000">
            <a:off x="3919320" y="4283280"/>
            <a:ext cx="12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elo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1973160" y="564048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m de di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4"/>
          <p:cNvSpPr/>
          <p:nvPr/>
        </p:nvSpPr>
        <p:spPr>
          <a:xfrm>
            <a:off x="1332000" y="4508640"/>
            <a:ext cx="0" cy="71892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5110200" y="4863960"/>
            <a:ext cx="35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Imágen cortesía de G. Rambaldi/ARC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ecuencia de Imáge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0" name="Content Placeholder 8" descr="shot-sequence.jpg"/>
          <p:cNvPicPr/>
          <p:nvPr/>
        </p:nvPicPr>
        <p:blipFill>
          <a:blip r:embed="rId1"/>
          <a:stretch/>
        </p:blipFill>
        <p:spPr>
          <a:xfrm>
            <a:off x="446040" y="1635120"/>
            <a:ext cx="8229600" cy="2309760"/>
          </a:xfrm>
          <a:prstGeom prst="rect">
            <a:avLst/>
          </a:prstGeom>
          <a:ln w="0">
            <a:noFill/>
          </a:ln>
        </p:spPr>
      </p:pic>
      <p:sp>
        <p:nvSpPr>
          <p:cNvPr id="121" name="Right Triangle 15"/>
          <p:cNvSpPr/>
          <p:nvPr/>
        </p:nvSpPr>
        <p:spPr>
          <a:xfrm rot="18847800">
            <a:off x="5037120" y="375588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ight Triangle 16"/>
          <p:cNvSpPr/>
          <p:nvPr/>
        </p:nvSpPr>
        <p:spPr>
          <a:xfrm rot="18847800">
            <a:off x="7089480" y="374472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ight Triangle 17"/>
          <p:cNvSpPr/>
          <p:nvPr/>
        </p:nvSpPr>
        <p:spPr>
          <a:xfrm rot="18847800">
            <a:off x="954000" y="374004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ight Triangle 18"/>
          <p:cNvSpPr/>
          <p:nvPr/>
        </p:nvSpPr>
        <p:spPr>
          <a:xfrm rot="18847800">
            <a:off x="2993760" y="374472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19"/>
          <p:cNvSpPr/>
          <p:nvPr/>
        </p:nvSpPr>
        <p:spPr>
          <a:xfrm>
            <a:off x="1522440" y="5214960"/>
            <a:ext cx="1973160" cy="1096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ovimie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 la cám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ight Arrow 20"/>
          <p:cNvSpPr/>
          <p:nvPr/>
        </p:nvSpPr>
        <p:spPr>
          <a:xfrm>
            <a:off x="3606840" y="5237280"/>
            <a:ext cx="1973160" cy="1074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ight Arrow 21"/>
          <p:cNvSpPr/>
          <p:nvPr/>
        </p:nvSpPr>
        <p:spPr>
          <a:xfrm>
            <a:off x="5730840" y="5214960"/>
            <a:ext cx="1973160" cy="1096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jemplo de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mágenes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Extraíd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9" name="Picture 8" descr="IMG_519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130" name="Picture 9" descr="IMG_518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131" name="Picture 10" descr="107-0787_IMG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132" name="Picture 11" descr="IMG_526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sp>
        <p:nvSpPr>
          <p:cNvPr id="133" name="TextBox 6"/>
          <p:cNvSpPr/>
          <p:nvPr/>
        </p:nvSpPr>
        <p:spPr>
          <a:xfrm>
            <a:off x="2655720" y="6299280"/>
            <a:ext cx="39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7f7f7f"/>
                </a:solidFill>
                <a:latin typeface="Arial"/>
              </a:rPr>
              <a:t>Imágenes</a:t>
            </a: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 cortesía de Giacomo Rambal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03:13Z</dcterms:created>
  <dc:creator>Giacomo Rambaldi</dc:creator>
  <dc:description/>
  <cp:keywords>pgis training kit</cp:keywords>
  <dc:language>en-US</dc:language>
  <cp:lastModifiedBy>martens</cp:lastModifiedBy>
  <dcterms:modified xsi:type="dcterms:W3CDTF">2010-06-08T14:09:14Z</dcterms:modified>
  <cp:revision>31</cp:revision>
  <dc:subject/>
  <dc:title>Presentación 1 - Captura de Datos Utilizando Fotografía Digit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