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575-0E6A-4633-AEA7-58DADE7E8E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633-FE7E-4355-AFB1-A189324B3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 Sírvase estudiar el Material Informativo para el Participante de la Unidad M11U01 antes de usar est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066-7AF5-41E4-816E-8E5F5A938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AAD-60B2-4BA6-AFCE-C0B9EE7E1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8A7-1EDC-47D3-91F0-573679F9F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DF15-35CA-4231-BE85-63EA2D5AA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2E7A-1150-49C2-8228-374DBA290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E94-4C75-4D20-8E1E-65B3C4209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12C-E436-4C71-8BBD-234D72E80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8A9-3FF0-4452-8C1F-6C50EA787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A156-1400-4050-9040-C1FE75966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964B-767D-47D3-8F2A-54D9D65B2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 es una lista de los sensores populares. El Material Informativo para el Participante proporciona una descripción elaborada de estos sens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5C76-1238-4105-887C-43C5E60A3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38E-44D9-48DF-9EBB-8F5C078C4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9C3D-87AF-42E1-841C-F63F81733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2FB-7A57-41D8-BFCE-AC6FD9DB3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0615-C6E7-4AFC-835E-EEF2A70D1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62D6-347C-407E-BC0A-34BC7827E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86C3-CD8B-46D6-BD82-98C15F0D4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A0AE-5AE3-4240-91B4-4631EA64C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B0EA-D8C7-4510-B76B-E234C7915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8F41-4D71-487E-8C2E-6534C47E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26A5-CAD1-4129-B7DB-52766DB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40BD-B4B6-420D-82D5-71A8ABE72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B875F-AF5D-4D4C-BD89-8DC20454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100EF-525E-4C0A-956B-9414AC5A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6345-9E79-4B05-BB4E-18EED030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550A6-2DBA-4737-A69A-5CC4486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3D5A2-A5E5-48CD-B692-F7329F1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29995-BB4B-4747-B01F-834020E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3D9C-8423-44C5-B123-60EAC652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521A-4183-4B4A-ADCF-C427EDAA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C8C77-C181-43F7-9A2B-5792A2E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67D4B-0B9D-4D07-BE41-DF17798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3DF7A-7054-41AF-9238-C24ADE6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BE9C-3E7C-429A-A7AF-7D7544BC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7A8B5-DF0A-4E89-8FD9-7774B314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EC4E-F876-46DE-9342-002FDBE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31E4-0A78-4C49-8926-15E4A5D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4910-0C4A-4395-9C7A-B3E8D4A9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E5D1-9D58-4754-8326-73A3751A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C4A8-EA3D-47E6-AD0D-EEADCF4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0345-F16F-47C0-8874-5EECEEA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EF35-A36F-4A14-BB7B-DEA27D7E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BDF-C647-49CB-B9D1-1B3A3E69D9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C3A2-68C5-4793-937B-151A2D208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 a las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ágenes de Teledete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30800" y="514368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mayoría de las aplicaciones de mapeo, se requieren fotografías aéreas vertic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oblicuas se obtienen cuando el eje de la cámara no es verti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oblicuas raras veces son usadas con fines de mape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ergía Electromagné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ledetección se basa en la detección de energía electromagnética (EM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o la velocidad de la luz es constante, la longitud de la onda y la frecuencia están inversamente relacionadas entre sí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7" name="Picture 4" descr="fig2-3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pectro Visib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La luz visible cubre solamente una muy pequeña parte de este espectr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0" name="Picture 4" descr="fig2-5"/>
          <p:cNvPicPr/>
          <p:nvPr/>
        </p:nvPicPr>
        <p:blipFill>
          <a:blip r:embed="rId1"/>
          <a:srcRect l="0" t="0" r="0" b="10544"/>
          <a:stretch/>
        </p:blipFill>
        <p:spPr>
          <a:xfrm>
            <a:off x="468360" y="1197000"/>
            <a:ext cx="82072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ferencia Atmosfér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5320" y="160020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95959"/>
                </a:solidFill>
                <a:latin typeface="Arial"/>
              </a:rPr>
              <a:t>Las interacciones de la energía del sol con materiales físicos hacen que esta energía sea absorbida, dispersada, transmitida y reflejad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fig2-6"/>
          <p:cNvPicPr/>
          <p:nvPr/>
        </p:nvPicPr>
        <p:blipFill>
          <a:blip r:embed="rId1"/>
          <a:stretch/>
        </p:blipFill>
        <p:spPr>
          <a:xfrm>
            <a:off x="611280" y="476280"/>
            <a:ext cx="4613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 sensor electrónico “mide  la intensidad” del terreno y la señal eléctrica analógica es muestreada en una imagen y convertida a un número digital (DN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6" name="Picture 4" descr="fig1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a imagen digital es normalmente mostrada utilizando una escala de gris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 píxel que tenga valor cero se muestra en negro. Un píxel que tenga el valor 255 se muestra en blanco. Cualquier número digital intermedio se vuelve algún tono de gri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forma alternativa de mostrar datos de banda única es usar una escala de color para obtener una imagen en “pseudo color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asignarse colores, que vayan desde el azul vía cian, verde y amarillo al rojo,  a diferentes porciones del rango de números digitales de 0 a 255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A veces, se forma un color verdadero compuesto, donde los canales RGB se relacionan con las bandas de longitud de onda roja, verde y azul de una cámara o escáner multiespectr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La característica más saliente de falsos colores compuestos es que la vegetación aparece en un color rojo-púrpur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358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lor 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seudo 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lso col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467240" y="638280"/>
            <a:ext cx="4676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Sensores Populares Transportados por el Espac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NDS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(TERRA) AST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PO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SR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KONOS, QuickBird, WorldView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ledetección (RS) es el arte, ciencia y tecnología de observar un objeto, escena o fenómeno mediante técnicas basadas en instrumen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detección se aplica en muchos campos, incluyendo arquitectura, arqueología, medicina, control de calidad industrial, robótica, mapeo extraterrestre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interés de este Módulo es, sin embargo, la observación de la Tierra desde plataformas aerotransportadas o transportadas por el espac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este Módulo, tanto las fotografías como las imágenes satelitales son consideradas como un tipo de imagen de teledetec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omar y utilizar fotografías es la técnica de teledetección más antigua, aunque la más comúnmente aplicad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aéreas son la fuente de datos primaria para mapeo topográfico de mediana a gran escala, muchos relevamientos catastrales, proyectos de ingeniería civil y planificación urban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aéreas también son una fuente útil de información para silvicultores, ecologistas, científicos del suelo, geólogos y muchos otr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distinguirse dos amplias categorías de fotografías aérea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vertica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oblicu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Vertical</a:t>
            </a: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 versus Oblicu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4799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Vertical</a:t>
            </a: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 versus Oblicu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0200" y="162864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-1080" y="4274640"/>
            <a:ext cx="125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4340160" y="1628640"/>
            <a:ext cx="43974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Valeria</cp:lastModifiedBy>
  <dcterms:modified xsi:type="dcterms:W3CDTF">2010-08-22T20:02:34Z</dcterms:modified>
  <cp:revision>51</cp:revision>
  <dc:subject/>
  <dc:title>Presentación - Introducción a las Imágenes de Teledet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