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666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A94A-9B98-4D43-87F2-44F4D5D124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885D-86F3-4796-ABEC-65EE21B17A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tudiar el Material Informativo para el Participante antes de usar esta present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F4F9-2442-45B1-8735-431F040F35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D2CF-4729-4475-9F06-1F14878D83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1742-7987-4704-80D6-4C60686AD0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F337-D2F3-4829-89AF-C14FD03C45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8EB2-EDB8-4A3B-9EAC-599968C0F8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DF8A-AADC-497A-8A72-625DFAC74A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2C35-7E51-47EE-B277-C0FDA9E9D2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970E-A008-4470-8F71-F61B808FDD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A3C6-7BC5-4004-B33D-E37902F26A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5C5E-CC93-404D-9CFD-842F57B6ED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F6C7-68F7-4135-B041-0C08BBEF30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5B5A-9069-4699-8761-DAB8C368F3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F081-5448-4F8E-9035-E769D13E47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3E23-EFA8-4CA1-A364-D1F0FBB64B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3854-7CC1-4D34-8710-3A70A91A31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9E8E-5CDC-4B55-BAB9-44B9074FD8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DB35-3627-4E54-B306-294AB8578D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4D97-8529-43CF-91B1-4522EC4E1B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09F-3EE1-4EF1-BF8F-94705769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9B3C-DA8D-445A-A736-1E11581C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74D-8B37-4BFE-A450-274FD1D4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153F-BFF9-46B6-9C8B-1483BC21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CD75A-5F0C-48F3-B705-A2216C4F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05037-6152-4B61-9118-EF3ABE65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D303C-B4D2-485F-992E-47142AE6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811AC-5974-48A3-AB87-D9023A30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FDE15-EA9E-49BB-9C7E-48F1C3DC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14DBA-5AEA-43E7-AF5C-D443B17B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574CA-4A84-4FF7-9CE8-00485C64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A199-7B01-41A4-B01C-58FE974F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A2860-895E-4D74-A5CC-0A7B3C34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01FC9-8FD5-4A9E-910C-C8E908D6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D106A-A5C3-4217-96D2-CFC8372A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B4714-25CD-4640-8291-59A36504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B5402-8E3B-4839-AAB1-D51BE967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6091-A7F8-4DA2-BEDB-06A5A9A0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C4F2-7212-4A8B-8DCC-A7CD7F5B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751-25C6-4392-A262-CC04DD45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61C2-8D11-41AD-95EF-F33A5CCC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57B0-C560-4B94-900F-855AA78B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5BED-A0B8-4853-AC12-8E308C89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B3B9-9BD6-4BEA-8A09-2AFE4C3D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966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F56C-308B-4EA8-A1CE-3FA4966300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6D5F-5D34-46C7-A836-4642FC996D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erpretación de Fotografías Aéreas e Imágenes Satelit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438720" y="5157720"/>
            <a:ext cx="23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Por: J.Verplanke, I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Unidad: M11U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lement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forma caracteriza la proyección bidimensional y la altura de un objet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tamaño puede ser considerado en sentido relativo o absolut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lement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altura es importante para distinguir entre diferentes tipos de vegetación, tipos de construcción, et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ubicación/asociación se refiere a la situación en el terreno o con relación a sus alrededor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lement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tono o matiz pueden ser definidos para un único píxe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textura se define para un grupo de píxeles adyacentes, no para un único píxe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demás elementos de interpretación se relacionan con objetos individuales o con una combinación de objet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Mape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l proceso de interpretación involucra la delineación de áreas que parecen similares y que también son diferentes a otras área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uego de establecer las características en el terreno, pueden construirse “claves de interpretación”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n base a estas claves, puede hacerse una interpretación de características; éstas pueden ser descritas como elementos de interpretación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Mape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545" t="560" r="724" b="0"/>
          <a:stretch/>
        </p:blipFill>
        <p:spPr>
          <a:xfrm>
            <a:off x="539640" y="1627200"/>
            <a:ext cx="746604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scal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Hay un límite para lo que puede dibujars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n la práctica, los polígonos menores a 5 x 5 mm no deberían ser dibujados: la “menor unidad permitida”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scala de la (s) imagen (imágenes) por lo tanto limita la celda de interpretación en el terren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Trabajo de Camp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mapas deberían reflejar lo que hay realmente en el terren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visitas de campo observan lo que hay en la realida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urante el trabajo de campo, se verifica la ubicación de límit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e recogen datos sobre características que no pueden obtenerse de la teledetecció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alidad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calidad de la interpretación de imágenes depende de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 experiencia profesional de los intérpretes de fotografí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s imágenes usadas.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s directrices de interpretación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stos tres puntos aseguran la replicabilidad del trabaj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cc3300"/>
                </a:solidFill>
                <a:latin typeface="Arial"/>
              </a:rPr>
              <a:t>Replicabilidad </a:t>
            </a:r>
            <a:endParaRPr b="0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replicabilidad se refiere al grado de correspondencia obtenida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or diferentes personas para la misma área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or la misma persona para la misma área en diferentes instanci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plicabilidad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4" name="Picture 4" descr="fig11"/>
          <p:cNvPicPr/>
          <p:nvPr/>
        </p:nvPicPr>
        <p:blipFill>
          <a:blip r:embed="rId1"/>
          <a:stretch/>
        </p:blipFill>
        <p:spPr>
          <a:xfrm>
            <a:off x="468360" y="1709640"/>
            <a:ext cx="820728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erpretación de Imágen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¿Cómo se extrae la información de las imágenes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nterpretación visual de la imagen (en esta Unidad)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rocesamiento semi-automático mediante computador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erpretación de Imágen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interpretación visual se basa en relacionar colores y patrones con características del mundo rea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imágenes pueden ser mostradas en el monitor de una computadora o en formato impres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mapeo traslada los hallazg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incipios Básic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análisis de una imagen se hace generalmente mediante una combinación de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conocimiento espontáneo” y directo.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Uso de varias claves para llegar a conclusiones mediante un proceso de razonamiento, esto es, “inferencia lógica”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incipios Básic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reconocimiento espontáneo se refiere a la identificación de objetos o características a primera vist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3" name="Picture 7" descr="Central Pivot.jpg"/>
          <p:cNvPicPr/>
          <p:nvPr/>
        </p:nvPicPr>
        <p:blipFill>
          <a:blip r:embed="rId1"/>
          <a:srcRect l="32182" t="0" r="0" b="0"/>
          <a:stretch/>
        </p:blipFill>
        <p:spPr>
          <a:xfrm>
            <a:off x="4214880" y="1571760"/>
            <a:ext cx="4379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incipios Básic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inferencia lógica significa que el intérprete aplica razonamient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6" name="Picture 4" descr="fig11"/>
          <p:cNvPicPr/>
          <p:nvPr/>
        </p:nvPicPr>
        <p:blipFill>
          <a:blip r:embed="rId1"/>
          <a:srcRect l="0" t="0" r="45347" b="0"/>
          <a:stretch/>
        </p:blipFill>
        <p:spPr>
          <a:xfrm>
            <a:off x="4143240" y="1571760"/>
            <a:ext cx="4556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lement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Siete elementos de interpretación proporcionan directrices para reconocer determinados objetos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Tono/matiz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Textura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Patrón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Forma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Tamaño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Altura/elevación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Ubicación/asociación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lement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tono es el brillo relativo en una imagen en blanco y negro. El matiz se refiere al espacio de colo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s variaciones de tono se relacionan con la cantidad de luz reflejada (o emitida)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s variaciones de matiz se relacionan con características espectrale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l ojo humano tiene una mayor sensibilidad para el matiz (10.000 colores) que para el tono (200 niveles de gris)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lement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textura se relaciona con la frecuencia de cambio de tono y puede ser descrita como áspera o fina, suave o rugosa, et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patrón se refiere a la disposición territorial: concéntrica, radial, en forma de damero, ríos con sus afluentes, patrones relacionados con la erosión, et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Jeroen Verplanke</dc:creator>
  <dc:description/>
  <cp:keywords>pgis training kit</cp:keywords>
  <dc:language>en-US</dc:language>
  <cp:lastModifiedBy>Valeria</cp:lastModifiedBy>
  <dcterms:modified xsi:type="dcterms:W3CDTF">2010-08-22T20:07:51Z</dcterms:modified>
  <cp:revision>71</cp:revision>
  <dc:subject/>
  <dc:title>Presentacion 1 - Interpretación de fotografías aéreas e imágenes satelit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