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666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f5f5f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7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853B-1337-4152-9E52-3DED7915BB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7BE7-08D2-474E-B1EC-024D20C787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utilizar esta presentación, estudiar el Ejercicio No.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Header Placeholder 3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0789-976E-4D48-9598-8D98DE754D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Header Placeholder 3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55C4-8A5F-438A-AD99-69F4282582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Header Placeholder 3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4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8B0C-DA14-45E6-950A-F422FA4F2B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Header Placeholder 3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6915-F3A6-46A0-9C13-6926B61116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Header Placeholder 3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E948-0287-4EB8-9581-F673179A0C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Header Placeholder 3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B301-4B9F-4074-B2A1-FB7E6F4F01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DD35-6432-4BF6-A091-C364E09A97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A10E-E432-4ECF-8B36-BBE25E824F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38FA-4DB1-4682-849B-4AE42914A0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608E-8F83-47FD-8FCE-877C0D916E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E4F1-044A-4787-93B7-4AA9FFCC4B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Header Placeholder 3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4B47-B50F-4A83-9545-114AD9F4BC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E9AFD-0AB8-4A5F-BA2B-05B304A50D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77368-E39D-49E8-88F6-D0D8577A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6C85B-384C-474F-B182-B5652D61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517C3-0FB0-47BE-A884-AB0303158D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AEE1F-707C-4589-8FA9-0BDB4A58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A748C-11CE-412F-9DED-DE73FDC2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E8AA5-57B4-4A2B-ACBE-1C7BE17B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EDACF-4AD8-4CC6-B000-50BA2D92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5A7C3-9893-4C36-AEC3-55C94044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0F4E6-13DC-406F-A1ED-82CB493C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E44E9-3518-44FA-AD3C-5C60A68B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737DB-796A-41F2-8206-5E8A03B9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FB318-55F1-43B4-8269-A62C7969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A4C22-97F0-436C-A026-4FA0855C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C3A22-3DDA-4730-8A0D-F2831F85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60B42-CA5E-4697-B9C3-BEB20E9B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EE546-3992-4776-91BC-0552222B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56504-1DBF-4016-81EF-B7118754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8924A-7767-4712-99E1-2DB21109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067F9-FD4A-4059-9A11-EF0F3707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9BFAC-AA6E-43E1-9F7A-B008E303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32B89-126E-4557-916C-450FFE19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B1F9F-C677-4198-AF84-9AF28C86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BAFF3-2C6D-4DD3-B530-405EC82D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9D7B-DACA-4E8B-94EE-B8D25A769A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E32F-84D1-49F9-A32A-515C82EB04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816200"/>
            <a:ext cx="7772400" cy="18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jercicio</a:t>
            </a: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 No.1: </a:t>
            </a:r>
            <a:br>
              <a:rPr sz="4400"/>
            </a:b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Mapeo</a:t>
            </a: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 de </a:t>
            </a: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bertura</a:t>
            </a: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 de la Tierra con Fotografías Aérea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385080" y="550080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969696"/>
                </a:solidFill>
                <a:latin typeface="Arial"/>
              </a:rPr>
              <a:t>Por: Jeroen Verpla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5f5f5f"/>
                </a:solidFill>
                <a:latin typeface="Arial"/>
              </a:rPr>
              <a:t>Unidad: M11U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Tarea 3: Interpre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onsejo práctico: Comenzar con las unidades más clara (más fáciles) en primer luga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Tarea opcional: Relevamiento de Camp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objetivo del relevamiento de campo es observar la diferentes unidades de interpretación en las fotografías aéreas en la realida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valuar si la cobertura de la tierra y el uso de la tierra son consistentemente las mismas dentro de una unidad de interpretació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Tarea opcional: Relevamiento de Camp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valuar la cobertura de la tierra y el uso de la tierra en varios lugares en cada unida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Siempre asegurarse la participación de los residentes locales para que lo asistan para orientarse en el áre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Tarea opcional: Relevamiento de Campo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8" name="Picture 4" descr="Bild2"/>
          <p:cNvPicPr/>
          <p:nvPr/>
        </p:nvPicPr>
        <p:blipFill>
          <a:blip r:embed="rId1"/>
          <a:stretch/>
        </p:blipFill>
        <p:spPr>
          <a:xfrm>
            <a:off x="755640" y="1268280"/>
            <a:ext cx="4849920" cy="4926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Bild2"/>
          <p:cNvPicPr/>
          <p:nvPr/>
        </p:nvPicPr>
        <p:blipFill>
          <a:blip r:embed="rId2"/>
          <a:stretch/>
        </p:blipFill>
        <p:spPr>
          <a:xfrm>
            <a:off x="755640" y="1281240"/>
            <a:ext cx="4849920" cy="49258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6"/>
          <p:cNvSpPr/>
          <p:nvPr/>
        </p:nvSpPr>
        <p:spPr>
          <a:xfrm>
            <a:off x="5718240" y="3963960"/>
            <a:ext cx="310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5f5f5f"/>
                </a:solidFill>
                <a:latin typeface="Arial"/>
              </a:rPr>
              <a:t>Tabla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5f5f5f"/>
                </a:solidFill>
                <a:latin typeface="Arial"/>
              </a:rPr>
              <a:t>Planilla de observación de datos de campo para cobertura de la tierra y uso de la ti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Tarea 4: Interpretación de Imágenes Multitemporal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0" y="-445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1131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2056680" y="5395680"/>
            <a:ext cx="49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96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2" descr="Wesseler1969"/>
          <p:cNvPicPr/>
          <p:nvPr/>
        </p:nvPicPr>
        <p:blipFill>
          <a:blip r:embed="rId1"/>
          <a:stretch/>
        </p:blipFill>
        <p:spPr>
          <a:xfrm>
            <a:off x="1092240" y="1989000"/>
            <a:ext cx="3063960" cy="3456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Wesseler2009"/>
          <p:cNvPicPr/>
          <p:nvPr/>
        </p:nvPicPr>
        <p:blipFill>
          <a:blip r:embed="rId2"/>
          <a:stretch/>
        </p:blipFill>
        <p:spPr>
          <a:xfrm>
            <a:off x="5045040" y="1989000"/>
            <a:ext cx="2975040" cy="3456000"/>
          </a:xfrm>
          <a:prstGeom prst="rect">
            <a:avLst/>
          </a:prstGeom>
          <a:ln w="0">
            <a:noFill/>
          </a:ln>
        </p:spPr>
      </p:pic>
      <p:sp>
        <p:nvSpPr>
          <p:cNvPr id="167" name="Line 14"/>
          <p:cNvSpPr/>
          <p:nvPr/>
        </p:nvSpPr>
        <p:spPr>
          <a:xfrm flipH="1" flipV="1">
            <a:off x="2916360" y="2707920"/>
            <a:ext cx="71280" cy="336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3"/>
          <p:cNvSpPr/>
          <p:nvPr/>
        </p:nvSpPr>
        <p:spPr>
          <a:xfrm flipH="1" flipV="1">
            <a:off x="7651440" y="3557160"/>
            <a:ext cx="88920" cy="374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1030320" y="57351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5f5f5f"/>
                </a:solidFill>
                <a:latin typeface="Arial"/>
              </a:rPr>
              <a:t>Figura 5: Abundancia de cambio en la cobertura de la tierra en 40 años; una nueva área urbana en los Países Ba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Tarea 4: Interpretación de Imágenes Multitemporal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0" y="-445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1131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2055600" y="4906440"/>
            <a:ext cx="474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98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 flipH="1" flipV="1">
            <a:off x="2916360" y="2707920"/>
            <a:ext cx="71280" cy="336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 flipH="1" flipV="1">
            <a:off x="7651440" y="3557160"/>
            <a:ext cx="88920" cy="374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1030320" y="523836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5f5f5f"/>
                </a:solidFill>
                <a:latin typeface="Arial"/>
              </a:rPr>
              <a:t>Figura 6: Cambio en la cobertura de la tierra en 10 años en un área urbana en los Países Bajos (es difícil de ver las diferencia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1" descr="Horst1989"/>
          <p:cNvPicPr/>
          <p:nvPr/>
        </p:nvPicPr>
        <p:blipFill>
          <a:blip r:embed="rId1"/>
          <a:stretch/>
        </p:blipFill>
        <p:spPr>
          <a:xfrm>
            <a:off x="1071720" y="1989000"/>
            <a:ext cx="3068640" cy="2927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Horst1998"/>
          <p:cNvPicPr/>
          <p:nvPr/>
        </p:nvPicPr>
        <p:blipFill>
          <a:blip r:embed="rId2"/>
          <a:stretch/>
        </p:blipFill>
        <p:spPr>
          <a:xfrm>
            <a:off x="4824360" y="1989000"/>
            <a:ext cx="31719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Objetiv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racticar los conceptos básicos de mapeo de cobertura de la tierra y uso de la tierra en base a interpretación de fotografías aéreas y realización de una interpretación preliminar de la leyenda en base a las características de la fotografí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ocedimient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uatro tareas y un relevamiento de campo opcional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Tarea 1: Investigación de una fotografía aére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Tarea 2: Leyenda preliminar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Tarea 3: Interpretació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Tarea opcional: Relevamiento de camp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Tarea 4: Interpretación de imágenes multitemporales para cambio de uso de la tierr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Tarea 1: Investigación de una Fotografía Aére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8" name="Picture 5" descr="Horst1989 zoom"/>
          <p:cNvPicPr/>
          <p:nvPr/>
        </p:nvPicPr>
        <p:blipFill>
          <a:blip r:embed="rId1"/>
          <a:stretch/>
        </p:blipFill>
        <p:spPr>
          <a:xfrm>
            <a:off x="971640" y="1701720"/>
            <a:ext cx="4392360" cy="429264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14"/>
          <p:cNvGrpSpPr/>
          <p:nvPr/>
        </p:nvGrpSpPr>
        <p:grpSpPr>
          <a:xfrm>
            <a:off x="2124000" y="2494080"/>
            <a:ext cx="3240000" cy="2736360"/>
            <a:chOff x="2124000" y="2494080"/>
            <a:chExt cx="3240000" cy="2736360"/>
          </a:xfrm>
        </p:grpSpPr>
        <p:sp>
          <p:nvSpPr>
            <p:cNvPr id="100" name="Oval 20"/>
            <p:cNvSpPr/>
            <p:nvPr/>
          </p:nvSpPr>
          <p:spPr>
            <a:xfrm>
              <a:off x="3008880" y="2494080"/>
              <a:ext cx="982800" cy="94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9"/>
            <p:cNvSpPr/>
            <p:nvPr/>
          </p:nvSpPr>
          <p:spPr>
            <a:xfrm>
              <a:off x="2124000" y="4284000"/>
              <a:ext cx="982800" cy="94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8"/>
            <p:cNvSpPr/>
            <p:nvPr/>
          </p:nvSpPr>
          <p:spPr>
            <a:xfrm>
              <a:off x="4381200" y="4070520"/>
              <a:ext cx="982800" cy="94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7"/>
            <p:cNvSpPr/>
            <p:nvPr/>
          </p:nvSpPr>
          <p:spPr>
            <a:xfrm>
              <a:off x="3567960" y="2741400"/>
              <a:ext cx="3528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6"/>
            <p:cNvSpPr/>
            <p:nvPr/>
          </p:nvSpPr>
          <p:spPr>
            <a:xfrm>
              <a:off x="2140920" y="4571280"/>
              <a:ext cx="35280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5"/>
            <p:cNvSpPr/>
            <p:nvPr/>
          </p:nvSpPr>
          <p:spPr>
            <a:xfrm>
              <a:off x="4814280" y="4127760"/>
              <a:ext cx="3528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29"/>
          <p:cNvSpPr/>
          <p:nvPr/>
        </p:nvSpPr>
        <p:spPr>
          <a:xfrm>
            <a:off x="5724360" y="472068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Figura 1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Detalle de fotografía </a:t>
            </a:r>
            <a:r>
              <a:rPr b="1" i="1" lang="es-AR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Horst1989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Tarea 2: Leyenda Preliminar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-47160" y="1309680"/>
            <a:ext cx="6491520" cy="5688720"/>
            <a:chOff x="-47160" y="1309680"/>
            <a:chExt cx="6491520" cy="5688720"/>
          </a:xfrm>
        </p:grpSpPr>
        <p:pic>
          <p:nvPicPr>
            <p:cNvPr id="109" name="Picture 20" descr="Horst1989 zoom"/>
            <p:cNvPicPr/>
            <p:nvPr/>
          </p:nvPicPr>
          <p:blipFill>
            <a:blip r:embed="rId1"/>
            <a:stretch/>
          </p:blipFill>
          <p:spPr>
            <a:xfrm>
              <a:off x="1229760" y="2164680"/>
              <a:ext cx="3875040" cy="379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Group 42"/>
            <p:cNvGrpSpPr/>
            <p:nvPr/>
          </p:nvGrpSpPr>
          <p:grpSpPr>
            <a:xfrm>
              <a:off x="1060200" y="1987560"/>
              <a:ext cx="356040" cy="351360"/>
              <a:chOff x="1060200" y="1987560"/>
              <a:chExt cx="356040" cy="351360"/>
            </a:xfrm>
          </p:grpSpPr>
          <p:sp>
            <p:nvSpPr>
              <p:cNvPr id="111" name="Oval 45"/>
              <p:cNvSpPr/>
              <p:nvPr/>
            </p:nvSpPr>
            <p:spPr>
              <a:xfrm>
                <a:off x="1060200" y="1987920"/>
                <a:ext cx="355680" cy="35100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2" name="AutoShape 44"/>
              <p:cNvCxnSpPr/>
              <p:nvPr/>
            </p:nvCxnSpPr>
            <p:spPr>
              <a:xfrm>
                <a:off x="1233720" y="1987560"/>
                <a:ext cx="1080" cy="35136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113" name="AutoShape 43"/>
              <p:cNvCxnSpPr/>
              <p:nvPr/>
            </p:nvCxnSpPr>
            <p:spPr>
              <a:xfrm>
                <a:off x="1060200" y="2159280"/>
                <a:ext cx="356400" cy="108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14" name="Group 38"/>
            <p:cNvGrpSpPr/>
            <p:nvPr/>
          </p:nvGrpSpPr>
          <p:grpSpPr>
            <a:xfrm>
              <a:off x="1042560" y="5783400"/>
              <a:ext cx="356040" cy="351360"/>
              <a:chOff x="1042560" y="5783400"/>
              <a:chExt cx="356040" cy="351360"/>
            </a:xfrm>
          </p:grpSpPr>
          <p:sp>
            <p:nvSpPr>
              <p:cNvPr id="115" name="Oval 41"/>
              <p:cNvSpPr/>
              <p:nvPr/>
            </p:nvSpPr>
            <p:spPr>
              <a:xfrm>
                <a:off x="1042560" y="5783760"/>
                <a:ext cx="355680" cy="35100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6" name="AutoShape 40"/>
              <p:cNvCxnSpPr/>
              <p:nvPr/>
            </p:nvCxnSpPr>
            <p:spPr>
              <a:xfrm>
                <a:off x="1216080" y="5783400"/>
                <a:ext cx="1080" cy="35136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117" name="AutoShape 39"/>
              <p:cNvCxnSpPr/>
              <p:nvPr/>
            </p:nvCxnSpPr>
            <p:spPr>
              <a:xfrm>
                <a:off x="1042560" y="5955120"/>
                <a:ext cx="356400" cy="108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18" name="Group 34"/>
            <p:cNvGrpSpPr/>
            <p:nvPr/>
          </p:nvGrpSpPr>
          <p:grpSpPr>
            <a:xfrm>
              <a:off x="4928760" y="1987560"/>
              <a:ext cx="356040" cy="351360"/>
              <a:chOff x="4928760" y="1987560"/>
              <a:chExt cx="356040" cy="351360"/>
            </a:xfrm>
          </p:grpSpPr>
          <p:sp>
            <p:nvSpPr>
              <p:cNvPr id="119" name="Oval 37"/>
              <p:cNvSpPr/>
              <p:nvPr/>
            </p:nvSpPr>
            <p:spPr>
              <a:xfrm>
                <a:off x="4928760" y="1987920"/>
                <a:ext cx="355680" cy="35100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0" name="AutoShape 36"/>
              <p:cNvCxnSpPr/>
              <p:nvPr/>
            </p:nvCxnSpPr>
            <p:spPr>
              <a:xfrm>
                <a:off x="5102280" y="1987560"/>
                <a:ext cx="1080" cy="35136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121" name="AutoShape 35"/>
              <p:cNvCxnSpPr/>
              <p:nvPr/>
            </p:nvCxnSpPr>
            <p:spPr>
              <a:xfrm>
                <a:off x="4928760" y="2159280"/>
                <a:ext cx="356400" cy="108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22" name="Group 29"/>
            <p:cNvGrpSpPr/>
            <p:nvPr/>
          </p:nvGrpSpPr>
          <p:grpSpPr>
            <a:xfrm>
              <a:off x="4915080" y="5783400"/>
              <a:ext cx="356040" cy="351360"/>
              <a:chOff x="4915080" y="5783400"/>
              <a:chExt cx="356040" cy="351360"/>
            </a:xfrm>
          </p:grpSpPr>
          <p:sp>
            <p:nvSpPr>
              <p:cNvPr id="123" name="Oval 32"/>
              <p:cNvSpPr/>
              <p:nvPr/>
            </p:nvSpPr>
            <p:spPr>
              <a:xfrm>
                <a:off x="4915080" y="5783760"/>
                <a:ext cx="355680" cy="35100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4" name="AutoShape 31"/>
              <p:cNvCxnSpPr/>
              <p:nvPr/>
            </p:nvCxnSpPr>
            <p:spPr>
              <a:xfrm>
                <a:off x="5088600" y="5783400"/>
                <a:ext cx="1080" cy="35136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125" name="AutoShape 30"/>
              <p:cNvCxnSpPr/>
              <p:nvPr/>
            </p:nvCxnSpPr>
            <p:spPr>
              <a:xfrm>
                <a:off x="4915080" y="5955120"/>
                <a:ext cx="356400" cy="108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26" name="Rectangle 49"/>
            <p:cNvSpPr/>
            <p:nvPr/>
          </p:nvSpPr>
          <p:spPr>
            <a:xfrm>
              <a:off x="665640" y="1774800"/>
              <a:ext cx="4820040" cy="460944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8"/>
            <p:cNvSpPr/>
            <p:nvPr/>
          </p:nvSpPr>
          <p:spPr>
            <a:xfrm>
              <a:off x="1224360" y="1309680"/>
              <a:ext cx="1182960" cy="69300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475" h="282">
                  <a:moveTo>
                    <a:pt x="49" y="115"/>
                  </a:moveTo>
                  <a:cubicBezTo>
                    <a:pt x="199" y="140"/>
                    <a:pt x="169" y="146"/>
                    <a:pt x="349" y="130"/>
                  </a:cubicBezTo>
                  <a:cubicBezTo>
                    <a:pt x="384" y="135"/>
                    <a:pt x="433" y="117"/>
                    <a:pt x="454" y="145"/>
                  </a:cubicBezTo>
                  <a:cubicBezTo>
                    <a:pt x="475" y="173"/>
                    <a:pt x="469" y="231"/>
                    <a:pt x="439" y="250"/>
                  </a:cubicBezTo>
                  <a:cubicBezTo>
                    <a:pt x="388" y="282"/>
                    <a:pt x="319" y="260"/>
                    <a:pt x="259" y="265"/>
                  </a:cubicBezTo>
                  <a:cubicBezTo>
                    <a:pt x="199" y="260"/>
                    <a:pt x="139" y="258"/>
                    <a:pt x="79" y="250"/>
                  </a:cubicBezTo>
                  <a:cubicBezTo>
                    <a:pt x="63" y="248"/>
                    <a:pt x="36" y="251"/>
                    <a:pt x="34" y="235"/>
                  </a:cubicBezTo>
                  <a:cubicBezTo>
                    <a:pt x="0" y="0"/>
                    <a:pt x="102" y="221"/>
                    <a:pt x="49" y="115"/>
                  </a:cubicBezTo>
                  <a:close/>
                </a:path>
              </a:pathLst>
            </a:custGeom>
            <a:solidFill>
              <a:srgbClr val="ddd8c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7"/>
            <p:cNvSpPr/>
            <p:nvPr/>
          </p:nvSpPr>
          <p:spPr>
            <a:xfrm>
              <a:off x="3737880" y="1309680"/>
              <a:ext cx="1182960" cy="69300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475" h="282">
                  <a:moveTo>
                    <a:pt x="49" y="115"/>
                  </a:moveTo>
                  <a:cubicBezTo>
                    <a:pt x="199" y="140"/>
                    <a:pt x="169" y="146"/>
                    <a:pt x="349" y="130"/>
                  </a:cubicBezTo>
                  <a:cubicBezTo>
                    <a:pt x="384" y="135"/>
                    <a:pt x="433" y="117"/>
                    <a:pt x="454" y="145"/>
                  </a:cubicBezTo>
                  <a:cubicBezTo>
                    <a:pt x="475" y="173"/>
                    <a:pt x="469" y="231"/>
                    <a:pt x="439" y="250"/>
                  </a:cubicBezTo>
                  <a:cubicBezTo>
                    <a:pt x="388" y="282"/>
                    <a:pt x="319" y="260"/>
                    <a:pt x="259" y="265"/>
                  </a:cubicBezTo>
                  <a:cubicBezTo>
                    <a:pt x="199" y="260"/>
                    <a:pt x="139" y="258"/>
                    <a:pt x="79" y="250"/>
                  </a:cubicBezTo>
                  <a:cubicBezTo>
                    <a:pt x="63" y="248"/>
                    <a:pt x="36" y="251"/>
                    <a:pt x="34" y="235"/>
                  </a:cubicBezTo>
                  <a:cubicBezTo>
                    <a:pt x="0" y="0"/>
                    <a:pt x="102" y="221"/>
                    <a:pt x="49" y="115"/>
                  </a:cubicBezTo>
                  <a:close/>
                </a:path>
              </a:pathLst>
            </a:custGeom>
            <a:solidFill>
              <a:srgbClr val="ddd8c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6"/>
            <p:cNvSpPr/>
            <p:nvPr/>
          </p:nvSpPr>
          <p:spPr>
            <a:xfrm rot="2133600">
              <a:off x="5169960" y="6017040"/>
              <a:ext cx="1182960" cy="69300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475" h="282">
                  <a:moveTo>
                    <a:pt x="49" y="115"/>
                  </a:moveTo>
                  <a:cubicBezTo>
                    <a:pt x="199" y="140"/>
                    <a:pt x="169" y="146"/>
                    <a:pt x="349" y="130"/>
                  </a:cubicBezTo>
                  <a:cubicBezTo>
                    <a:pt x="384" y="135"/>
                    <a:pt x="433" y="117"/>
                    <a:pt x="454" y="145"/>
                  </a:cubicBezTo>
                  <a:cubicBezTo>
                    <a:pt x="475" y="173"/>
                    <a:pt x="469" y="231"/>
                    <a:pt x="439" y="250"/>
                  </a:cubicBezTo>
                  <a:cubicBezTo>
                    <a:pt x="388" y="282"/>
                    <a:pt x="319" y="260"/>
                    <a:pt x="259" y="265"/>
                  </a:cubicBezTo>
                  <a:cubicBezTo>
                    <a:pt x="199" y="260"/>
                    <a:pt x="139" y="258"/>
                    <a:pt x="79" y="250"/>
                  </a:cubicBezTo>
                  <a:cubicBezTo>
                    <a:pt x="63" y="248"/>
                    <a:pt x="36" y="251"/>
                    <a:pt x="34" y="235"/>
                  </a:cubicBezTo>
                  <a:cubicBezTo>
                    <a:pt x="0" y="0"/>
                    <a:pt x="102" y="221"/>
                    <a:pt x="49" y="115"/>
                  </a:cubicBezTo>
                  <a:close/>
                </a:path>
              </a:pathLst>
            </a:custGeom>
            <a:solidFill>
              <a:srgbClr val="ddd8c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3"/>
            <p:cNvSpPr/>
            <p:nvPr/>
          </p:nvSpPr>
          <p:spPr>
            <a:xfrm rot="19353600">
              <a:off x="41400" y="6017040"/>
              <a:ext cx="1182960" cy="69300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475" h="282">
                  <a:moveTo>
                    <a:pt x="49" y="115"/>
                  </a:moveTo>
                  <a:cubicBezTo>
                    <a:pt x="199" y="140"/>
                    <a:pt x="169" y="146"/>
                    <a:pt x="349" y="130"/>
                  </a:cubicBezTo>
                  <a:cubicBezTo>
                    <a:pt x="384" y="135"/>
                    <a:pt x="433" y="117"/>
                    <a:pt x="454" y="145"/>
                  </a:cubicBezTo>
                  <a:cubicBezTo>
                    <a:pt x="475" y="173"/>
                    <a:pt x="469" y="231"/>
                    <a:pt x="439" y="250"/>
                  </a:cubicBezTo>
                  <a:cubicBezTo>
                    <a:pt x="388" y="282"/>
                    <a:pt x="319" y="260"/>
                    <a:pt x="259" y="265"/>
                  </a:cubicBezTo>
                  <a:cubicBezTo>
                    <a:pt x="199" y="260"/>
                    <a:pt x="139" y="258"/>
                    <a:pt x="79" y="250"/>
                  </a:cubicBezTo>
                  <a:cubicBezTo>
                    <a:pt x="63" y="248"/>
                    <a:pt x="36" y="251"/>
                    <a:pt x="34" y="235"/>
                  </a:cubicBezTo>
                  <a:cubicBezTo>
                    <a:pt x="0" y="0"/>
                    <a:pt x="102" y="221"/>
                    <a:pt x="49" y="115"/>
                  </a:cubicBezTo>
                  <a:close/>
                </a:path>
              </a:pathLst>
            </a:custGeom>
            <a:solidFill>
              <a:srgbClr val="ddd8c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59"/>
          <p:cNvSpPr/>
          <p:nvPr/>
        </p:nvSpPr>
        <p:spPr>
          <a:xfrm>
            <a:off x="5653080" y="4321800"/>
            <a:ext cx="288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Figura 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Fijación de fotografía y transparencia a una m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Tarea 2: Leyenda Preliminar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Rectangle 59"/>
          <p:cNvSpPr/>
          <p:nvPr/>
        </p:nvSpPr>
        <p:spPr>
          <a:xfrm>
            <a:off x="611280" y="5380560"/>
            <a:ext cx="77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Figura 3: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Ejemplo de una leyenda de interpre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7"/>
          <p:cNvGrpSpPr/>
          <p:nvPr/>
        </p:nvGrpSpPr>
        <p:grpSpPr>
          <a:xfrm>
            <a:off x="658800" y="1684440"/>
            <a:ext cx="7848720" cy="3287520"/>
            <a:chOff x="658800" y="1684440"/>
            <a:chExt cx="7848720" cy="3287520"/>
          </a:xfrm>
        </p:grpSpPr>
        <p:sp>
          <p:nvSpPr>
            <p:cNvPr id="135" name="AutoShape 6"/>
            <p:cNvSpPr/>
            <p:nvPr/>
          </p:nvSpPr>
          <p:spPr>
            <a:xfrm>
              <a:off x="658800" y="1684440"/>
              <a:ext cx="7840800" cy="32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8" descr=""/>
            <p:cNvPicPr/>
            <p:nvPr/>
          </p:nvPicPr>
          <p:blipFill>
            <a:blip r:embed="rId1"/>
            <a:stretch/>
          </p:blipFill>
          <p:spPr>
            <a:xfrm>
              <a:off x="658800" y="1684440"/>
              <a:ext cx="7848720" cy="328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3300"/>
                </a:solidFill>
                <a:latin typeface="Arial"/>
              </a:rPr>
              <a:t>Tabla 1. </a:t>
            </a: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Leyenda</a:t>
            </a:r>
            <a:r>
              <a:rPr b="0" lang="nl-NL" sz="4000" spc="-1" strike="noStrike">
                <a:solidFill>
                  <a:srgbClr val="cc3300"/>
                </a:solidFill>
                <a:latin typeface="Arial"/>
              </a:rPr>
              <a:t> de Interpretación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5840" y="2214720"/>
          <a:ext cx="8572320" cy="3489120"/>
        </p:xfrm>
        <a:graphic>
          <a:graphicData uri="http://schemas.openxmlformats.org/drawingml/2006/table">
            <a:tbl>
              <a:tblPr/>
              <a:tblGrid>
                <a:gridCol w="671400"/>
                <a:gridCol w="1090800"/>
                <a:gridCol w="1090440"/>
                <a:gridCol w="1090800"/>
                <a:gridCol w="1090440"/>
                <a:gridCol w="1090440"/>
                <a:gridCol w="1090800"/>
                <a:gridCol w="135720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ne/h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te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 / assoc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97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Tarea 3: Interpretación 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2124000" y="2494080"/>
            <a:ext cx="3240000" cy="2736360"/>
            <a:chOff x="2124000" y="2494080"/>
            <a:chExt cx="3240000" cy="2736360"/>
          </a:xfrm>
        </p:grpSpPr>
        <p:sp>
          <p:nvSpPr>
            <p:cNvPr id="141" name="Oval 5"/>
            <p:cNvSpPr/>
            <p:nvPr/>
          </p:nvSpPr>
          <p:spPr>
            <a:xfrm>
              <a:off x="3008880" y="2494080"/>
              <a:ext cx="982800" cy="94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"/>
            <p:cNvSpPr/>
            <p:nvPr/>
          </p:nvSpPr>
          <p:spPr>
            <a:xfrm>
              <a:off x="2124000" y="4284000"/>
              <a:ext cx="982800" cy="94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7"/>
            <p:cNvSpPr/>
            <p:nvPr/>
          </p:nvSpPr>
          <p:spPr>
            <a:xfrm>
              <a:off x="4381200" y="4070520"/>
              <a:ext cx="982800" cy="94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3567960" y="2741400"/>
              <a:ext cx="3528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2140920" y="4571280"/>
              <a:ext cx="35280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0"/>
            <p:cNvSpPr/>
            <p:nvPr/>
          </p:nvSpPr>
          <p:spPr>
            <a:xfrm>
              <a:off x="4814280" y="4127760"/>
              <a:ext cx="3528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ectangle 11"/>
          <p:cNvSpPr/>
          <p:nvPr/>
        </p:nvSpPr>
        <p:spPr>
          <a:xfrm>
            <a:off x="5292720" y="3543120"/>
            <a:ext cx="331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5f5f5f"/>
                </a:solidFill>
                <a:latin typeface="Arial"/>
              </a:rPr>
              <a:t>Figura 4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5f5f5f"/>
                </a:solidFill>
                <a:latin typeface="Arial"/>
              </a:rPr>
              <a:t>Ejemplo de mapeo de unidad de tierra, mezclando características de la imagen y características de uso de la tierra.</a:t>
            </a: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2" descr="WesselerClassEx"/>
          <p:cNvPicPr/>
          <p:nvPr/>
        </p:nvPicPr>
        <p:blipFill>
          <a:blip r:embed="rId1"/>
          <a:stretch/>
        </p:blipFill>
        <p:spPr>
          <a:xfrm>
            <a:off x="755640" y="1341360"/>
            <a:ext cx="4095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Tarea 3: Interpre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reglas cartográficas básicas sobre mapas de polígono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Todos los polígonos deberían ser cerrado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ada polígono con las mismas características debería tener el mismo símbolo (etiqueta)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l polígono menor es generalmente de 5 x 5 mm, o 2 x 10 mm para unidades alongada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5:28:43Z</dcterms:created>
  <dc:creator>Jeroen Verplanke</dc:creator>
  <dc:description/>
  <cp:keywords>pgis training kit</cp:keywords>
  <dc:language>en-US</dc:language>
  <cp:lastModifiedBy>Valeria</cp:lastModifiedBy>
  <dcterms:modified xsi:type="dcterms:W3CDTF">2010-08-22T20:08:11Z</dcterms:modified>
  <cp:revision>112</cp:revision>
  <dc:subject/>
  <dc:title>Presentacion 2 - Mapeo de la cobertura de la tierra con fotografías aére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