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BBA-9EE4-4B60-8AD0-9D624F0D0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699B-B85E-4DD1-9EEA-18738BCD6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 Sírvase estudiar el Material Informativo para el Participante de la Unidad M11U01 antes de usar est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5E3-AFED-49B4-871C-4A194E447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0A6-0A67-4E93-9F84-08782FF09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BC7E-E564-4EF4-82A0-3A34DA22D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A1B-A395-4FBC-AEC6-1AE77DAC8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F9F-A0D8-420A-A20E-B9BAA590D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C34-A139-4288-9C34-C322142D8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B7B6-B6C1-4E4E-AC69-06258A037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8398-45C9-4B87-A6C1-AB9A80D98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008-0530-44EB-A484-2286099EF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FA3-0B03-473D-8C4A-A690DA5C6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una lista de los sensores populares. El Material Informativo para el Participante proporciona una descripción elaborada de estos sens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9063-AAB8-480C-9328-98131F408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C3A-28D8-41DC-BE36-5D38DF160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B39-7467-4D4E-9C98-35A6C8ABA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CE0-30F0-40D2-9B8F-38C4438E1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CC8-7FB9-4602-A537-0C193E0A6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C08-F4A2-49A9-BE43-94EA94899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D26-EE00-4C96-990C-BFFCBDD4A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982-5C79-4038-AD68-81FB35F52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C11E-AB5F-4200-9084-48646CE7B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7CB0-E3BA-4C29-9C18-7633505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7849-7D0E-4865-9009-26A34E5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9FC2-9022-45B6-B7A1-EC9209F83A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51288-7406-4009-8321-8194BC7B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F4AE3-E363-47D0-BAF9-29FB434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D50D3-0E36-4457-BCA1-45701C2C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7AE0-D781-4628-95CD-8E265C7C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4365-CC4B-45A6-9BB7-1C6B13A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DD2A5-EAE0-47B2-BED9-F08B90A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4144-E429-4CFD-AEFB-A7E2F5EC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DA2B-295A-43FB-85F3-78B3DB97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EDD87-848D-4372-B0AE-077AFF8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3311B-B90F-40F1-96C3-4B91F2A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AC9FC-9E81-4F24-AE54-DEDA807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E46EA-CCB5-4926-97B8-AFEC21BA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ABA75-C114-4D98-A4E8-97E8A015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ED17-D3A4-4B0F-A324-5CB493EC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5A8E-7350-4D1C-9795-BBDBF58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3938-3E75-4DCA-B3D8-997F828A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7DC3-D739-459D-AAAE-0761233F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428C-650A-4338-8233-D86337D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7A2F-17B9-4F49-A3AE-B35BB85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673E-2859-4770-B63B-FCACAAA2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1155-EC76-447A-B333-2C65AAEE67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C77-BD90-49FD-AB3E-1C4FFE312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 a las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 de Teledete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800" y="514368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 las aplicaciones de mapeo, se requieren fotografías aéreas vertic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se obtienen cuando el eje de la cámara no es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raras veces son usadas con fines de 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ergía Electromagné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se basa en la detección de energía electromagnética (EM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o la velocidad de la luz es constante, la longitud de la onda y la frecuencia están inversamente relacionadas entre sí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pectro Visib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luz visible cubre solamente una muy pequeña parte de este espectr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ferencia Atmosfér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95959"/>
                </a:solidFill>
                <a:latin typeface="Arial"/>
              </a:rPr>
              <a:t>Las interacciones de la energía del sol con materiales físicos hacen que esta energía sea absorbida, dispersada, transmitida y reflejad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sensor electrónico “mide  la intensidad” del terreno y la señal eléctrica analógica es muestreada en una imagen y convertida a un número digital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a imagen digital es normalmente mostrada utilizando una escala de gris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píxel que tenga valor cero se muestra en negro. Un píxel que tenga el valor 255 se muestra en blanco. Cualquier número digital intermedio se vuelve algún tono de gri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forma alternativa de mostrar datos de banda única es usar una escala de color para obtener una imagen en “pseudo color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asignarse colores, que vayan desde el azul vía cian, verde y amarillo al rojo,  a diferentes porciones del rango de números digitales de 0 a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A veces, se forma un color verdadero compuesto, donde los canales RGB se relacionan con las bandas de longitud de onda roja, verde y azul de una cámara o escáner multiespectr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característica más saliente de falsos colores compuestos es que la vegetación aparece en un color rojo-púrpur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358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r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seudo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lso col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63828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Sensores Populares Transportados por el Espac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(RS) es el arte, ciencia y tecnología de observar un objeto, escena o fenómeno mediante técnicas basadas en instrume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detección se aplica en muchos campos, incluyendo arquitectura, arqueología, medicina, control de calidad industrial, robótica, mapeo extraterrestre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interés de este Módulo es, sin embargo, la observación de la Tierra desde plataformas aerotransportadas o transportadas por el espac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este Módulo, tanto las fotografías como las imágenes satelitales son consideradas como un tipo de imagen de teledetec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omar y utilizar fotografías es la técnica de teledetección más antigua, aunque la más comúnmente aplica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son la fuente de datos primaria para mapeo topográfico de mediana a gran escala, muchos relevamientos catastrales, proyectos de ingeniería civil y planificación urba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también son una fuente útil de información para silvicultores, ecologistas, científicos del suelo, geólogos y muchos otr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distinguirse dos amplias categorías de fotografías aérea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vertic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oblicu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Valeria</cp:lastModifiedBy>
  <dcterms:modified xsi:type="dcterms:W3CDTF">2010-08-22T20:02:34Z</dcterms:modified>
  <cp:revision>51</cp:revision>
  <dc:subject/>
  <dc:title>Presentación - Introducción a las Imágenes de Teledet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