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1DD5-9463-4313-8A33-8F8141BB3C9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9F73-82A6-40BD-AFF8-17DE3629942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A6D5-23BD-4CF9-B7E0-DACDBE7B3E9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daptado de Dupigny-Giroux, L. GIS Core Curriculum for Technical Programmes. Departamento de Geografía, Universidad de Vermo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os capacitadores pueden querer hacer referencia a este recurs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9A0C-813F-4C4F-B0CB-7D4714B609F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os capacitadores pueden abrir QGIS y demostrar el proceso de crear y editar un nueva capa. Luego de esto, los capacitadores podrían invitar a los participantes a discutir cuándo sería útil la digitalización en pantall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454C-ADB1-440A-913B-BB11E0DEA13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35FE-0879-46F4-8D73-B52A769CBD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09C3-9354-4B88-A6E7-5DB1DB0F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4A19-DF5B-4EDC-A382-B7F218E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87190-E916-4725-8007-94A0319766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356FF-CAE8-4FA7-B37F-8709F571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87F6C-D511-4BF9-A13D-CBF2D8BB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ED865-F6A7-4A3C-9899-237D5040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14326-D20E-4387-92B6-D8EAFA5F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43CD1-0509-456A-8915-AE8A7BE3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37501-21AF-4B69-9B89-A203AECF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5341D-F16E-4FED-BD66-EA2424B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E79F-D47D-48EF-A5D5-9FC21866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724CB-EF59-42B2-94DA-8939DB80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651F7-7EFD-4113-808E-5FF56E5C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94377-3114-456C-9515-B6C04D22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DD22E-610E-49DD-80E5-FC9266DB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58899-C5CD-40E5-A8EA-0709AE0E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B211-FB2C-41B4-982E-16363CD4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2C01-4C4E-4C68-AF50-6FBF9045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4C2F-4AA6-430F-BD82-295FFFE3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DCEB-E631-4EA5-91D0-87791481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6CF8-D5C2-40C6-A91F-50AA5EDD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FADD-4210-4262-B177-7478C12F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66B3-DC2C-4180-9E29-BAC2DFB8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022D-687B-4110-A311-B2B667E82A6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B0F7-5035-4D67-9AC8-13E7F5E1B84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 a SIG con el Fin de  Practicar SIGP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69696"/>
                </a:solidFill>
                <a:latin typeface="Arial"/>
              </a:rPr>
              <a:t>Digitalización en Pantall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558520" y="486900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Jon Corbett y  Kasondra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2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proceso de extraer características territoriales de una imagen digit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Éstas incluye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apas escanead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otografías aére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otografías digit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Útiles para transformar datos en capas de mapas georreferenciad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nversión de un mapa en papel en formato digit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corporación del mapa digitalizado en un SI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ambién conocida como geocodific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puntos, características lineales y áreas a menudo emplean digitalización manu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sociación de coordenadas y datos topográfic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en Pantall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ptura datos de imágenes digitales usando el mou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Otorga un nivel mayor de precis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ermite la edición de característic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usuario crea la capa en la pantalla con el mou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formación referenciada como antecede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0:34:05Z</dcterms:created>
  <dc:creator>Jon Corbett and KasondraWhite</dc:creator>
  <dc:description/>
  <dc:language>en-US</dc:language>
  <cp:lastModifiedBy>martens</cp:lastModifiedBy>
  <dcterms:modified xsi:type="dcterms:W3CDTF">2010-05-20T09:17:10Z</dcterms:modified>
  <cp:revision>29</cp:revision>
  <dc:subject/>
  <dc:title>Presentación - Digitalización en Pantal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/>
  </property>
  <property fmtid="{D5CDD505-2E9C-101B-9397-08002B2CF9AE}" pid="7" name="Slides">
    <vt:lpwstr>4</vt:lpwstr>
  </property>
  <property fmtid="{D5CDD505-2E9C-101B-9397-08002B2CF9AE}" pid="8" name="Subject">
    <vt:lpwstr/>
  </property>
  <property fmtid="{D5CDD505-2E9C-101B-9397-08002B2CF9AE}" pid="9" name="_Author">
    <vt:lpwstr>Kasondra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