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808080"/>
                </a:solidFill>
                <a:latin typeface="Times New Roman"/>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8B92-B171-4B45-80E2-71CDE1960AB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98EF-22F2-47DB-9479-097F91FE78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isponible en www.qgis.org. La Guía del Usuario de QGIS ha sido suministrada como un material informativo electrón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8D2A-1BCF-4C0E-8ADB-C30F2EAA8E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paso importante para entender cómo usar cualquier tipo de software es familiarizarse con las herramientas y características que están disponibles y sus funciones. Los capacitadores pueden tomarse un momento para permitir a los participantes experimentar con la interfaz gráfica de usuario. Sería útil permitir a los participantes varios minutos para examinar detenidamente los diferentes comandos, abriendo primero una o dos capas de muestra con las cuales experimentar y remitirse a la guía proporcionada en el Material Informativo para el Participante. El mejor momento para esto sería a continuación de la Diapositiva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E3F1-0A38-4780-B753-685749C154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 - Canvas del Mapa: Esta es el área donde los datos son mostrados. También es el canvas primario para editar el mapa o crear nuevas característic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br>
              <a:rPr sz="1200"/>
            </a:br>
            <a:r>
              <a:rPr b="0" lang="es-AR" sz="1200" spc="-1" strike="noStrike">
                <a:solidFill>
                  <a:srgbClr val="000000"/>
                </a:solidFill>
                <a:latin typeface="Arial"/>
              </a:rPr>
              <a:t>2 - Leyenda del Mapa: Todas las capas de datos que han sido abiertas se muestran en la leyenda. Las capas de datos pueden ser activadas o desactivadas haciendo clic en el cuadro al lado del nombre de la capa. En este ejemplo, las capas que han sido abiertas son ‘Árboles’ y ‘Alaska’ y ambas están activadas. La información asociada con capas de datos puede ser visualizada desde la leyenda y pueden hacerse cambios a los propios datos haciendo clic con el botón derecho en el nombre en la leyenda y haciendo la selección entre una serie de opcion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 - Canvas de Vista General del Mapa: Este canvas muestra una vista general de las capas que están activadas en el canvas del mapa. Se usa para ubicar determinadas características porque muestra el grado del mapa entero, con un rectángulo rojo delineando la vista actual si el usuario ha hecho un acercamiento o ha recorrido el mapa para enfocarse en una ubicación en particul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br>
              <a:rPr sz="1200"/>
            </a:br>
            <a:r>
              <a:rPr b="0" lang="es-AR" sz="1200" spc="-1" strike="noStrike">
                <a:solidFill>
                  <a:srgbClr val="000000"/>
                </a:solidFill>
                <a:latin typeface="Arial"/>
              </a:rPr>
              <a:t>4 -Barra de herramientas: La barra de herramientas alberga las diferentes herramientas que se proporcionan con el paquete de software Quantum GIS. La función de cada una de estas herramientas se explica con mayor detalle en la siguiente sec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 - Coordenadas del Mapa: Este cuadro muestra las coordenadas del mapa en cualquier ubicación dada. Las coordenadas que se muestran se relacionan con la posición del mouse en cualquier momento dado. Por lo tanto, estos números siempre están cambiando cuando el cursor se está moviendo.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 - Escala del Mapa: Este cuadro muestra la escala del mapa. Esto cambia cada vez que los usuarios hacen un acercamiento o alejamiento. Los usuarios pueden fijar esto manualmente, escribiendo la escala deseada en este cuadro.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2264-2726-4701-B9AD-5DC1A86805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mitirse al Material Informativo para el Participante por una descripción de cada una de las herramientas incluidas en la barra de herrami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667A-74D8-43F4-9527-5479A6938A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preguntas deberían realizarse antes de utilizar SIGP. Los capacitadores deberían sentirse libres de abrir la discusión a esta altura, permitiendo a los participantes la oportunidad de extraer las ventajas y desventajas del uso de SIGP. Pedir a los participantes que imaginen de qué forma podrían ser útiles y otorgar poderes los SIGP y las formas en la que los SIGP podrían quitar poderes a las comunidades. ¿Cómo podrían los profesionales precaver los potenciales aspectos negativos de los SIG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24D7-C993-4428-AA0E-671395733A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939A-1E3C-4594-8184-E51FE8AF6B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pendiendo de los recursos disponibles, los capacitadores  pueden demostrar cómo se usa un GPS.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FE60-5E2C-440A-8A47-D95ABE9D6B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diapositiva proporciona un panorama general de la presentación. Los capacitadores pueden querer proporcionar ejemplos al comienzo de esta presentación de proyectos de SIG participativos, enfatizando su creciente popularidad.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FD34-6B18-4446-8464-94085AB9F2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da uno de estos componentes será explorado en todo este Módulo utilizando ejercicios interactivos y tutoriales.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30BC-DB2E-47C0-99ED-4E833B0F71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0522-E341-4A40-A009-EA89A36FEB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tener varios ejemplos de estas funciones listos. Por ejemplo, los presentadores pueden dejar al QGIS corriendo en el fondo (esto es, detrás de su presentación) y pasar a este programa para mostrar la diferencia entre la información que se presenta en un mapa y la que se muestra textualmente (esto es, en una Tabla de Atributos).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EFC9-72BE-4970-913D-64E2D995FD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Los capacitadores pueden dejar al QGIS corriendo en el fondo y abrirlo en este momento para discutir la naturaleza de los “datos geoterritoriales”. Los capacitadores deberían enfatizar que los puntos colocados en un mapa pueden representar un número ilimitado de cosas o eventos. Por ejemplo, los puntos podrían indicar un asentamiento, ubicaciones de instalaciones médicas o incidentes de delitos violentos. Los capacitadores pueden permitir un momento de discusión, pidiendo a los participantes que presenten ideas sobre qué tipo de información podría ser mostrada y analizada usando un SIG. Los capacitadores pueden hacer que un voluntario escriba estas ideas en una hoja grande de papel o pizarra blanca.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3445-4AAE-49F3-8A8A-A6360FA34F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visitar el Portal de Recursos Geoterritoriales o pueden  dirigir a los participantes al mismo en http://www.gisdevelopment.net/tutorials/tuman006b.ht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1301-A31B-4CB0-8A77-D39DDF7620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demostrar la diferencia entre puntos, líneas y polígonos usando los datos de muestra y QGIS.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C48E-EE9A-439B-B54B-8485B7C2B8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abrir diferentes capas, activando y desactivando capas y disponiendo nuevamente el orden de las capas de datos. Los capacitadores pueden no percibir que cada capa es realmente su propio archivo que debe ser abierto independientement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C26D-F42C-47F9-8845-AB104E8453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B02A2D-BF64-4288-8E7C-5B8EDC4A5A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ED104D3-566E-46FB-956B-56D88184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DA58AAD-81DA-4970-B076-54468BA7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36023FC-E4D0-40CD-94BF-3A0B49B6EAE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B08DF10-83FD-4596-96EB-65E76B583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E61E1A1-13E9-422C-8ECA-A8548444B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8F44B21-BBC5-4BA6-A3DD-41A7872B0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50C84F9-2929-4352-AADA-413D18C1F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63E6F4A-3DA9-4550-9A83-DD5DC51B7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5D8F31A-8720-459C-BEC4-3005DB52B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282CCFA-4366-44D5-AE2C-79AD045AE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5478AE2-9F3F-4EEF-9D9D-DBBA3664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B09C1F6-1E65-4256-8857-E331A2FDC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20E47AF-5E9B-4B29-A0E7-5D528CA1A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82358CC-D81C-4F70-B202-7CEC5F3CE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3AF1FFA-1963-4D3B-8C30-E2B795477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3A4C95B-5CD1-4D30-BED4-5C7B08D959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823C1FF-47B8-4E9A-A2E7-7453B9AE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A002F44-399E-40D3-A31D-A018B4E2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F119D22-9A76-4036-AE8B-022D7769B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591F75BE-5620-4514-B79E-2CAE5E19C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9A19ED9-B1EF-4304-8EE1-6BCF3AD3E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0FE947B-6D66-481E-9D6B-146B8223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AD4ED23-7667-4496-8B18-324B524974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B63B-2AFE-4362-A31D-5BDAFE9DDC7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CD52-D4AF-417A-A0A6-6DE4226F8F3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 a SIG con el Fin de  Practicar SIGP</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Introducción a SIG</a:t>
            </a:r>
            <a:endParaRPr b="0" lang="en-US" sz="3200" spc="-1" strike="noStrike">
              <a:solidFill>
                <a:srgbClr val="5f5f5f"/>
              </a:solidFill>
              <a:latin typeface="Arial"/>
            </a:endParaRPr>
          </a:p>
        </p:txBody>
      </p:sp>
      <p:sp>
        <p:nvSpPr>
          <p:cNvPr id="92" name="Rectangle 4"/>
          <p:cNvSpPr/>
          <p:nvPr/>
        </p:nvSpPr>
        <p:spPr>
          <a:xfrm>
            <a:off x="2558880" y="501336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2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antum GIS</a:t>
            </a:r>
            <a:endParaRPr b="0" lang="en-US" sz="4400" spc="-1" strike="noStrike">
              <a:solidFill>
                <a:srgbClr val="cc3300"/>
              </a:solidFill>
              <a:latin typeface="Arial"/>
            </a:endParaRPr>
          </a:p>
        </p:txBody>
      </p:sp>
      <p:sp>
        <p:nvSpPr>
          <p:cNvPr id="114"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fuente abiert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isponible gratuitamen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spaldado por una comunidad de programadores y técnic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ácil de usar.</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5" name="Picture 6" descr=""/>
          <p:cNvPicPr/>
          <p:nvPr/>
        </p:nvPicPr>
        <p:blipFill>
          <a:blip r:embed="rId1"/>
          <a:stretch/>
        </p:blipFill>
        <p:spPr>
          <a:xfrm>
            <a:off x="4357800" y="4214880"/>
            <a:ext cx="3889440" cy="1143000"/>
          </a:xfrm>
          <a:prstGeom prst="rect">
            <a:avLst/>
          </a:prstGeom>
          <a:ln w="9360">
            <a:solidFill>
              <a:srgbClr val="000000"/>
            </a:solidFill>
            <a:miter/>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La Interfaz Gráfica de Usuario (GUI)</a:t>
            </a:r>
            <a:endParaRPr b="0" lang="en-US" sz="40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mplificación de las interacciones con el softw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o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ímbolos en los que se debe hacer clic.</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xt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er las funciones de la GUI es una parte importante del aprendizaje de los SIG.</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 Interfaz Gráfica de Usuario</a:t>
            </a:r>
            <a:endParaRPr b="0" lang="en-US" sz="4400" spc="-1" strike="noStrike">
              <a:solidFill>
                <a:srgbClr val="cc3300"/>
              </a:solidFill>
              <a:latin typeface="Arial"/>
            </a:endParaRPr>
          </a:p>
        </p:txBody>
      </p:sp>
      <p:pic>
        <p:nvPicPr>
          <p:cNvPr id="119" name="Picture 5" descr=""/>
          <p:cNvPicPr/>
          <p:nvPr/>
        </p:nvPicPr>
        <p:blipFill>
          <a:blip r:embed="rId1"/>
          <a:stretch/>
        </p:blipFill>
        <p:spPr>
          <a:xfrm>
            <a:off x="1309680" y="1500120"/>
            <a:ext cx="6620040" cy="453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 Barra </a:t>
            </a:r>
            <a:r>
              <a:rPr b="0" lang="es-AR" sz="4400" spc="-1" strike="noStrike">
                <a:solidFill>
                  <a:srgbClr val="cc3300"/>
                </a:solidFill>
                <a:latin typeface="Arial"/>
              </a:rPr>
              <a:t>de</a:t>
            </a:r>
            <a:r>
              <a:rPr b="0" lang="en-CA" sz="4400" spc="-1" strike="noStrike">
                <a:solidFill>
                  <a:srgbClr val="cc3300"/>
                </a:solidFill>
                <a:latin typeface="Arial"/>
              </a:rPr>
              <a:t> Herramientas</a:t>
            </a:r>
            <a:endParaRPr b="0" lang="en-US" sz="4400" spc="-1" strike="noStrike">
              <a:solidFill>
                <a:srgbClr val="cc3300"/>
              </a:solidFill>
              <a:latin typeface="Arial"/>
            </a:endParaRPr>
          </a:p>
        </p:txBody>
      </p:sp>
      <p:pic>
        <p:nvPicPr>
          <p:cNvPr id="121" name="Picture 2" descr=""/>
          <p:cNvPicPr/>
          <p:nvPr/>
        </p:nvPicPr>
        <p:blipFill>
          <a:blip r:embed="rId1"/>
          <a:stretch/>
        </p:blipFill>
        <p:spPr>
          <a:xfrm>
            <a:off x="330120" y="2857680"/>
            <a:ext cx="8528040" cy="92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y SIG</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ajusta el SIG a la visión comunitar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borda el SIG directamente las necesidades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el SIG anti-participativ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requieren conocimien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ede requerir técnicos externos a la comunidad.</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y SIG</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rofesionales del desarrollo participativo deberían evitar tecnologías que sea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lej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stos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manden mucho tiemp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n embargo, todavía podrían ser út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stemas “guiados por un conduct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File:GPS menu.jpg"/>
          <p:cNvPicPr/>
          <p:nvPr/>
        </p:nvPicPr>
        <p:blipFill>
          <a:blip r:embed="rId1"/>
          <a:stretch/>
        </p:blipFill>
        <p:spPr>
          <a:xfrm>
            <a:off x="6659640" y="2205000"/>
            <a:ext cx="2190600" cy="2921040"/>
          </a:xfrm>
          <a:prstGeom prst="rect">
            <a:avLst/>
          </a:prstGeom>
          <a:ln w="9360">
            <a:solidFill>
              <a:srgbClr val="000000"/>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PS</a:t>
            </a:r>
            <a:endParaRPr b="0" lang="en-US" sz="4400" spc="-1" strike="noStrike">
              <a:solidFill>
                <a:srgbClr val="cc3300"/>
              </a:solidFill>
              <a:latin typeface="Arial"/>
            </a:endParaRPr>
          </a:p>
        </p:txBody>
      </p:sp>
      <p:sp>
        <p:nvSpPr>
          <p:cNvPr id="128" name=""/>
          <p:cNvSpPr txBox="1"/>
          <p:nvPr/>
        </p:nvSpPr>
        <p:spPr>
          <a:xfrm>
            <a:off x="394920" y="1413000"/>
            <a:ext cx="624852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uestra puntos recolectados mediante un Sistema de Posicionamiento Global (GP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tura coordenadas de ubicaciones de interé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pueden ser subidos y mostrados.</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representar ubicaciones o lími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G Participativos (SIG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ocumentación, presentación y protección de conocimiento loc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es un SI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ción de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antum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eo participativo y SI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I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tur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macen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estiona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n datos geográfic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aquetes de SIG trabajan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ledetec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levamiento del terren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tografía aér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ases de da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tras herramient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aplicaciones SIG permiten a los usuarios:</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búsquedas.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r información territorial.</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ditar datos y mapa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r resultados.</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información puede ser presentada:</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un mapa.</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forma textual.</a:t>
            </a:r>
            <a:endParaRPr b="0" lang="en-US" sz="2800" spc="-1" strike="noStrike">
              <a:solidFill>
                <a:srgbClr val="5f5f5f"/>
              </a:solidFill>
              <a:latin typeface="Arial"/>
            </a:endParaRPr>
          </a:p>
          <a:p>
            <a:pPr lvl="2" marL="1085760" indent="-217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es un SIG?</a:t>
            </a:r>
            <a:endParaRPr b="0" lang="en-US" sz="44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tos geoterritorial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relativa a una ubicación que puede ser expresada usando coordenad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IG pueden ser usado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sualizar la relación entre lugares y even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uscar asociaciones geoterritori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alizar datos geoterritoria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presentación de Datos</a:t>
            </a:r>
            <a:endParaRPr b="0" lang="en-US" sz="4400" spc="-1" strike="noStrike">
              <a:solidFill>
                <a:srgbClr val="cc3300"/>
              </a:solidFill>
              <a:latin typeface="Arial"/>
            </a:endParaRPr>
          </a:p>
        </p:txBody>
      </p:sp>
      <p:sp>
        <p:nvSpPr>
          <p:cNvPr id="106"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s de preguntas que los SIG pueden respond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e ubica en un determinado pun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tipos de cambios han ocurr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clase de patrones exist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ucedería si fuera a ocurrir algún tipo de cambio?</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untos, Líneas y Polígonos</a:t>
            </a:r>
            <a:endParaRPr b="0" lang="en-US" sz="4400" spc="-1" strike="noStrike">
              <a:solidFill>
                <a:srgbClr val="cc3300"/>
              </a:solidFill>
              <a:latin typeface="Arial"/>
            </a:endParaRPr>
          </a:p>
        </p:txBody>
      </p:sp>
      <p:sp>
        <p:nvSpPr>
          <p:cNvPr id="108" name=""/>
          <p:cNvSpPr txBox="1"/>
          <p:nvPr/>
        </p:nvSpPr>
        <p:spPr>
          <a:xfrm>
            <a:off x="-360" y="1412640"/>
            <a:ext cx="8358120" cy="473076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unt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Un sitio en un mapa.</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Representan ubicaciones exactas.</a:t>
            </a: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Línea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Serie de punt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ueden ser medidas</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para averiguar </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distancias.</a:t>
            </a: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Polígonos:</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Área cerrada.</a:t>
            </a:r>
            <a:endParaRPr b="0" lang="en-US" sz="2200" spc="-1" strike="noStrike">
              <a:solidFill>
                <a:srgbClr val="5f5f5f"/>
              </a:solidFill>
              <a:latin typeface="Arial"/>
            </a:endParaRPr>
          </a:p>
          <a:p>
            <a:pPr lvl="1" marL="743040" indent="-28584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Definida por límites</a:t>
            </a:r>
            <a:endParaRPr b="0" lang="en-US" sz="2200" spc="-1" strike="noStrike">
              <a:solidFill>
                <a:srgbClr val="5f5f5f"/>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5f5f5f"/>
                </a:solidFill>
                <a:latin typeface="Arial"/>
              </a:rPr>
              <a:t> </a:t>
            </a:r>
            <a:r>
              <a:rPr b="0" lang="es-AR" sz="2200" spc="-1" strike="noStrike">
                <a:solidFill>
                  <a:srgbClr val="5f5f5f"/>
                </a:solidFill>
                <a:latin typeface="Arial"/>
              </a:rPr>
              <a:t>	</a:t>
            </a:r>
            <a:r>
              <a:rPr b="0" lang="es-AR" sz="2200" spc="-1" strike="noStrike">
                <a:solidFill>
                  <a:srgbClr val="5f5f5f"/>
                </a:solidFill>
                <a:latin typeface="Arial"/>
              </a:rPr>
              <a:t>a menudo complejos.</a:t>
            </a: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lvl="2" marL="1143000" indent="-228600">
              <a:lnSpc>
                <a:spcPct val="90000"/>
              </a:lnSpc>
              <a:spcBef>
                <a:spcPts val="55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pic>
        <p:nvPicPr>
          <p:cNvPr id="109" name="Picture 6" descr=""/>
          <p:cNvPicPr/>
          <p:nvPr/>
        </p:nvPicPr>
        <p:blipFill>
          <a:blip r:embed="rId1"/>
          <a:stretch/>
        </p:blipFill>
        <p:spPr>
          <a:xfrm>
            <a:off x="3714840" y="2786040"/>
            <a:ext cx="5087880" cy="340056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apas de Dato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a:t>
            </a:r>
            <a:endParaRPr b="0" lang="en-US" sz="32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muestran a través </a:t>
            </a:r>
            <a:endParaRPr b="0" lang="en-US" sz="32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capas de dat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tienen datos temátic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pas pueden ser:</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ivadas o desactivada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locadas encima o debajo de otra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pueden abrir múltiples capas al mismo tiempo.</a:t>
            </a:r>
            <a:endParaRPr b="0" lang="en-US" sz="3200" spc="-1" strike="noStrike">
              <a:solidFill>
                <a:srgbClr val="5f5f5f"/>
              </a:solidFill>
              <a:latin typeface="Arial"/>
            </a:endParaRPr>
          </a:p>
          <a:p>
            <a:pPr lvl="2" marL="1017000" indent="-203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2" name="Picture 6" descr=""/>
          <p:cNvPicPr/>
          <p:nvPr/>
        </p:nvPicPr>
        <p:blipFill>
          <a:blip r:embed="rId1"/>
          <a:stretch/>
        </p:blipFill>
        <p:spPr>
          <a:xfrm>
            <a:off x="5940360" y="1557360"/>
            <a:ext cx="2090880" cy="3139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orbett and Kasondra White</dc:creator>
  <dc:description/>
  <dc:language>en-US</dc:language>
  <cp:lastModifiedBy>martens</cp:lastModifiedBy>
  <dcterms:modified xsi:type="dcterms:W3CDTF">2010-05-19T10:52:00Z</dcterms:modified>
  <cp:revision>28</cp:revision>
  <dc:subject/>
  <dc:title>Presentación - Introducción a SIG con el fin de practicar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