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A40F-02D8-43AB-B221-A269D49467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s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término “mashup” se refiere al proceso de combinar información de múltiples aplicaciones basadas en Internet para crear un nuevo producto. Un ejemplo de mashup sería tomar fotografías almacenadas en un álbum de Internet en línea e integrarlas, junto con cualquiera de los datos que puedan haber sido atribuidos a ellas, en un mapa creado utilizando diferentes herramientas basadas en Internet. Los datos son integrados en herramientas de mapeo mediante la definición de puntos, líneas o polígonos y la asociación de información con estos portadores de lug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shups son usados con diferentes objetivos. Pueden ser usadas por los avisadores que desean mostrar las ubicaciones de tiendas y las ventas ofrecidas en las mismas, por los profesionales de la salud que fusionan datos relativos a la incidencia de enfermedades con datos geográficos o por agencias de empleo que desean ubicar territorialmente sus listados de trabajos. A los fines del mapeo participativo, podrían ser usadas para vincular ítems como por ejemplo, videos, blogs y fotografías con una ubicación geográf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3F1A-D3CB-4AC5-8355-B0D83BF52D6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Maps es una aplicación basada en Internet que en su origen fue diseñada principalmente para permitir a los usuarios buscar puntos y características geográficas y planificar rutas entre ubicaciones. Sin embargo, con el agregado de una característica ‘My Maps’, los usuarios son ahora capaces de crear capas de datos y compartirlas entre sí. Los usuarios son capaces de vincularse a herramientas de almacenamiento de datos basadas en Internet, como por ejemplo, Picasa Web Albums o YouTube y atribuir una ubicación territorial a información que han almacenado en estos sitios de Internet. Los usuarios pueden elegir si los mapas que crean deberían ser públicos o priv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Maps puede ser usado junto con Google Earth (del que se trata a continuación) y cualquiera de los mapas que se crean utilizando Google Maps pueden ser visualizados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A779-2D56-436C-8704-592CFE7AE03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Earth es un programa que puede ser descargado de Internet. Muestra un globo terráqueo virtual que está comprendido por imágenes satelitales. Aunque las imágenes mostradas en Google Earth son generalmente bidimensionales, existe una serie de áreas donde las imágenes tridimensionales también están disponibles. La resolución de las imágenes varía entre áreas, apareciendo las áreas altamente pobladas o frecuentemente visitadas en una resolución may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Google Earth se incluye una serie de capas de datos, como por ejemplo, carreteras, lugares de interés, información sobre el clima y fotografías y videos enviados por usuarios. Los usuarios también son capaces de crear y guardar puntos a los cuales pueden adjuntar información utilizando un tipo de archivo denominado “archivo .kml”. Este tipo de archivo es usado para guardar la información que quienes elaboran mapas agregan a Google Earth y también permite a los usuarios mostrar información en Google Earth que fue creada en otros programas. Por ejemplo, algunos programas de SIG ahora permiten a los usuarios guardar datos como archivos .kml, que pueden posteriormente ser visualizados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E6E5-3488-40C2-BF50-633E619289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Sketc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SketchUp es un software que permite a los usuarios crear modelos tridimensionales de características, como por ejemplo, edificios, parques o mobiliario. Estos modelos pueden ser integrados con Google Earth asociándolos con una ubicación geográfica y luego guardándolos como archivo .kml. Google SketchUp es particularmente útil para agregar características que no aparecen claramente dentro de Google Maps o Google Earth, pero que serían de interés para la comunidad elaboradora de mapas. También es una herramienta útil para modelar características propuestas, por ejemplo, un centro comunitario o estación de bomberos que no existen todav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A832-ADA2-44A4-B0C4-B08104C3A5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Wikim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Wikimapia es un mapa en línea que los usuarios son capaces de editar. Una wiki es una serie de páginas de Internet a la cual los usuarios pueden agregar o modificar el contenido que ha sido agregado por anteriores usuarios. Wikimapia utiliza este proceso permitiendo a los usuarios aportar información textual, incluyendo enlaces a otros sitios de Internet, a ubicaciones geográficas que están divididas en una serie de cuadros. Los usuarios también son responsables de crear los cuadros que representan diversos lugares. Wikimapia almacena y muestra información asociada con ubicaciones de todo el m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0C5C-727D-4B93-95C3-13F5EDD998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ASA Wor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forma similar a Google Earth, Nasa World Wind es un visualizador que puede ser usado para acercarse a diversas características de la superficie de la Tierra. Además de poder visualizar la superficie de la Tierra, los usuarios también pueden visualizar la Luna, Venus, Marte, Neptuno, las estrellas y las  galaxias del cielo nocturno. NASA World Wind es software de fuente abierta. Los datos que están disponibles en NASA World Wind pueden ser extraídos y usados en otras aplicaciones de map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royecto World Wind se cerró en 2008. Sin embargo, el software continúa operativo.</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FE24-1E87-4986-9155-800268EA54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icasa Web Alb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icasa Web Albums es una aplicación en línea para compartir fotografías, que permite a los usuarios crear y organizar álbumes de fotografías. Los álbumes de fotografías o fotografías individuales de los álbumes pueden hacerse públicas o mantenerse en privado. Si los usuarios eligen mantener en privado sus álbumes, tienen la opción de compartirlos solamente con aquellos usuarios que elijan. Picasa Web Albums puede ser usada junto con herramientas de mapeo basadas en Internet, como por ejemplo Google Maps, vinculando fotografías almacenadas en álbumes con ubicaciones geográficas y mostrándolas a través de las aplicaciones de mapeo. Los usuarios también son capaces de ubicar territorialmente sus fotografías directamente a través de Picasa Web Albums, seleccionando una ubicación de una fotografía que será mostrada junto con la fotograf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340E-8204-45B2-9291-D2C7B36BDC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You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ouTube es una comunidad para compartir videos en línea. Los usuarios pueden subir videos que han creado y compartir videos con otros usuarios. Asimismo, los usuarios pueden comentar videos que están siendo mostrados. Los usuarios pueden elegir si quieren mantener sus videos en privado o mostrarlos públicamente, como con Picasa Web Albums. Los videos que han sido agregados a YouTube pueden ser insertados en mapas creados utilizando aplicaciones de mapeo basadas en Int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67B4-1924-4303-A3CB-56E3F6F326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tualmente existe más información y más servicios disponibles en Internet que nunca antes. Internet, una herramienta que anteriormente no estaba disponible para el público en general, es ahora mucho más accesible para las comunidades y usuarios individuales en todo el mundo. No sólo ha aumentado el uso, sino la forma en que Internet está siendo usada ha también cambiado considerablemente desde sus comienz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 estos cambios se encuentra la evolución de lo que ha sido denominado “Geospatial Web” (o GeoWeb), que representa la fusión de la geografía con los diferentes tipos de información y expresiones de conocimiento que son o podrían ser mostrados en Internet. Con el surgimiento de GeoWeb, cualquier usuario de Internet es capaz ahora de ubicar territorialmente y compartir contenidos, como por ejemplo, blogs personales, fotografías o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proporcionará una introducción al mapeo basado en Internet utilizando las herramientas de GeoWeb y explora sus ventajas para fines del desarrollo participativo. Por otro lado, la Unidad explorará las capacidades de GeoWeb,  sus  beneficios asociados con el uso de estas herramientas y proporcionará una introducción a algunas de las herramientas de mapeo en línea que se encuentran dispo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73DA-287C-4F00-BFA8-6773FB3158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eospatial Web es un componente de lo que ha sido denominado “Web 2.0</a:t>
            </a:r>
            <a:r>
              <a:rPr b="0" i="1" lang="es-AR" sz="1200" spc="-1" strike="noStrike">
                <a:solidFill>
                  <a:srgbClr val="000000"/>
                </a:solidFill>
                <a:latin typeface="Arial"/>
              </a:rPr>
              <a:t>”</a:t>
            </a:r>
            <a:r>
              <a:rPr b="0" lang="es-AR" sz="1200" spc="-1" strike="noStrike">
                <a:solidFill>
                  <a:srgbClr val="000000"/>
                </a:solidFill>
                <a:latin typeface="Arial"/>
              </a:rPr>
              <a:t>. Este término se refiere a lo que muchos perciben como una segunda  ola, o evolución de Internet, en la que se ha vuelto más interactiva, permitiendo a los usuarios contribuir con su propio contenido más fácilmente, comunicarse,  colaborar entre sí y utilizar aplicaciones basadas en Internet para una variedad de necesidades, tales como compartir o mostrar archivos. Difiere de modelos anteriores de Internet en que los usuarios promedio utilizarían generalmente la Red para recuperar información, contribuyendo raras veces con contenidos propios. Algunos ejemplos de tecnologías Web 2.0 incluyen: blogs, wikis, aplicaciones para administrar y compartir fotografías, por ejemplo, Flickr, Picasa Web Albums; sitios de redes sociales, por ejemplo, My Space, Facebook y aplicaciones para compartir videos, por ejemplo, YouTu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84D3-BB58-4292-A0F7-8372986258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Utilización de Internet para mejorar la 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net puede ser utilizada para mejorar a la comunidad, reuniendo a los ciudadanos a través de foros en línea, como por ejemplo, paneles de discusión, mensajería instantánea, servicios de redes sociales o sitios de Internet para compartir fotografías. Particularmente al trabajar con comunidades dispersas, Internet, como la conocemos actualmente, tiene la capacidad de reunir a ciudadanos que comparten características culturales y/o áreas de origen. Esto puede resultar útil al intentar establecer derechos territoriales o prácticas de uso de la tierra tradicionales que pueden haber sido interrumpidas y que los miembros comunitarios están procurando restablecer. También puede resultar útil para crear conocimiento sobre diversas prácticas culturales que pueden haberse perdido con la disolución de comunidades y para preservar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7D63-5854-4FBB-BA84-AECB5EF07E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articipación y Geospatial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herramientas de mapeo basadas en Internet son reconocidas como poseedoras de una serie de riesgos y limitaciones (esto se discutirá en detalle en la Unidad Tres), son acreditadas permitiendo la participación mejorada de miembros comunitarios interesados en el mapeo de diversas características de la geografía local. Las comunidades pueden utilizar herramientas de GeoWeb para subir su propio contenido y vincular el contenido a puntos en un mapa. Estos mapas pueden ser almacenados, mostrados y compartidos solamente dentro de la comunidad o con el público en general. Finalmente, puede crearse un producto final que quede en manos de la comunidad, con miembros de la comunidad responsables de agregar o modificar contenido según lo consideren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CC66-290B-4EE5-83B4-E13B4884A84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or qué mapeo basado en Intern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os miembros comunitarios utilizan varias herramientas de mapeo basadas en Internet, pueden ser capaces de participar más en la elaboración de los mapas y crear un producto final considerado más satisfactorio localmente. El mapeo basado en Internet, en determinados casos, también puede ser más apropiado para proyectos de mapeo participativo por razones relacionadas con el costo, la facilidad de usar las tecnologías, la representatividad de lo que se alcanza y el acceso a los dat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s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SIG tradicionales, el costo ha sido una importante limitación para las comunidades que esperan participar en la elaboración de mapas locales. Sin embargo, muchas de las herramientas de mapeo basadas en Internet que los miembros comunitarios podrían usar, están ahora disponibles gratuitamente en línea. Asimismo, el software que puede ser usado con estas herramientas basadas en Internet es ahora mucho más accesible para potenciales elaboradores de mapas debido a la proliferación de software de fuente abierta. Anteriormente, estas herramientas podrían haber llevado una parte sustancial del presupuesto de un proyec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simismo, como el mapa puede ser mantenido por miembros comunitarios y los datos que están siendo mostrados y compartidos son almacenados gratuitamente en línea ahora, ya no es necesario gastar grandes sumas de dinero para contratar profesionales para trabajar con los datos y almacenarl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determinados componentes de la elaboración de mapas basada en Internet pueden estar disponibles a un costo sustancialmente menor que los métodos convencionales, como por ejemplo SIG, todavía hay costos asociados con esta técnica. Estos incluyen cargos por versiones mejoradas de aplicaciones basadas en Internet o la necesidad de contratar profesionales cuando las comunidades desean crear características que están más allá de las capacidades de las herramientas basadas en Internet disponibles gratuitamen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cilidad de U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herramientas emergentes de GeoWeb son consideradas más fáciles de entender y usar que muchas de las herramientas que los elaboradores de mapas puedan haber tenido que consultar en el pasado. Estas herramientas son inherentemente más accesibles para los elaboradores de mapas que no entienden programas y operaciones complicadas, ya que el grupo objetivo para ellos es de amateurs, en oposición a técnicos de SIG. Con tecnologías que son más fáciles de entender y utilizar, el proceso de elaboración de mapas se vuelve más democrático, porque más miembros comunitarios son capaces de participar, no limitados por una falta familiaridad con las herramientas que son usadas. Sin embargo, existen límites a los tipos de cosas que pueden hacerse utilizando tecnologías basadas en Internet y todavía puede requerirse alguna pericia para determinadas operacion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present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representación de datos se refiere no solamente a la precisión territorial, sino también a cómo se representa el conocimiento local en una forma que sea satisfactoria para los miembros comunitarios y alineado con sus sistemas de conocimiento. Un beneficio de utilizar herramientas de mapeo basadas en Internet es que muchos tipos de datos diferentes pueden ser integrados fácilmente en mapas en línea, utilizando las numerosas herramientas que están disponibles. Sin embargo, los mapas base disponibles pueden no reflejar las formas en que los miembros comunitarios perciben sus espacios y desean expresarse. Asimismo, como estas herramientas son gratuitas, los mapas pueden estar desactualizados y no ser precis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cceso a dat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cceso a determinados tipos de datos se ha vuelto más fácil porque la cantidad de información que está disponible en Internet se ha expandido. Los mapas básicos, como por ejemplo mapas topográficos o imágenes satelitales, están ampliamente disponibles actualmente en forma gratuita para muchas regiones de todo el mundo. Asimismo, el acceso a ítems, como por ejemplo, documentos del gobierno o datos de censos es  más simple de lo que era anteriormente, porque suelen estar almacenados en línea para una recuperación rápida y fácil. Aunque determinados tipos de información están ahora más ampliamente disponibles, hay otros que permanecen menos accesibles o que requieren cooperación con diferentes socios, lo cual puede consumir mucho tiempo o ser costoso. Por otro lado, los profesionales deben estar en conocimiento de que los datos disponibles pueden no estar actualizad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6532-15D6-4CC4-B864-E97908D279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Quién es el ‘exper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tecnologías Geospatial Web y Web 2.0, en general, están cuestionando la idea del experto. Proporcionan un foro para la expresión individual y comunitaria, donde el conocimiento local es reconocido y se vuelve un componente central del mapa. No resulta sorprendente que el debate haya surgido con respecto a la función del experto, si en realidad una persona puede ser denominada experto. Ciertamente, nadie conoce mejor sus comunidades que aquellos que viven dentro de sus límites. Sin embargo, algunas personas pueden estar más calificadas que otras para entender ciertas características de la comunidad, como por ejemplo, el funcionamiento del sistema hidrológico local y es inevitable que habrá desacuerdo en algunos casos dentro de la comunidad con respecto a la perspectiva de quién es la persona representativa. Los facilitadores del proyecto deben estar en conocimiento de esta posibilidad y puede requerírseles a veces mediar para trabajar hacia un producto que sea aceptable para toda l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2AFA-9023-4597-9F3B-E19E2A60AE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pacidades Geo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elaboran mapas pueden utilizar GeoWeb para crear e integrar diferentes características, que a cambio pueden ser mapeadas. Utilizando herramientas basadas en Internet, las comunidades pueden dedicarse a actividades centradas 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bicación territorial de características.  Esto incluye crear mapas o agregar puntos, líneas, polígonos u otro contenido, como por ejemplo, fotografías o videos al mapa. Estas actividades giran en torno a la ubicación territorial efectiva de las características que son importantes para los miembros comunitarios que utilizan herramientas disponibles en lí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ministración de contenido. Esto incluye subir y organizar contenidos, como por ejemplo fotografías y videos. Esto también podrá incluir características que permitan a los miembros comunitarios u otros contribuyentes comentar, modificar y compartir contenido. Al dedicarse a un proyecto de mapeo, los miembros comunitarios querrán utilizar aplicaciones de administración de contenidos que sean fácilmente integradas en aplicaciones de mapeo, como por ejemplo, Google Maps y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628C-94C2-4E0E-9DE0-F7DB816D34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Internet existe una variedad de diferentes herramientas para crear, editar y almacenar contenido que las comunidades pueden querer mapear. Las herramientas que son usadas, dependerán de las necesidades y deseos de los miembros comunitarios. Las comunidades que trabajan con herramientas basadas en Internet necesitarán determin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características quisieran ver mapead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tipo de contenido será aceptado para integración en el map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será autorizado a editar el mapa y en qué gr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se hará con el producto final y dónde será most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 información que se agrega a los mapas puede estar abierta al público en general, las comunidades pueden querer mantener restringida esta información, permitiendo el acceso exclusivamente a miembros. En general, los usuarios de herramientas basadas en Internet son capaces de determinar su configuración de privacidad y es posible crear un foro donde solamente aquellos a los que se les otorga acceso serán capaces de comentar, editar y agregar contenido al mapa. </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E234-5DCB-4916-B4D7-7A34E1928A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6E37C-591F-4115-B005-467C69366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3E1F4-2FE3-4B4E-A1DB-23474DA55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3DA7E-3F66-49DF-9604-90D7F7A43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00503-1449-4527-93C7-6DCF7F0BE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91AB8A-5FCE-47C2-BA16-D83EF8B84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E32AD9-52C3-464C-ADFB-441868D29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83B49A-6D34-4FA8-A869-C31FA6EDD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CCA024-86AC-41D0-83C1-C6A7C1EAE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900F17-5102-4F9F-A490-C7F19CD67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376A68-DFD6-4F4A-8712-02010D8DF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AEF9EE-58AE-412F-AC56-057DB3720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CF26D-3E5C-4A08-87BF-9D350F37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EDCDCE-2306-4CAF-AD98-1C4EED59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609DB3-DFE9-4E1E-8569-B02A64B78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171EDB-3534-48A7-9967-E7A548C7E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885197-7049-427E-B4CC-1F6D793BF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38F6DA-FD45-43B5-8500-EC2ECA7F8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BA0D3-0A6E-436C-A17F-0C562D8E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5CB2-56C0-4ABF-B1E5-04F4C2B07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EDDA-1FD9-4E70-B415-02397F9A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B202-B189-4CC9-9B02-C74DFD86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2228-66DB-4406-AD6A-4E7F04F6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C557-2DD6-4BBE-93E7-03B014B1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0EA9-8268-4E71-BF1D-3A4396D56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399B-A99C-4843-870A-6FF6CF41EB9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B35E-8281-485C-9768-8ED6C8FDF54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1" name="PlaceHolder 2"/>
          <p:cNvSpPr>
            <a:spLocks noGrp="1"/>
          </p:cNvSpPr>
          <p:nvPr>
            <p:ph type="subTitle"/>
          </p:nvPr>
        </p:nvSpPr>
        <p:spPr>
          <a:xfrm>
            <a:off x="1309680" y="3843360"/>
            <a:ext cx="6400800" cy="838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969696"/>
                </a:solidFill>
                <a:latin typeface="Arial"/>
              </a:rPr>
              <a:t>Principios de Mapeo Basado en Internet</a:t>
            </a:r>
            <a:endParaRPr b="0" lang="en-US" sz="2800" spc="-1" strike="noStrike">
              <a:solidFill>
                <a:srgbClr val="5f5f5f"/>
              </a:solidFill>
              <a:latin typeface="Arial"/>
            </a:endParaRPr>
          </a:p>
        </p:txBody>
      </p:sp>
      <p:sp>
        <p:nvSpPr>
          <p:cNvPr id="92" name="Rectangle 4"/>
          <p:cNvSpPr/>
          <p:nvPr/>
        </p:nvSpPr>
        <p:spPr>
          <a:xfrm>
            <a:off x="2626920" y="51055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1</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shup (remezcla)</a:t>
            </a:r>
            <a:endParaRPr b="0" lang="en-US" sz="4400" spc="-1" strike="noStrike">
              <a:solidFill>
                <a:srgbClr val="cc3300"/>
              </a:solidFill>
              <a:latin typeface="Arial"/>
            </a:endParaRPr>
          </a:p>
        </p:txBody>
      </p:sp>
      <p:sp>
        <p:nvSpPr>
          <p:cNvPr id="112" name=""/>
          <p:cNvSpPr txBox="1"/>
          <p:nvPr/>
        </p:nvSpPr>
        <p:spPr>
          <a:xfrm>
            <a:off x="457200" y="1828440"/>
            <a:ext cx="8229600" cy="42973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ceso de combinar información de múltiples aplicaciones basadas en Internet.</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son integrados mediante:</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punto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línea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polígono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asociación de información con estos lug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Maps</a:t>
            </a:r>
            <a:endParaRPr b="0" lang="en-US" sz="4400" spc="-1" strike="noStrike">
              <a:solidFill>
                <a:srgbClr val="cc3300"/>
              </a:solidFill>
              <a:latin typeface="Arial"/>
            </a:endParaRPr>
          </a:p>
        </p:txBody>
      </p:sp>
      <p:sp>
        <p:nvSpPr>
          <p:cNvPr id="114" name=""/>
          <p:cNvSpPr txBox="1"/>
          <p:nvPr/>
        </p:nvSpPr>
        <p:spPr>
          <a:xfrm>
            <a:off x="456840" y="1500120"/>
            <a:ext cx="33526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característica ‘My Maps’ permite a los usuarios crear capas de datos y compartirlas entre sí.</a:t>
            </a:r>
            <a:endParaRPr b="0" lang="en-US" sz="3200" spc="-1" strike="noStrike">
              <a:solidFill>
                <a:srgbClr val="5f5f5f"/>
              </a:solidFill>
              <a:latin typeface="Arial"/>
            </a:endParaRPr>
          </a:p>
        </p:txBody>
      </p:sp>
      <p:pic>
        <p:nvPicPr>
          <p:cNvPr id="115" name="Picture 2" descr=""/>
          <p:cNvPicPr/>
          <p:nvPr/>
        </p:nvPicPr>
        <p:blipFill>
          <a:blip r:embed="rId1"/>
          <a:stretch/>
        </p:blipFill>
        <p:spPr>
          <a:xfrm>
            <a:off x="4419720" y="2743200"/>
            <a:ext cx="3838320" cy="33433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16" name="Picture 5" descr=""/>
          <p:cNvPicPr/>
          <p:nvPr/>
        </p:nvPicPr>
        <p:blipFill>
          <a:blip r:embed="rId2"/>
          <a:stretch/>
        </p:blipFill>
        <p:spPr>
          <a:xfrm>
            <a:off x="5334120" y="1676520"/>
            <a:ext cx="2006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Earth</a:t>
            </a:r>
            <a:endParaRPr b="0" lang="en-US" sz="4400" spc="-1" strike="noStrike">
              <a:solidFill>
                <a:srgbClr val="cc3300"/>
              </a:solidFill>
              <a:latin typeface="Arial"/>
            </a:endParaRPr>
          </a:p>
        </p:txBody>
      </p:sp>
      <p:sp>
        <p:nvSpPr>
          <p:cNvPr id="118" name=""/>
          <p:cNvSpPr txBox="1"/>
          <p:nvPr/>
        </p:nvSpPr>
        <p:spPr>
          <a:xfrm>
            <a:off x="457200" y="1571760"/>
            <a:ext cx="51148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asada en imágenes satelit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pueden crear y guardar puntos como archivos .km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muestran datos creados con otros programas.</a:t>
            </a:r>
            <a:endParaRPr b="0" lang="en-US" sz="3200" spc="-1" strike="noStrike">
              <a:solidFill>
                <a:srgbClr val="5f5f5f"/>
              </a:solidFill>
              <a:latin typeface="Arial"/>
            </a:endParaRPr>
          </a:p>
        </p:txBody>
      </p:sp>
      <p:pic>
        <p:nvPicPr>
          <p:cNvPr id="119" name="Picture 2" descr=""/>
          <p:cNvPicPr/>
          <p:nvPr/>
        </p:nvPicPr>
        <p:blipFill>
          <a:blip r:embed="rId1"/>
          <a:stretch/>
        </p:blipFill>
        <p:spPr>
          <a:xfrm>
            <a:off x="6033960" y="2933640"/>
            <a:ext cx="2652840" cy="354348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0" name="Picture 5" descr=""/>
          <p:cNvPicPr/>
          <p:nvPr/>
        </p:nvPicPr>
        <p:blipFill>
          <a:blip r:embed="rId2"/>
          <a:stretch/>
        </p:blipFill>
        <p:spPr>
          <a:xfrm>
            <a:off x="6515280" y="99072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Sketch-Up</a:t>
            </a:r>
            <a:endParaRPr b="0" lang="en-US" sz="4400" spc="-1" strike="noStrike">
              <a:solidFill>
                <a:srgbClr val="cc3300"/>
              </a:solidFill>
              <a:latin typeface="Arial"/>
            </a:endParaRPr>
          </a:p>
        </p:txBody>
      </p:sp>
      <p:sp>
        <p:nvSpPr>
          <p:cNvPr id="122" name=""/>
          <p:cNvSpPr txBox="1"/>
          <p:nvPr/>
        </p:nvSpPr>
        <p:spPr>
          <a:xfrm>
            <a:off x="456840" y="1600200"/>
            <a:ext cx="5770440" cy="45655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usuarios pueden crear modelos tridimensionales de característic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modelos pueden ser integrados con Google Earth.</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Útil para agregar características que no aparecen en el mapa.</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Útil para modelar características propuestas</a:t>
            </a:r>
            <a:r>
              <a:rPr b="0" lang="es-AR" sz="3200" spc="-1" strike="noStrike">
                <a:solidFill>
                  <a:srgbClr val="5f5f5f"/>
                </a:solidFill>
                <a:latin typeface="Arial"/>
              </a:rPr>
              <a:t>. </a:t>
            </a:r>
            <a:endParaRPr b="0" lang="en-US" sz="3200" spc="-1" strike="noStrike">
              <a:solidFill>
                <a:srgbClr val="5f5f5f"/>
              </a:solidFill>
              <a:latin typeface="Arial"/>
            </a:endParaRPr>
          </a:p>
        </p:txBody>
      </p:sp>
      <p:pic>
        <p:nvPicPr>
          <p:cNvPr id="123" name="Picture 4" descr=""/>
          <p:cNvPicPr/>
          <p:nvPr/>
        </p:nvPicPr>
        <p:blipFill>
          <a:blip r:embed="rId1"/>
          <a:stretch/>
        </p:blipFill>
        <p:spPr>
          <a:xfrm>
            <a:off x="6324480" y="1752480"/>
            <a:ext cx="1905120" cy="685800"/>
          </a:xfrm>
          <a:prstGeom prst="rect">
            <a:avLst/>
          </a:prstGeom>
          <a:ln w="0">
            <a:noFill/>
          </a:ln>
        </p:spPr>
      </p:pic>
      <p:pic>
        <p:nvPicPr>
          <p:cNvPr id="124" name="Picture 5" descr=""/>
          <p:cNvPicPr/>
          <p:nvPr/>
        </p:nvPicPr>
        <p:blipFill>
          <a:blip r:embed="rId2"/>
          <a:stretch/>
        </p:blipFill>
        <p:spPr>
          <a:xfrm>
            <a:off x="5508720" y="227664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Wikimapia</a:t>
            </a:r>
            <a:endParaRPr b="0" lang="en-US" sz="4400" spc="-1" strike="noStrike">
              <a:solidFill>
                <a:srgbClr val="cc3300"/>
              </a:solidFill>
              <a:latin typeface="Arial"/>
            </a:endParaRPr>
          </a:p>
        </p:txBody>
      </p:sp>
      <p:sp>
        <p:nvSpPr>
          <p:cNvPr id="126" name=""/>
          <p:cNvSpPr txBox="1"/>
          <p:nvPr/>
        </p:nvSpPr>
        <p:spPr>
          <a:xfrm>
            <a:off x="380880" y="2057400"/>
            <a:ext cx="31147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a en línea, edi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a los usuarios aportar información textual.</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2" descr=""/>
          <p:cNvPicPr/>
          <p:nvPr/>
        </p:nvPicPr>
        <p:blipFill>
          <a:blip r:embed="rId1"/>
          <a:stretch/>
        </p:blipFill>
        <p:spPr>
          <a:xfrm>
            <a:off x="3429000" y="2666880"/>
            <a:ext cx="5376960" cy="314820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8" name="Picture 5" descr=""/>
          <p:cNvPicPr/>
          <p:nvPr/>
        </p:nvPicPr>
        <p:blipFill>
          <a:blip r:embed="rId2"/>
          <a:stretch/>
        </p:blipFill>
        <p:spPr>
          <a:xfrm>
            <a:off x="5105520" y="1905120"/>
            <a:ext cx="208260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NASA World Wind</a:t>
            </a:r>
            <a:endParaRPr b="0" lang="en-US" sz="4400" spc="-1" strike="noStrike">
              <a:solidFill>
                <a:srgbClr val="cc3300"/>
              </a:solidFill>
              <a:latin typeface="Arial"/>
            </a:endParaRPr>
          </a:p>
        </p:txBody>
      </p:sp>
      <p:sp>
        <p:nvSpPr>
          <p:cNvPr id="130" name=""/>
          <p:cNvSpPr txBox="1"/>
          <p:nvPr/>
        </p:nvSpPr>
        <p:spPr>
          <a:xfrm>
            <a:off x="250560" y="1428480"/>
            <a:ext cx="4321080" cy="50245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visualizador utilizado para acercarse a diversas características de la superficie de la Tierra.</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extraídos y usados en cualquier otra parte.</a:t>
            </a:r>
            <a:endParaRPr b="0" lang="en-US" sz="3200" spc="-1" strike="noStrike">
              <a:solidFill>
                <a:srgbClr val="5f5f5f"/>
              </a:solidFill>
              <a:latin typeface="Arial"/>
            </a:endParaRPr>
          </a:p>
        </p:txBody>
      </p:sp>
      <p:pic>
        <p:nvPicPr>
          <p:cNvPr id="131" name="Picture 2" descr=""/>
          <p:cNvPicPr/>
          <p:nvPr/>
        </p:nvPicPr>
        <p:blipFill>
          <a:blip r:embed="rId1"/>
          <a:stretch/>
        </p:blipFill>
        <p:spPr>
          <a:xfrm>
            <a:off x="4648320" y="3276720"/>
            <a:ext cx="4219560" cy="259056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2" name="Picture 6" descr=""/>
          <p:cNvPicPr/>
          <p:nvPr/>
        </p:nvPicPr>
        <p:blipFill>
          <a:blip r:embed="rId2"/>
          <a:stretch/>
        </p:blipFill>
        <p:spPr>
          <a:xfrm>
            <a:off x="5715000" y="1371600"/>
            <a:ext cx="1878120" cy="160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Picasa Web Albums</a:t>
            </a:r>
            <a:endParaRPr b="0" lang="en-US" sz="4400" spc="-1" strike="noStrike">
              <a:solidFill>
                <a:srgbClr val="cc3300"/>
              </a:solidFill>
              <a:latin typeface="Arial"/>
            </a:endParaRPr>
          </a:p>
        </p:txBody>
      </p:sp>
      <p:sp>
        <p:nvSpPr>
          <p:cNvPr id="134" name=""/>
          <p:cNvSpPr txBox="1"/>
          <p:nvPr/>
        </p:nvSpPr>
        <p:spPr>
          <a:xfrm>
            <a:off x="456840" y="1600200"/>
            <a:ext cx="380988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licación para compartir fotografías en línea.</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usada junto con aplicaciones de mapeo basadas en Internet.</a:t>
            </a:r>
            <a:endParaRPr b="0" lang="en-US" sz="3200" spc="-1" strike="noStrike">
              <a:solidFill>
                <a:srgbClr val="5f5f5f"/>
              </a:solidFill>
              <a:latin typeface="Arial"/>
            </a:endParaRPr>
          </a:p>
        </p:txBody>
      </p:sp>
      <p:pic>
        <p:nvPicPr>
          <p:cNvPr id="135" name="Picture 2" descr=""/>
          <p:cNvPicPr/>
          <p:nvPr/>
        </p:nvPicPr>
        <p:blipFill>
          <a:blip r:embed="rId1"/>
          <a:stretch/>
        </p:blipFill>
        <p:spPr>
          <a:xfrm>
            <a:off x="6553080" y="3124080"/>
            <a:ext cx="1825920" cy="32101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6" name="Picture 5" descr=""/>
          <p:cNvPicPr/>
          <p:nvPr/>
        </p:nvPicPr>
        <p:blipFill>
          <a:blip r:embed="rId2"/>
          <a:stretch/>
        </p:blipFill>
        <p:spPr>
          <a:xfrm>
            <a:off x="4419720" y="1523880"/>
            <a:ext cx="2082600" cy="208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5295960" y="1628640"/>
            <a:ext cx="3848040" cy="288612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plicaciones GeoWeb: YouTube</a:t>
            </a:r>
            <a:endParaRPr b="0" lang="en-US" sz="4000" spc="-1" strike="noStrike">
              <a:solidFill>
                <a:srgbClr val="cc3300"/>
              </a:solidFill>
              <a:latin typeface="Arial"/>
            </a:endParaRPr>
          </a:p>
        </p:txBody>
      </p:sp>
      <p:sp>
        <p:nvSpPr>
          <p:cNvPr id="139" name=""/>
          <p:cNvSpPr txBox="1"/>
          <p:nvPr/>
        </p:nvSpPr>
        <p:spPr>
          <a:xfrm>
            <a:off x="324000" y="1412640"/>
            <a:ext cx="5486400" cy="4700520"/>
          </a:xfrm>
          <a:prstGeom prst="rect">
            <a:avLst/>
          </a:prstGeom>
          <a:noFill/>
          <a:ln w="0">
            <a:noFill/>
          </a:ln>
        </p:spPr>
        <p:txBody>
          <a:bodyPr anchor="t">
            <a:normAutofit fontScale="91000"/>
          </a:bodyPr>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unidad para compartir videos en línea.</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pueden subir videos.</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uarios pueden comentar videos.</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videos almacenados en YouTube pueden ser insertados en mapas en líne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yor accesibilidad d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rgimiento d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a de la participación comunitar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qué mapeo basado en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acidades d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erramientas de GeoWeb.</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Web 2.0</a:t>
            </a:r>
            <a:endParaRPr b="0" lang="en-US" sz="4400" spc="-1" strike="noStrike">
              <a:solidFill>
                <a:srgbClr val="cc3300"/>
              </a:solidFill>
              <a:latin typeface="Arial"/>
            </a:endParaRPr>
          </a:p>
        </p:txBody>
      </p:sp>
      <p:sp>
        <p:nvSpPr>
          <p:cNvPr id="98" name=""/>
          <p:cNvSpPr txBox="1"/>
          <p:nvPr/>
        </p:nvSpPr>
        <p:spPr>
          <a:xfrm>
            <a:off x="457200" y="1523880"/>
            <a:ext cx="8229600" cy="4525920"/>
          </a:xfrm>
          <a:prstGeom prst="rect">
            <a:avLst/>
          </a:prstGeom>
          <a:noFill/>
          <a:ln w="0">
            <a:noFill/>
          </a:ln>
        </p:spPr>
        <p:txBody>
          <a:bodyPr anchor="t">
            <a:normAutofit fontScale="88000"/>
          </a:bodyPr>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activa.</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unicación y colaboración.</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tribuyentes en vez de visualizadores de contenido.</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s:</a:t>
            </a:r>
            <a:endParaRPr b="0" lang="en-US" sz="32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log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Wiki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itios de redes sociale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plicaciones para administrar y compartir fotografí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ejora de la Participación Comunitaria</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unión de personas a través 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ros en lín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neles de discus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ensajería instantán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es soci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artir fotografí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utilidad al trabajar con comunidades dispers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articipación y Geospatial Web</a:t>
            </a:r>
            <a:endParaRPr b="0" lang="en-US" sz="4400" spc="-1" strike="noStrike">
              <a:solidFill>
                <a:srgbClr val="cc3300"/>
              </a:solidFill>
              <a:latin typeface="Arial"/>
            </a:endParaRPr>
          </a:p>
        </p:txBody>
      </p:sp>
      <p:sp>
        <p:nvSpPr>
          <p:cNvPr id="102" name=""/>
          <p:cNvSpPr txBox="1"/>
          <p:nvPr/>
        </p:nvSpPr>
        <p:spPr>
          <a:xfrm>
            <a:off x="324000" y="162864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oyar un alto nivel de participación comunitaria.</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bir contenido generado por la comunidad.</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artir con otros miembros comunitarios.</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incular medios digitales (archivos de sonido, video y fotografía) a puntos en un ma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or qué mapeo basado en Internet?</a:t>
            </a:r>
            <a:endParaRPr b="0" lang="en-US" sz="40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acilidad de participación para aquellos con acceso a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ducto final tangible y satisfacto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ropiado por razones relacionadas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s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dad de u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presentativid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ceso a da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ién es el experto?</a:t>
            </a:r>
            <a:endParaRPr b="0" lang="en-US" sz="4400" spc="-1" strike="noStrike">
              <a:solidFill>
                <a:srgbClr val="cc3300"/>
              </a:solidFill>
              <a:latin typeface="Arial"/>
            </a:endParaRPr>
          </a:p>
        </p:txBody>
      </p:sp>
      <p:sp>
        <p:nvSpPr>
          <p:cNvPr id="106" name=""/>
          <p:cNvSpPr txBox="1"/>
          <p:nvPr/>
        </p:nvSpPr>
        <p:spPr>
          <a:xfrm>
            <a:off x="457200" y="1785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oyo a la noción de “experto comunita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conocimiento local es un componente centr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urgir disput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necesaria la medi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apacidades GeoWebs</a:t>
            </a:r>
            <a:endParaRPr b="0" lang="en-US" sz="4000" spc="-1" strike="noStrike">
              <a:solidFill>
                <a:srgbClr val="cc3300"/>
              </a:solidFill>
              <a:latin typeface="Arial"/>
            </a:endParaRPr>
          </a:p>
        </p:txBody>
      </p:sp>
      <p:sp>
        <p:nvSpPr>
          <p:cNvPr id="108" name=""/>
          <p:cNvSpPr txBox="1"/>
          <p:nvPr/>
        </p:nvSpPr>
        <p:spPr>
          <a:xfrm>
            <a:off x="178920" y="1600200"/>
            <a:ext cx="8713800" cy="46483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ción territorial de características:</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mapa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gregar puntos, líneas o polígon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djuntar contenido, como por ejemplo, fotografías o video.</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dministración de contenido:</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bir y organizar contenid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artir y modificar contenid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grar contenidos con mapas en línea.</a:t>
            </a:r>
            <a:endParaRPr b="0" lang="en-US" sz="28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 y Modificación de Contenido Virtual</a:t>
            </a:r>
            <a:endParaRPr b="0" lang="en-US" sz="4400" spc="-1" strike="noStrike">
              <a:solidFill>
                <a:srgbClr val="cc3300"/>
              </a:solidFill>
              <a:latin typeface="Arial"/>
            </a:endParaRPr>
          </a:p>
        </p:txBody>
      </p:sp>
      <p:sp>
        <p:nvSpPr>
          <p:cNvPr id="110" name=""/>
          <p:cNvSpPr txBox="1"/>
          <p:nvPr/>
        </p:nvSpPr>
        <p:spPr>
          <a:xfrm>
            <a:off x="457200" y="168912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las herramientas correcta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necesitan decidir:</a:t>
            </a:r>
            <a:endParaRPr b="0" lang="en-US" sz="32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características quisieran ver mapeadas.</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tipo de contenido será accesible a través de la interfaz del map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ién estará autorizado a editar el map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e hará con el producto final.</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ción de la configuración de privacidad apropiad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02:38Z</dcterms:modified>
  <cp:revision>65</cp:revision>
  <dc:subject/>
  <dc:title>Presentacion - Mapeo Participativo Basado en Internet : Pricipios de MapeoBasado en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