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808080"/>
                </a:solidFill>
                <a:latin typeface="Times New Roman"/>
                <a:ea typeface="Lucida Sans Unicode"/>
              </a:defRPr>
            </a:lvl1pPr>
          </a:lstStyle>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808080"/>
                </a:solidFill>
                <a:latin typeface="Times New Roman"/>
                <a:ea typeface="Lucida Sans Unicode"/>
              </a:rPr>
              <a:t>Apoyo a la difusión de buenas practicas en la generación, la gestión, el análisis y la comunicación de información territorial</a:t>
            </a:r>
            <a:endParaRPr b="0" lang="en-US" sz="1000" spc="-1" strike="noStrike">
              <a:solidFill>
                <a:srgbClr val="000000"/>
              </a:solidFill>
              <a:latin typeface="Times New Roman"/>
            </a:endParaRPr>
          </a:p>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6A08-EF56-4DE8-B945-8DB1820D9AC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ibujo de líneas y for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a característica básica que probablemente estará disponible al elaborar un mapa basado en Internet es la opción de dibujar líneas y formas. Dentro de algunas aplicaciones, como ‘My Maps’ de Google, las líneas también pueden ser dibujadas para coincidir automáticamente con carreteras. Estas características son útiles al tratar de separar polígonos o regiones o al agregar características que pueden no estar presentes en el mapa base. Se atribuye información a formas y líneas en forma similar a la usada para las chinchet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ADD8-C728-432F-9EF9-28412004254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gregado de tex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enes elaboran mapas tienen diferentes opciones para agregar texto a mapas. En primer lugar, podrían mecanografiar texto directamente en los cuadros de Propiedades que están asociados con puntos que agregan a un mapa. Esta es la forma en la que se agregó información sobre el país Ghana en el ejemplo anterior. Sin embargo, cuando los elaboradores de mapas desean adjuntar una mayor cantidad de información a los mapas, también podrían vincular un documento real al map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exto sin format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os programas presentarán una serie de diferentes opciones para agregar y modificar contenido que quienes elaboran mapas desean asociar con los puntos, líneas o polígonos que han crea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t>
            </a:r>
            <a:r>
              <a:rPr b="0" lang="es-AR" sz="1200" spc="-1" strike="noStrike">
                <a:solidFill>
                  <a:srgbClr val="000000"/>
                </a:solidFill>
                <a:latin typeface="Arial"/>
              </a:rPr>
              <a:t>My Maps’ de Google proporciona a los usuarios una serie de opciones para agregar y editar conteni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ando los usuarios seleccionan la opción ‘texto sin formato’, el texto que ingresan aparecerá en los cuadros de información en forma estándar. No tienen ningún control sobre la apariencia del texto, ya que la misma fuente y tamaño son siempre usados para el texto que se ingresa en el cuerpo del cuadro de informació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Texto enriqueci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ando la opción de ingresar texto enriquecido estuviera disponible, los usuarios encontrarán que tienen mucho mayor control sobre la apariencia del texto que aparece en los cuadros de información. Por ejemplo, quienes elaboran los mapas pueden cambiar la fuente, el tamaño de la fuente y el color de la fuente, y agregar características como texto en negrita o en cursiva. Aquí también es donde irían los elaboradores de mapas para agregar fotografías a sus cuadros de informació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dición HTML</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opción de Edición HTML casi siempre estará disponible para los elaboradores de mapas. Para hacer uso de esta opción, quienes elaboran mapas necesitarían algunos conocimientos básicos de escritura en código de Internet. Sin embargo, esto podría ser complicado, ya que hasta errores tipográficos menores pueden hacer que el texto no aparezca debidamente. Los elaboradores de mapas pueden fácilmente evitar esto eligiendo una de las demás opciones que están disponibles para agregar y editar texto. Sin embargo, los elaboradores de mapas más intrépidos pueden siempre experimentar con códigos básicos, buscándolos en línea y agregándolos al cuadro de texto que aparece cuando hacen clic en ‘Edit HTML’ (Edición HTML). Ser capaz de hacer esto, dará a los elaboradores de mapas mayor control sobre la apariencia del contenido en el cuadro de informació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reación de Enlace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elaboradores de mapas pueden crear enlaces a otros sitios de Internet que aparecerán asociados con los puntos, líneas o polígonos basados en la ubicación. Esto resulta útil para los elaboradores de mapas que desean hacer enlaces a ítems, como por ejemplo, sitios de Internet comunitarios, artículos pertenecientes al punto de interés geográfico o paneles de discusión o blogs relativos al contenido incluido en el map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C8E1A-12E1-4995-B541-2C9A544B88D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gregado de fotografías (este tema se trata en el ejercicio de capacitació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fotografías serán agregadas en formas levemente diferentes, dependiendo de la aplicación que se elija. Sin embargo, para que la aplicación basada en Internet sea capaz de recuperar las fotografías, necesitan ser almacenadas en algún lugar en Internet y vinculadas al mapa. Por esta razón, resulta útil que los elaboradores de mapas comunitarios creen una dirección de correo electrónico personalizada y una cuenta de almacenamiento de fotos dedicada solamente a la administración de contenido relacionado con el mapa. Un ejemplo de un lugar en que esto puede hacerse es Picasa Web Album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han creado una cuenta e iniciado sesión, los usuarios serán capaces de agregar álbumes de fotografías que serán almacenados en línea. Estos álbumes pueden ser públicos o privados. Una vez que un álbum ha sido creado, las fotografías del mismo (o el álbum entero) pueden ser mapeados en diferentes forma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icasa Web Album permite a los usuarios mapear sus fotografías directamente en el sitio. Una vez que las fotografías han sido mapeadas, los usuarios son capaces de visualizar un mapa de álbumes, que muestra las ubicaciones de todas las fotografías del álbum que han sido geoetiquetadas. Este álbum puede ser abierto y visualizado en Google Earth e incorporado con cualquiera de los otros puntos que los elaboradores de mapas pueden ya haber agregado.</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segunda forma en que los usuarios podrían agregar fotografías a un mapa es insertándolas directamente en los puntos que colocan en su mapa. Esto significa que asignan una ubicación basada en Internet a los puntos que han agregado al mapa, que se vinculan con las fotografías que han sido almacenadas en línea en Picasa Web Album. Se asigna un enlace a cada fotografía, que está disponible para que los usuarios copien y peguen de su cuenta de Picasa Web Album.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C083-EA24-494F-BB88-DFC58E8D56D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gregado de videos (este tema se trata en el ejercicio de capacit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os usuarios pueden agregar videos a sus mapas en forma muy similar a la forma en que agregan fotografías. Será útil crear una cuenta con algún tipo de sitio web de almacenamiento de videos, como por ejemplo, YouTube. Los usuarios serán capaces de identificar la configuración de privacidad apropiada para sus videos, dependiendo de la sensibilidad del material. En forma similar a Picasa Web Albums, YouTube proporciona un enlace ‘Embed Video’ (Insertar Video) que los elaboradores de mapas pueden copiar e insertar dentro de sus map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BFFE1-B0ED-409A-BFBF-A5B52A67B37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sualización del mapa en Googl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as aplicaciones de mapeo basadas en Internet permiten a los usuarios visualizar sus mapas en Google Earth. Aunque es más probable que los productos y aplicaciones de Google incluyan esta opción, otras empresas a menudo la ponen a disposición también. Asimismo, una serie de programas están disponibles en Internet para convertir diferentes tipos de archivos en archivos .kml, el tipo de archivo que es compatible con Google Earth. Una vez que los archivos han sido convertidos, los usuarios pueden visualizar cualquiera de los datos territoriales en Google Earth. Esto resulta útil para poner los datos en un formato estándar. También resulta ventajoso porque los elaboradores de mapas que trabajan con Google Earth pueden crear un archivo .kml que puede ser compartido fácilmente por e-mail o algún otro mecanismo para compartir archiv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C64A3-FB4A-4122-9DDA-671749E0785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xhibición del map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forma en que el mapa es exhibido dependerá del público con el cual los miembros de la comunidad desean compartir su mapa. Esto podría ir de solamente mostrar el mapa a miembros de la comunidad y a aquellos que están estrechamente vinculados a ellos, a hacerlo completamente accesible a cualquier persona que tenga interé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olaboració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opción para compartir el mapa es simplemente mediante la colaboración con partes, como por ejemplo, otros miembros comunitarios. Este método es mejor cuando las comunidades no quieren que haya amplio acceso al mapa. Dentro de ‘My Maps’ de Google, los colaboradores pueden ser formalmente invitados a acceder al mapa y/o a editarlo, mediante el envío de un e-mail que les permita hacerlo. La colaboración también puede ocurrir mediante el simple envío por e-mail de archivos, como por ejemplo, archivos .kml, a cualquier persona que quisiera contribuir con el map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serción del map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odo el mapa puede ser insertado en un sitio de Internet que ha sido creado para mostrar el mapa, utilizando un proceso similar al usado para insertar una fotografía o video en el mapa. La forma en que el mapa aparecerá una vez que sea insertado puede ser personalizada antes de la inserción, por ejemplo, cambiando el tamaño del map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xhibición del mapa</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exhibición del mapa representa uno de los mayores desafíos en el mapeo basado en Internet, porque algunos pasos más complicados están involucrados en la creación de un sitio web para mostrar un mapa que los miembros comunitarios desean poner a disposición públicamente. Aunque los miembros comunitarios quieran que el mapa sea privado, pueden querer crear un sitio web para mostrar el mapa al que solamente los usuarios registrados puedan acceder.</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4A6BC-67F8-4D8A-9B7A-4E0EA60769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Y ahora qu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el mapa ha sido creado y ha sido mostrado en forma satisfactoria, alguien deberá quedarse a cargo del mantenimiento y actualización del mapa, según sea necesario. Si los miembros comunitarios quieren poder continuar haciendo agregados al mapa, puede necesitarse un moderador para supervisar el contenido que se agregue y para asegurarse que el mapa es preciso, actualizado y en línea con los objetivos comunitari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B4559-E687-4574-A616-4E03C042F1B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Introdu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Unidad se centrará en la creación de un mapa basado en Internet, como forma de familiarizarse con las herramientas y procesos disponibles. Crear un mapa basado en Internet puede ser un proceso dinámico e interactivo. El alcance e intención del proyecto de mapeo participativo determinará las características del mapa y la forma en que el mapa es creado, incluyendo cuánta interacción a nivel local es incorporada y mediada. La Unidad también discutirá las formas en las que contenido creado por miembros comunitarios puede volverse parte integral del mapa y cómo el mapa podría ser compartido entre la comunidad y usado por la misma una vez que ha sido creado. Los beneficios de dedicarse a un proyecto de mapeo basado en Internet pueden 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unir a los miembros comunitarios a través del proceso de creación del map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ar un producto final que sea útil para los miembros comunit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6553C-B866-4960-B5AA-6423C66B3BB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lección de las herramientas correcta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 una variedad de aplicaciones gratuitas de elaboración de mapas y administración de contenidos en línea, que pueden ser de uso para las comunidades interesadas en crear y compartir un mapa basado en Internet. Las herramientas que serán más apropiadas para un proyecto en particular dependerán de los objetivos de los miembros comunitarios. Para determinar qué tipos de herramientas serían más beneficiosas para el proyecto, los profesionales y colaboradores comunitarios deberían hacer las siguientes pregunta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ál es el presupuesto para el componente de elaboración de mapas del proyecto? Aunque un mapa de Internet puede ser elaborado gratuitamente, existen versiones mejoradas de varias aplicaciones basadas en Internet que tienen características adicionales que pueden ser descargadas mediante el pago de un cargo.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ién visualizará y/o utilizará el mapa?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rá disponible públicamente el mapa o solamente estará disponible para miembros de la comunidad?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 algún componente del mapa que contenga material delicado?</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isten restricciones dentro de la comunidad, región o país sobre el tipo de información que resulta apropiado mostra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tipo de ítems serán etiquetados en el mapa, por ejemplo, fotografías, videos, etc.?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brá algún límite sobre quién puede contribuir?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persona o un grupo pequeño de personas estarán moderando el mapa y aprobando el contenido?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sean los miembros comunitarios crear un mapa que continúe siendo interactivo, es decir,  abierto para contribuciones y modificación  o que sea estático, es decir, que una vez que ha sido creado, será usado solamente para ser exhibido?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ómo recibirán contribuciones de otras partes interesadas quienes elaboran mapas? </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ómo desean los miembros comunitarios mostrar el mapa finalment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s respuestas a estas preguntas determinarán qué herramientas son necesarias, como por ejemplo, almacenamiento de fotografías en línea, si los miembros comunitarios desean adjuntar imágenes y cuáles serían más apropiadas. Asimismo, determinadas herramientas han sido diseñadas para ser utilizadas juntas, de manera que se complementen entre sí más de lo que podrían otras herramientas. Por ejemplo, es relativamente fácil mostrar fotografías almacenadas en Picasa Web Albums o en Google Earth porque ambos fueron desarrollados por la misma empresa.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509E6-30DD-4781-B3F6-B1B5E994D99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Búsqueda de aplicaciones de Interne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una comunidad ha formado una delineación general del tipo de mapa que quisiera crear, querrá buscar las aplicaciones de Internet apropiadas. Una serie de aplicaciones populares han sido delineadas en este Módulo (ver Unidad 01), y pueden ser descargadas gratuitamente en línea. Por lo general, no es  necesario descargar nada porque muchas de estas aplicaciones son enteramente basadas en Internet y toda la información que se crea puede ser almacenada directamente en el sitio. Resulta una buena idea experimentar con una variedad de aplicaciones para determinar cuál es la que más se adapta a las necesidades de la comunida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comienzo del proyecto, quienes elaboran mapas pueden querer buscar otras aplicaciones que podrían ser apropiadas y leer algunas críticas que delineen las capacidades e inconvenientes de diversas aplicaciones. Aunque se han hecho recomendaciones generales en base a tecnologías actuales, Internet y los tipos de aplicaciones que están siendo desarrolladas están cambiando constantemente y continuamente se lanzan nuevos producto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C80F-B9F7-4AB8-A95E-5A057DA8BFD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cuperación de da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 probable que los elaboradores de mapas comunitarios quieran comenzar con un mapa base. Un mapa base es un tipo de mapa de nivel básico, en el cual quienes elaboran mapas pueden colocar puntos geocodificados que se adjuntan al contenido que desean mostrar. Ejemplos de mapas base comúnmente usados son las imágenes satelitales y los mapas de calles. Estos se encuentran fácilmente disponibles en línea y es casi seguro que son proporcionados con la aplicación de mapeo escogid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 datos territoriales que podrían ser incorporados en un mapa comunitario pueden ser encontrados en línea. Algunos de estos datos pueden ser proporcionados con la aplicación de mapeo que se escog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E8D9-EE64-454B-8074-A9A64DF2FC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Recuperación de dato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 forma similar, los programas como Google Earth proporcionan capas de datos adicionales con las cuales los usuarios pueden experimentar. Los ejemplos incluyen información de tráfico, puntos de interés o fotografías agregadas por usuarios de Google Earth.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Finalmente, los usuarios pueden querer incorporar datos de otras fuentes, como datos de censos de bases de datos gubernamentales. Esta información suele estar disponible en línea con variados niveles de acceso. La cantidad de información que está disponible diferirá de un país a otro. Sin embargo, en ciertos casos, este tipo de datos puede ser recuperado e incorporado en mapas comunitarios. </a:t>
            </a: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DA61-4AA7-4B54-AA40-CD07DD194DA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Incorporación de datos generados por el usuario</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 probable que gran parte de los datos o todos los datos que informarán a los mapas comunitarios sean generados por el usuario. Esto incluye ítems como por ejemplo: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Fotografías tomadas por miembros comunitarios;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ideos que representen algún elemento de la vida comunitaria;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Grabaciones de audio, como entrevistas con miembros eruditos de la comunidad;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ocumentos. Por ejemplo, documentos históricos, artículos de diarios o periódicos sobre la comunidad, documentos del gobierno, como certificados de nacimiento o defunción, etc.; </a:t>
            </a:r>
            <a:endParaRPr b="0" lang="en-US" sz="1000" spc="-1" strike="noStrike">
              <a:solidFill>
                <a:srgbClr val="000000"/>
              </a:solidFill>
              <a:latin typeface="Arial"/>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nlaces a otros materiales en línea, como blogs comunitarios o información sobre la comunida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búsqueda de este tipo de información probablemente no sea basada en Internet, pero tendrá lugar dentro de la comunidad. Una vez que los objetivos del proyecto hayan sido determinados, los miembros de la comunidad y profesionales necesitarán recolectar la información que desean incorporar al mapa, de fuentes internas de la comunidad. En pequeñas comunidades, donde muchas personas pueden participar en el proyecto y realizar contribuciones y por lo menos, la mayoría de las personas estarán en conocimiento del proyecto, esto no debería ser extremadamente difícil. Sin embargo, al tratar con comunidades mayores o dispersas, estos tipos de datos pueden no estar tan fácilmente disponibles y debe hacerse algún tipo de convocatoria de información. Es importante que se hagan esfuerzos para incluir a todas las personas para las cuales y con las cuales el mapa está siendo cread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1F1C2-E695-470D-9936-2B24AEB406A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reación del map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vez que los elaboradores de mapas comunitarios hayan determinado qué características desean mapear y tengan una idea básica de qué herramientas querrían usar, será el momento de comenzar a elaborar el mapa. Sin embargo, una vez que el proceso de elaboración del mapa se encuentre en marcha, los miembros de la comunidad pueden descubrir nuevas herramientas o desarrollar nuevas aspiraciones para el mapa. En vez de ver esto como un inconveniente, quienes elaboran mapas deberían estar conscientes de que esto es parte del proceso y que el mapa puede cambiar sustancialmente desde la visión original que los miembros de la comunidad tenían del mismo, a menudo para mej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99B31-DCA2-41B5-9FF6-8A003BA202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100" spc="-1" strike="noStrike">
                <a:solidFill>
                  <a:srgbClr val="000000"/>
                </a:solidFill>
                <a:latin typeface="Arial"/>
              </a:rPr>
              <a:t>Creación de chinchetas personalizada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Independientemente de qué herramienta de mapeo basada en Internet se use, la mayoría emplearán alguna variante de la “chincheta personalizada”. Una chincheta es un marcador que designa un punto de interés. Los elaboradores de mapas determinan la ubicación geográfica donde desea fijar la chincheta. Luego, pueden asociar información, como por ejemplo, texto, fotografías o videos, con dicha ubicación. Algunos programas, que están diseñados específicamente para almacenar y visualizar fotografías, permitirán el uso de un pequeño ícono de la fotografía en lugar de una chinchet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Para personalizar la apariencia de las chinchetas en el mapa y permitir la diferenciación entre tipos de características, la mayoría de las aplicaciones permitirán a los elaboradores de mapas cambiar la apariencia de la chincheta. Los usuarios también pueden crear íconos personalizados que puedan usar, como por ejemplo, logotipos o fotografía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5AE53-C960-477E-BAD7-5D5E66731A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0E5FA1-1AB1-4BE8-847C-C9DC6DBA5A7B}"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F8A0BB0-7E89-47D6-A186-4CEE3132A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C64F7897-473B-429D-BA79-C391775AE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8A21F7AA-101A-4915-8187-9B78F2A7EDC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5337CEF-A486-434F-9E53-04EC936CB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6BEF2AD-CD8B-43B0-8D66-3276E4A329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92F9FDED-36BA-4434-BB4A-9253B078DC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993D0CB-ABE9-4A82-8F7E-75BE0E32BE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2AC2194D-06BE-4F0A-B5B4-1C8947F5DB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DD995A2-DE23-42DB-8017-754A217D73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FB888408-9E13-42B6-A227-358343593B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F05504FF-8415-49D0-805A-35CC599A3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4C542009-AD81-4C7C-AD7F-7922146E42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86A0ECE1-167D-49A6-A933-33DEBA80E2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628C7CB-14D0-4B1F-9CFA-B760E1B9E1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748ECE9D-E7B1-4447-8C98-0C26E546ED8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6B42889B-E99B-46B6-BABE-9C55F0640C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5B220F3A-8E1D-438B-B1C4-E5EE3EBF1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BAB931F4-08E5-44ED-B360-F3CC3A6F7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6B12F8EE-6E22-439D-BEF3-4EA4D3D53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BCC6CC23-B7E2-489B-BDFC-86B266B32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E7BB48A3-CDBC-4A87-AAB5-3CF55D300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77E1BE29-6E76-4687-84F0-D22D88346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A9D92FC6-4CC8-4DC4-B8C5-4D6A552E916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C4ADF-7105-4CC4-95DD-D58390ED6A45}"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996600"/>
                </a:solidFill>
                <a:latin typeface="Arial"/>
              </a:rPr>
              <a:t>Apoyo a la difusión de buenas prácticas en la generación, la gestión, el análisis y la comunicación de información territorial</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93265-91D7-42C8-9EC9-21066148AA04}"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Mapeo Participativo Basado en Internet</a:t>
            </a:r>
            <a:endParaRPr b="0" lang="en-US" sz="4400" spc="-1" strike="noStrike">
              <a:solidFill>
                <a:srgbClr val="cc3300"/>
              </a:solidFill>
              <a:latin typeface="Arial"/>
            </a:endParaRPr>
          </a:p>
        </p:txBody>
      </p:sp>
      <p:sp>
        <p:nvSpPr>
          <p:cNvPr id="90" name="PlaceHolder 2"/>
          <p:cNvSpPr>
            <a:spLocks noGrp="1"/>
          </p:cNvSpPr>
          <p:nvPr>
            <p:ph type="subTitle"/>
          </p:nvPr>
        </p:nvSpPr>
        <p:spPr>
          <a:xfrm>
            <a:off x="1317240" y="3914280"/>
            <a:ext cx="6458040" cy="838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969696"/>
                </a:solidFill>
                <a:latin typeface="Arial"/>
              </a:rPr>
              <a:t>Creación de Mapas</a:t>
            </a:r>
            <a:endParaRPr b="0" lang="en-US" sz="3200" spc="-1" strike="noStrike">
              <a:solidFill>
                <a:srgbClr val="5f5f5f"/>
              </a:solidFill>
              <a:latin typeface="Arial"/>
            </a:endParaRPr>
          </a:p>
        </p:txBody>
      </p:sp>
      <p:sp>
        <p:nvSpPr>
          <p:cNvPr id="91" name="Rectangle 4"/>
          <p:cNvSpPr/>
          <p:nvPr/>
        </p:nvSpPr>
        <p:spPr>
          <a:xfrm>
            <a:off x="2593800" y="5105520"/>
            <a:ext cx="370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969696"/>
                </a:solidFill>
                <a:latin typeface="Arial"/>
              </a:rPr>
              <a:t>Por: Jon Corbett y Kasondra White</a:t>
            </a:r>
            <a:endParaRPr b="0" lang="en-US" sz="1800" spc="-1" strike="noStrike">
              <a:solidFill>
                <a:srgbClr val="000000"/>
              </a:solidFill>
              <a:latin typeface="Arial"/>
            </a:endParaRPr>
          </a:p>
        </p:txBody>
      </p:sp>
      <p:sp>
        <p:nvSpPr>
          <p:cNvPr id="92"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5f5f5f"/>
                </a:solidFill>
                <a:latin typeface="Arial"/>
              </a:rPr>
              <a:t>Unidad: M13U02</a:t>
            </a:r>
            <a:endParaRPr b="0" lang="en-US" sz="1800" spc="-1" strike="noStrike">
              <a:solidFill>
                <a:srgbClr val="000000"/>
              </a:solidFill>
              <a:latin typeface="Arial"/>
            </a:endParaRPr>
          </a:p>
        </p:txBody>
      </p:sp>
      <p:pic>
        <p:nvPicPr>
          <p:cNvPr id="93" name="Picture 6" descr="cc_license_by-nc-sa">
            <a:hlinkClick r:id="rId1"/>
          </p:cNvPr>
          <p:cNvPicPr/>
          <p:nvPr/>
        </p:nvPicPr>
        <p:blipFill>
          <a:blip r:embed="rId2"/>
          <a:stretch/>
        </p:blipFill>
        <p:spPr>
          <a:xfrm>
            <a:off x="4151160" y="6375240"/>
            <a:ext cx="838440" cy="295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Dibujo de Líneas y Formas</a:t>
            </a:r>
            <a:endParaRPr b="0" lang="en-US" sz="4400" spc="-1" strike="noStrike">
              <a:solidFill>
                <a:srgbClr val="cc3300"/>
              </a:solidFill>
              <a:latin typeface="Arial"/>
            </a:endParaRPr>
          </a:p>
        </p:txBody>
      </p:sp>
      <p:sp>
        <p:nvSpPr>
          <p:cNvPr id="113" name=""/>
          <p:cNvSpPr txBox="1"/>
          <p:nvPr/>
        </p:nvSpPr>
        <p:spPr>
          <a:xfrm>
            <a:off x="457200" y="1341000"/>
            <a:ext cx="5029200" cy="478476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formación atribuida a líneas y formas en la misma manera que chinchetas.</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Útil para:</a:t>
            </a:r>
            <a:endParaRPr b="0" lang="en-US" sz="32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parar polígonos o regiones. </a:t>
            </a:r>
            <a:endParaRPr b="0" lang="en-US" sz="2800" spc="-1" strike="noStrike">
              <a:solidFill>
                <a:srgbClr val="5f5f5f"/>
              </a:solidFill>
              <a:latin typeface="Arial"/>
            </a:endParaRPr>
          </a:p>
          <a:p>
            <a:pPr lvl="1" marL="713160" indent="-27432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gregar características que no están presentes en el mapa. </a:t>
            </a:r>
            <a:endParaRPr b="0" lang="en-US" sz="2800" spc="-1" strike="noStrike">
              <a:solidFill>
                <a:srgbClr val="5f5f5f"/>
              </a:solidFill>
              <a:latin typeface="Arial"/>
            </a:endParaRPr>
          </a:p>
          <a:p>
            <a:pPr lvl="2" marL="1097280" indent="-2192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4" name="Picture 4" descr=""/>
          <p:cNvPicPr/>
          <p:nvPr/>
        </p:nvPicPr>
        <p:blipFill>
          <a:blip r:embed="rId1"/>
          <a:stretch/>
        </p:blipFill>
        <p:spPr>
          <a:xfrm>
            <a:off x="5486400" y="1981080"/>
            <a:ext cx="3246480" cy="3854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gregado de Texto</a:t>
            </a:r>
            <a:endParaRPr b="0" lang="en-US" sz="4400" spc="-1" strike="noStrike">
              <a:solidFill>
                <a:srgbClr val="cc3300"/>
              </a:solidFill>
              <a:latin typeface="Arial"/>
            </a:endParaRPr>
          </a:p>
        </p:txBody>
      </p:sp>
      <p:sp>
        <p:nvSpPr>
          <p:cNvPr id="116" name=""/>
          <p:cNvSpPr txBox="1"/>
          <p:nvPr/>
        </p:nvSpPr>
        <p:spPr>
          <a:xfrm>
            <a:off x="395280" y="1483920"/>
            <a:ext cx="4897440" cy="4537080"/>
          </a:xfrm>
          <a:prstGeom prst="rect">
            <a:avLst/>
          </a:prstGeom>
          <a:noFill/>
          <a:ln w="0">
            <a:noFill/>
          </a:ln>
        </p:spPr>
        <p:txBody>
          <a:bodyPr anchor="t">
            <a:normAutofit fontScale="87000"/>
          </a:bodyPr>
          <a:p>
            <a:pPr marL="298440" indent="-2984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agregarse texto:</a:t>
            </a:r>
            <a:endParaRPr b="0" lang="en-US" sz="32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Escribiendo directamente en el cuadro ‘Properties’ (Propiedades).</a:t>
            </a:r>
            <a:endParaRPr b="0" lang="en-US" sz="24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Vinculando documentos al mapa.</a:t>
            </a:r>
            <a:endParaRPr b="0" lang="en-US" sz="2400" spc="-1" strike="noStrike">
              <a:solidFill>
                <a:srgbClr val="5f5f5f"/>
              </a:solidFill>
              <a:latin typeface="Arial"/>
            </a:endParaRPr>
          </a:p>
          <a:p>
            <a:pPr marL="298440" indent="-2984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Formas de modificar contenido: </a:t>
            </a:r>
            <a:endParaRPr b="0" lang="en-US" sz="32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Texto sin formato.</a:t>
            </a:r>
            <a:endParaRPr b="0" lang="en-US" sz="24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Texto enriquecido.</a:t>
            </a:r>
            <a:endParaRPr b="0" lang="en-US" sz="24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Edición HTML.</a:t>
            </a:r>
            <a:endParaRPr b="0" lang="en-US" sz="2400" spc="-1" strike="noStrike">
              <a:solidFill>
                <a:srgbClr val="5f5f5f"/>
              </a:solidFill>
              <a:latin typeface="Arial"/>
            </a:endParaRPr>
          </a:p>
          <a:p>
            <a:pPr lvl="1" marL="646200" indent="-24840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reación de enlaces.</a:t>
            </a:r>
            <a:endParaRPr b="0" lang="en-US" sz="2400" spc="-1" strike="noStrike">
              <a:solidFill>
                <a:srgbClr val="5f5f5f"/>
              </a:solidFill>
              <a:latin typeface="Arial"/>
            </a:endParaRPr>
          </a:p>
          <a:p>
            <a:pPr lvl="2" marL="994320" indent="-19872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pic>
        <p:nvPicPr>
          <p:cNvPr id="117" name="Picture 4" descr=""/>
          <p:cNvPicPr/>
          <p:nvPr/>
        </p:nvPicPr>
        <p:blipFill>
          <a:blip r:embed="rId1"/>
          <a:stretch/>
        </p:blipFill>
        <p:spPr>
          <a:xfrm>
            <a:off x="5364000" y="1844640"/>
            <a:ext cx="3567240" cy="365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gregado de Fotografías</a:t>
            </a:r>
            <a:endParaRPr b="0" lang="en-US" sz="4400" spc="-1" strike="noStrike">
              <a:solidFill>
                <a:srgbClr val="cc3300"/>
              </a:solidFill>
              <a:latin typeface="Arial"/>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fotografías deben ser almacenadas en primer lugar en Interne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una dirección de correo electrónico personalizada y una cuenta de almacenamiento de fotografías para el proyecto será úti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s fotografías pueden ser mapeadas:</a:t>
            </a:r>
            <a:endParaRPr b="0" lang="en-US" sz="3200" spc="-1" strike="noStrike">
              <a:solidFill>
                <a:srgbClr val="5f5f5f"/>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5f5f5f"/>
                </a:solidFill>
                <a:latin typeface="Arial"/>
              </a:rPr>
              <a:t>Directamente a través de aplicaciones de almacenamiento.</a:t>
            </a:r>
            <a:endParaRPr b="0" lang="en-US" sz="2000" spc="-1" strike="noStrike">
              <a:solidFill>
                <a:srgbClr val="5f5f5f"/>
              </a:solidFill>
              <a:latin typeface="Arial"/>
            </a:endParaRPr>
          </a:p>
          <a:p>
            <a:pPr lvl="1" marL="743040" indent="-285840">
              <a:spcBef>
                <a:spcPts val="4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5f5f5f"/>
                </a:solidFill>
                <a:latin typeface="Arial"/>
              </a:rPr>
              <a:t>Insertándolas directamente en el mapa.</a:t>
            </a:r>
            <a:endParaRPr b="0" lang="en-US" sz="2000" spc="-1" strike="noStrike">
              <a:solidFill>
                <a:srgbClr val="5f5f5f"/>
              </a:solidFill>
              <a:latin typeface="Arial"/>
            </a:endParaRPr>
          </a:p>
          <a:p>
            <a:pPr lvl="2" marL="1143000" indent="-228600">
              <a:spcBef>
                <a:spcPts val="499"/>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gregado de Videos</a:t>
            </a:r>
            <a:endParaRPr b="0" lang="en-US" sz="4400" spc="-1" strike="noStrike">
              <a:solidFill>
                <a:srgbClr val="cc3300"/>
              </a:solidFill>
              <a:latin typeface="Arial"/>
            </a:endParaRPr>
          </a:p>
        </p:txBody>
      </p:sp>
      <p:sp>
        <p:nvSpPr>
          <p:cNvPr id="121" name=""/>
          <p:cNvSpPr txBox="1"/>
          <p:nvPr/>
        </p:nvSpPr>
        <p:spPr>
          <a:xfrm>
            <a:off x="457200" y="1600200"/>
            <a:ext cx="4191120" cy="4525920"/>
          </a:xfrm>
          <a:prstGeom prst="rect">
            <a:avLst/>
          </a:prstGeom>
          <a:noFill/>
          <a:ln w="0">
            <a:noFill/>
          </a:ln>
        </p:spPr>
        <p:txBody>
          <a:bodyPr anchor="t">
            <a:normAutofit fontScale="96000"/>
          </a:bodyPr>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Similar al agregado de fotografías.</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rear una cuenta con un sitio de almacenamiento de videos.</a:t>
            </a:r>
            <a:endParaRPr b="0" lang="en-US" sz="3200" spc="-1" strike="noStrike">
              <a:solidFill>
                <a:srgbClr val="5f5f5f"/>
              </a:solidFill>
              <a:latin typeface="Arial"/>
            </a:endParaRPr>
          </a:p>
          <a:p>
            <a:pPr marL="329040" indent="-3290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sertar videos directamente en el mapa.</a:t>
            </a:r>
            <a:endParaRPr b="0" lang="en-US" sz="3200" spc="-1" strike="noStrike">
              <a:solidFill>
                <a:srgbClr val="5f5f5f"/>
              </a:solidFill>
              <a:latin typeface="Arial"/>
            </a:endParaRPr>
          </a:p>
        </p:txBody>
      </p:sp>
      <p:pic>
        <p:nvPicPr>
          <p:cNvPr id="122" name="Picture 4" descr=""/>
          <p:cNvPicPr/>
          <p:nvPr/>
        </p:nvPicPr>
        <p:blipFill>
          <a:blip r:embed="rId1"/>
          <a:stretch/>
        </p:blipFill>
        <p:spPr>
          <a:xfrm>
            <a:off x="4876920" y="1600200"/>
            <a:ext cx="367668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6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Visualización del Mapa en Google Earth</a:t>
            </a:r>
            <a:endParaRPr b="0" lang="en-US" sz="4400" spc="-1" strike="noStrike">
              <a:solidFill>
                <a:srgbClr val="cc3300"/>
              </a:solidFill>
              <a:latin typeface="Arial"/>
            </a:endParaRPr>
          </a:p>
        </p:txBody>
      </p:sp>
      <p:sp>
        <p:nvSpPr>
          <p:cNvPr id="124" name=""/>
          <p:cNvSpPr txBox="1"/>
          <p:nvPr/>
        </p:nvSpPr>
        <p:spPr>
          <a:xfrm>
            <a:off x="457200" y="21034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mayoría de los mapas creados utilizando Google Maps en Internet pueden ser guardados y visualizados en Google Ear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Utilizando un convertidor de archivos .km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ocando los datos en formato estánda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archivos .kml son fácilmente almacenados y compartido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Qué mostrar en el mapa?</a:t>
            </a:r>
            <a:endParaRPr b="0" lang="en-US" sz="4400" spc="-1" strike="noStrike">
              <a:solidFill>
                <a:srgbClr val="cc3300"/>
              </a:solidFill>
              <a:latin typeface="Arial"/>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ependerá del público objetiv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Colaboració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serción del mapa.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involucrar la creación de un sitio web para mostrar el mapa.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Mantenimiento del Mapa a Largo Plazo</a:t>
            </a:r>
            <a:endParaRPr b="0" lang="en-US" sz="4000" spc="-1" strike="noStrike">
              <a:solidFill>
                <a:srgbClr val="cc33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Quién mantendrá y actualizará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 requerirse un moderad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Asegurarse de que el mapa sea:</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recis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ctualizad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lineado con los objetivos comunitari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13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troducción</a:t>
            </a:r>
            <a:endParaRPr b="0" lang="en-US" sz="4400" spc="-1" strike="noStrike">
              <a:solidFill>
                <a:srgbClr val="cc3300"/>
              </a:solidFill>
              <a:latin typeface="Arial"/>
            </a:endParaRPr>
          </a:p>
        </p:txBody>
      </p:sp>
      <p:sp>
        <p:nvSpPr>
          <p:cNvPr id="95" name=""/>
          <p:cNvSpPr txBox="1"/>
          <p:nvPr/>
        </p:nvSpPr>
        <p:spPr>
          <a:xfrm>
            <a:off x="457200" y="142884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e Módulo cubrirá:</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elección de las herramientas correctas para crear un mapa basado en Interne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Cómo crear un mapa utilizando Internet.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incorporación de materiales generados por el usuari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a exhibición del mapa.</a:t>
            </a:r>
            <a:endParaRPr b="0" lang="en-US" sz="2800" spc="-1" strike="noStrike">
              <a:solidFill>
                <a:srgbClr val="5f5f5f"/>
              </a:solidFill>
              <a:latin typeface="Arial"/>
            </a:endParaRPr>
          </a:p>
          <a:p>
            <a:pPr lvl="2" marL="1143000" indent="-2286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Elección de las Herramientas Correctas</a:t>
            </a:r>
            <a:endParaRPr b="0" lang="en-US" sz="4000" spc="-1" strike="noStrike">
              <a:solidFill>
                <a:srgbClr val="cc3300"/>
              </a:solidFill>
              <a:latin typeface="Arial"/>
            </a:endParaRPr>
          </a:p>
        </p:txBody>
      </p:sp>
      <p:sp>
        <p:nvSpPr>
          <p:cNvPr id="97" name=""/>
          <p:cNvSpPr txBox="1"/>
          <p:nvPr/>
        </p:nvSpPr>
        <p:spPr>
          <a:xfrm>
            <a:off x="380880" y="1557000"/>
            <a:ext cx="8305920" cy="4614840"/>
          </a:xfrm>
          <a:prstGeom prst="rect">
            <a:avLst/>
          </a:prstGeom>
          <a:noFill/>
          <a:ln w="0">
            <a:noFill/>
          </a:ln>
        </p:spPr>
        <p:txBody>
          <a:bodyPr anchor="t">
            <a:normAutofit fontScale="89000"/>
          </a:bodyPr>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pertinencia depende de los objetivos comunitarios.</a:t>
            </a:r>
            <a:endParaRPr b="0" lang="en-US" sz="3200" spc="-1" strike="noStrike">
              <a:solidFill>
                <a:srgbClr val="5f5f5f"/>
              </a:solidFill>
              <a:latin typeface="Arial"/>
            </a:endParaRPr>
          </a:p>
          <a:p>
            <a:pPr marL="305280" indent="-3052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stas preguntas pueden ayudar en la decisión de qué herramientas usar:</a:t>
            </a:r>
            <a:endParaRPr b="0" lang="en-US" sz="32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uál es el presupuesto para elaborar el mapa?</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A disposición de quién será puesto el mapa?</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ontendrá material delicado el mapa?</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Qué tipo de ítems serán etiquetados en el mapa?</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Quiénes serán los principales contribuyentes/moderadores?</a:t>
            </a:r>
            <a:endParaRPr b="0" lang="en-US" sz="2400" spc="-1" strike="noStrike">
              <a:solidFill>
                <a:srgbClr val="5f5f5f"/>
              </a:solidFill>
              <a:latin typeface="Arial"/>
            </a:endParaRPr>
          </a:p>
          <a:p>
            <a:pPr lvl="1" marL="660960" indent="-25416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Cómo será compartido el mapa?</a:t>
            </a:r>
            <a:endParaRPr b="0" lang="en-US" sz="2400" spc="-1" strike="noStrike">
              <a:solidFill>
                <a:srgbClr val="5f5f5f"/>
              </a:solidFill>
              <a:latin typeface="Arial"/>
            </a:endParaRPr>
          </a:p>
          <a:p>
            <a:pPr lvl="2" marL="1017000" indent="-203400">
              <a:spcBef>
                <a:spcPts val="601"/>
              </a:spcBef>
              <a:buClr>
                <a:srgbClr val="5f5f5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Búsqueda de Aplicaciones basadas en Internet</a:t>
            </a:r>
            <a:endParaRPr b="0" lang="en-US" sz="4000" spc="-1" strike="noStrike">
              <a:solidFill>
                <a:srgbClr val="cc3300"/>
              </a:solidFill>
              <a:latin typeface="Arial"/>
            </a:endParaRPr>
          </a:p>
        </p:txBody>
      </p:sp>
      <p:sp>
        <p:nvSpPr>
          <p:cNvPr id="99" name=""/>
          <p:cNvSpPr txBox="1"/>
          <p:nvPr/>
        </p:nvSpPr>
        <p:spPr>
          <a:xfrm>
            <a:off x="457200" y="168912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Disponibles gratuitamente para descarga en lín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Muchas son enteramente basadas en Internet. No se requiere descarg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ternet está siempre evolucionando y surgen constantemente nuevos producto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eer críticas y mantenerse informad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cceso a Datos de Mapas</a:t>
            </a:r>
            <a:endParaRPr b="0" lang="en-US" sz="4400" spc="-1" strike="noStrike">
              <a:solidFill>
                <a:srgbClr val="cc3300"/>
              </a:solidFill>
              <a:latin typeface="Arial"/>
            </a:endParaRPr>
          </a:p>
        </p:txBody>
      </p:sp>
      <p:sp>
        <p:nvSpPr>
          <p:cNvPr id="101" name=""/>
          <p:cNvSpPr txBox="1"/>
          <p:nvPr/>
        </p:nvSpPr>
        <p:spPr>
          <a:xfrm>
            <a:off x="457200" y="1371600"/>
            <a:ext cx="8229600" cy="4525920"/>
          </a:xfrm>
          <a:prstGeom prst="rect">
            <a:avLst/>
          </a:prstGeom>
          <a:noFill/>
          <a:ln w="0">
            <a:noFill/>
          </a:ln>
        </p:spPr>
        <p:txBody>
          <a:bodyPr anchor="t">
            <a:normAutofit fontScale="90000"/>
          </a:bodyPr>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Inicio con un mapa base:</a:t>
            </a:r>
            <a:endParaRPr b="0" lang="en-US" sz="3200" spc="-1" strike="noStrike">
              <a:solidFill>
                <a:srgbClr val="5f5f5f"/>
              </a:solidFill>
              <a:latin typeface="Arial"/>
            </a:endParaRPr>
          </a:p>
          <a:p>
            <a:pPr lvl="1" marL="668520" indent="-257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Imágenes satelitales.</a:t>
            </a:r>
            <a:endParaRPr b="0" lang="en-US" sz="2800" spc="-1" strike="noStrike">
              <a:solidFill>
                <a:srgbClr val="5f5f5f"/>
              </a:solidFill>
              <a:latin typeface="Arial"/>
            </a:endParaRPr>
          </a:p>
          <a:p>
            <a:pPr lvl="1" marL="668520" indent="-257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pas de calles.</a:t>
            </a:r>
            <a:endParaRPr b="0" lang="en-US" sz="2800" spc="-1" strike="noStrike">
              <a:solidFill>
                <a:srgbClr val="5f5f5f"/>
              </a:solidFill>
              <a:latin typeface="Arial"/>
            </a:endParaRPr>
          </a:p>
          <a:p>
            <a:pPr lvl="1" marL="668520" indent="-2570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Mapas topográficos.</a:t>
            </a:r>
            <a:endParaRPr b="0" lang="en-US" sz="28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08520" indent="-308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08520" indent="-308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08520" indent="-308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5f5f5f"/>
                </a:solidFill>
                <a:latin typeface="Arial"/>
              </a:rPr>
              <a:t>Vista ‘Terreno’    Vista ‘Satélite’    Vista ‘Mapa’</a:t>
            </a:r>
            <a:endParaRPr b="0" lang="en-US" sz="2000" spc="-1" strike="noStrike">
              <a:solidFill>
                <a:srgbClr val="5f5f5f"/>
              </a:solidFill>
              <a:latin typeface="Arial"/>
            </a:endParaRPr>
          </a:p>
          <a:p>
            <a:pPr lvl="2" marL="1028520" indent="-2055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08520" indent="-30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02" name="Picture 4" descr=""/>
          <p:cNvPicPr/>
          <p:nvPr/>
        </p:nvPicPr>
        <p:blipFill>
          <a:blip r:embed="rId1"/>
          <a:stretch/>
        </p:blipFill>
        <p:spPr>
          <a:xfrm>
            <a:off x="1752480" y="3554280"/>
            <a:ext cx="5715000" cy="216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Acceso a Datos de Mapas</a:t>
            </a:r>
            <a:endParaRPr b="0" lang="en-US" sz="4400" spc="-1" strike="noStrike">
              <a:solidFill>
                <a:srgbClr val="cc3300"/>
              </a:solidFill>
              <a:latin typeface="Arial"/>
            </a:endParaRPr>
          </a:p>
        </p:txBody>
      </p:sp>
      <p:sp>
        <p:nvSpPr>
          <p:cNvPr id="104" name=""/>
          <p:cNvSpPr txBox="1"/>
          <p:nvPr/>
        </p:nvSpPr>
        <p:spPr>
          <a:xfrm>
            <a:off x="457200" y="13716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os datos de mapa base serán proporcionados con la aplicació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Otras informaciones, como por ejemplo, datos de censos, pueden encontrarse en lín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La mayoría de los datos incluidos en un mapa basado en Internet provendrán de la comunidad.</a:t>
            </a:r>
            <a:endParaRPr b="0" lang="en-US" sz="3200" spc="-1" strike="noStrike">
              <a:solidFill>
                <a:srgbClr val="5f5f5f"/>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Incorporación de Datos generados por la Comunidad</a:t>
            </a:r>
            <a:endParaRPr b="0" lang="en-US" sz="4400" spc="-1" strike="noStrike">
              <a:solidFill>
                <a:srgbClr val="cc3300"/>
              </a:solidFill>
              <a:latin typeface="Arial"/>
            </a:endParaRPr>
          </a:p>
        </p:txBody>
      </p:sp>
      <p:sp>
        <p:nvSpPr>
          <p:cNvPr id="106" name=""/>
          <p:cNvSpPr txBox="1"/>
          <p:nvPr/>
        </p:nvSpPr>
        <p:spPr>
          <a:xfrm>
            <a:off x="457200" y="1950840"/>
            <a:ext cx="8507520" cy="46465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Los datos generados por la comunidad pueden incluir:</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Fotografías y videos de los miembros comunitario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Grabaciones de audio, como entrevista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Documentos, como artículos de diarios.</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5f5f5f"/>
                </a:solidFill>
                <a:latin typeface="Arial"/>
              </a:rPr>
              <a:t>Enlaces a otros materiales en línea.</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Recolección de información dentro de la comunidad y por parte de miembros comunitario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400" spc="-1" strike="noStrike">
                <a:solidFill>
                  <a:srgbClr val="cc3300"/>
                </a:solidFill>
                <a:latin typeface="Arial"/>
              </a:rPr>
              <a:t>Creación del Mapa</a:t>
            </a:r>
            <a:endParaRPr b="0" lang="en-US" sz="4400" spc="-1" strike="noStrike">
              <a:solidFill>
                <a:srgbClr val="cc3300"/>
              </a:solidFill>
              <a:latin typeface="Arial"/>
            </a:endParaRPr>
          </a:p>
        </p:txBody>
      </p:sp>
      <p:sp>
        <p:nvSpPr>
          <p:cNvPr id="108" name=""/>
          <p:cNvSpPr txBox="1"/>
          <p:nvPr/>
        </p:nvSpPr>
        <p:spPr>
          <a:xfrm>
            <a:off x="457200" y="211788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descubrirse nuevas herramientas a lo largo del proces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Pueden surgir nuevas aspiraciones para el map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El mapa puede cambiar desde la visión origin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4000" spc="-1" strike="noStrike">
                <a:solidFill>
                  <a:srgbClr val="cc3300"/>
                </a:solidFill>
                <a:latin typeface="Arial"/>
              </a:rPr>
              <a:t>Creación de Chinchetas Personalizadas</a:t>
            </a:r>
            <a:endParaRPr b="0" lang="en-US" sz="4000" spc="-1" strike="noStrike">
              <a:solidFill>
                <a:srgbClr val="cc3300"/>
              </a:solidFill>
              <a:latin typeface="Arial"/>
            </a:endParaRPr>
          </a:p>
        </p:txBody>
      </p:sp>
      <p:sp>
        <p:nvSpPr>
          <p:cNvPr id="110" name=""/>
          <p:cNvSpPr txBox="1"/>
          <p:nvPr/>
        </p:nvSpPr>
        <p:spPr>
          <a:xfrm>
            <a:off x="228240" y="1676520"/>
            <a:ext cx="4800600" cy="4525920"/>
          </a:xfrm>
          <a:prstGeom prst="rect">
            <a:avLst/>
          </a:prstGeom>
          <a:noFill/>
          <a:ln w="0">
            <a:noFill/>
          </a:ln>
        </p:spPr>
        <p:txBody>
          <a:bodyPr anchor="t">
            <a:normAutofit fontScale="95000"/>
          </a:bodyPr>
          <a:p>
            <a:pPr marL="488520" indent="-48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5f5f5f"/>
                </a:solidFill>
                <a:latin typeface="Arial"/>
              </a:rPr>
              <a:t>Tres etapas, usando Google Maps:</a:t>
            </a:r>
            <a:endParaRPr b="0" lang="en-US" sz="3200" spc="-1" strike="noStrike">
              <a:solidFill>
                <a:srgbClr val="5f5f5f"/>
              </a:solidFill>
              <a:latin typeface="Arial"/>
            </a:endParaRPr>
          </a:p>
          <a:p>
            <a:pPr lvl="1" marL="868680" indent="-488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Seleccionar y posicionar un marcador que designe un punto de interés.</a:t>
            </a:r>
            <a:endParaRPr b="0" lang="en-US" sz="2800" spc="-1" strike="noStrike">
              <a:solidFill>
                <a:srgbClr val="5f5f5f"/>
              </a:solidFill>
              <a:latin typeface="Arial"/>
            </a:endParaRPr>
          </a:p>
          <a:p>
            <a:pPr lvl="1" marL="868680" indent="-488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Asociar datos con chinchetas.</a:t>
            </a:r>
            <a:endParaRPr b="0" lang="en-US" sz="2800" spc="-1" strike="noStrike">
              <a:solidFill>
                <a:srgbClr val="5f5f5f"/>
              </a:solidFill>
              <a:latin typeface="Arial"/>
            </a:endParaRPr>
          </a:p>
          <a:p>
            <a:pPr lvl="1" marL="868680" indent="-488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AR" sz="2800" spc="-1" strike="noStrike">
                <a:solidFill>
                  <a:srgbClr val="5f5f5f"/>
                </a:solidFill>
                <a:latin typeface="Arial"/>
              </a:rPr>
              <a:t>Personalizar las chinchetas.</a:t>
            </a:r>
            <a:endParaRPr b="0" lang="en-US" sz="2800" spc="-1" strike="noStrike">
              <a:solidFill>
                <a:srgbClr val="5f5f5f"/>
              </a:solidFill>
              <a:latin typeface="Arial"/>
            </a:endParaRPr>
          </a:p>
          <a:p>
            <a:pPr marL="488520" indent="-48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488520" indent="-4885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1" name="Picture 4" descr=""/>
          <p:cNvPicPr/>
          <p:nvPr/>
        </p:nvPicPr>
        <p:blipFill>
          <a:blip r:embed="rId1"/>
          <a:stretch/>
        </p:blipFill>
        <p:spPr>
          <a:xfrm>
            <a:off x="5267160" y="2057400"/>
            <a:ext cx="357192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ens</cp:lastModifiedBy>
  <dcterms:modified xsi:type="dcterms:W3CDTF">2010-04-27T09:16:50Z</dcterms:modified>
  <cp:revision>94</cp:revision>
  <dc:subject/>
  <dc:title>Presentacion - Mapeo Participativo Basado en Internet : Creacion de Map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ContentTypeId">
    <vt:lpwstr>0x0101008C84B226A9342E48A609F5C5A1DE5B07</vt:lpwstr>
  </property>
</Properties>
</file>