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ea typeface="Lucida Sans Unicode"/>
              </a:defRPr>
            </a:lvl1pPr>
          </a:lstStyle>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8080"/>
                </a:solidFill>
                <a:latin typeface="Times New Roman"/>
                <a:ea typeface="Lucida Sans Unicode"/>
              </a:rPr>
              <a:t>Apoyo a la difusión de buenas practicas en la generación, la gestión, el análisis y la comunicación de información territorial</a:t>
            </a:r>
            <a:endParaRPr b="0" lang="en-US" sz="1000" spc="-1" strike="noStrike">
              <a:solidFill>
                <a:srgbClr val="000000"/>
              </a:solidFill>
              <a:latin typeface="Times New Roman"/>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67B7-0454-48B7-8DB1-44388CB051F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gregado y modificación de da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vez que el mapa ha sido compartido, las comunidades pueden querer permitir que otros miembros comunitarios o incluso el público en general contribuyan con información adicional. Esto también podrá involucrar a algún tipo de panel de discusión donde quienes visualizan el mapa pueden colocar sus comentarios. Antes de lanzar el mapa, será necesario que los miembros comunitarios decida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ién podrá agregar o modificar dat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ién estará a cargo de supervisar los agregados y modificacion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habrá un límite sobre el monto o tipos de agregados que pueden hac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73D5-9CED-4046-9A99-F7FEDC918AD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Manejo de contenido ofens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crear un mapa que está abierto para contribución y edición comunitarias, es posible que algunas personas puedan agregar contenido que sería ofensivo para otros. A veces, puede ocurrir que este contenido ha sido agregado en forma inapropiada. Sin embargo, otras veces, ítems que pueden parecer perfectamente aceptables para algunos contribuyentes pueden ser considerados inapropiados por otros. Por esta razón, es importante decidir un conjunto de estándares para guiar la naturaleza de las presentaciones y directrices para rechazar potencialmente determinadas contribuci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6017-FBD9-4286-ADFC-1459F9EB2B0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erechos de propiedad intelec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propiedad intelectual se refiere a los derechos que los grupos tienen sobre su propio conocimiento, creencias, prácticas, arte y otras expresiones culturales. A la luz del expansivo acceso a Internet y posteriormente mayores niveles de distribución de estos elementos culturales, muchas comunidades, especialmente, muchos pueblos y grupos indígenas, están preocupándose sobre el uso no autorizado del conocimiento tradicional. Es importante proteger la propiedad intelectual de las comunidades que puedan involucrarse en el proceso de crear un mapa basado en Internet, por razones relacionadas c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Justicia social, por la cual las comunidades son percibidas como poseedoras de un derecho fundamental a controlar la distribución y uso de información vinculada a su identidad colectiv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beneficios que se adquieren de su base de conocimiento cultural. Hay una creencia de que las comunidades indígenas deberían estar recibiendo ganancias financieras que se deriven de su conocimiento. </a:t>
            </a: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C66B1-97CC-4E02-A2E5-311FE16361C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rotección de los intereses loca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Debido a los riesgos asociados con la colocación de material en línea, es importante tomar medidas para asegurarse de que los derechos de miembros comunitarios sobre el conocimiento que aportan sean protegidos. Los intereses de los miembros comunitarios pueden ser protegidos de vulneración sobre la base de conocimientos tradicionales en una serie de formas diferentes. Estas incluye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sociar la información de los legítimos titulares, como por ejemplo, información de nombre y contacto, con los datos que proporcionan. Esta información no necesita ser mostrada en línea junto con los datos, pero podría ser almacenada en una base de datos separada. Independientemente de cómo se haga esto, es importante seguir el rastro de dónde proviene la información y quién posee oficialmente los derechos a dicha base de conocimiento. Estos derechos también podrían ser tenidos colectivamente por grupos, incluyendo comunidades enter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os derechos de los contribuyentes también pueden ser protegidos limitando el acceso o adjuntando algún tipo de declaración que delinee usos aceptables de la información. Estas declaraciones pueden ser mostradas junto con los datos cuando son accedidos por alguien externo a la comunid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os intereses también pueden ser protegidos mediante el establecimiento de políticas relativas al uso de determinados tipos de datos. Esto podrá incluir la exclusión de determinada información que es delicada o que el grupo colectivamente siente que no debería ser compartida públicamente. Estas políticas también podrán necesitar que se otorgue permiso exclusivamente por aquellas personas que puedan ser percibidas como poseedoras de algún tipo de derecho sobre el conocimiento que está siendo mostrado. Esta podría ser una persona o una comunidad entera, dependiendo de la naturaleza de la información que está siendo compartid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7CD68-909A-4A3A-81DE-EBBDF1AEB77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el mapeo basado en Internet puede ser una forma efectiva y económica de documentar y presentar conocimiento territorial comunitario, existe  una serie de riesgos y limitaciones para este método, de los cuales los miembros comunitarios y los profesionales deben ser conscientes antes de invertir en el desarrollo de un sistema de este tipo. Siendo conscientes sobre algunas de las limitaciones, los elaboradores de mapas pueden ser capaces de mitigar potenciales problemas antes de que ocurran. La Unidad tratará algunos de los riesgos y limitaciones relacionados con mapeo participativo basado en Inter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BAF21-A804-45DF-9F72-4D336E00F87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l costo de mostrar datos en forma gratu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Unidades anteriores (M13U01 y M13U02) trataron algunas de las ventajas del mapeo basado en Internet, por ejemplo, el actual bajo costo, un formato que es relativamente fácil de aprender e integración flexible de datos, debería notarse que estos beneficios pueden presentar ciertos inconvenientes también. Estos incluyen un grado de inexactitud, el desafío de trabajar con datos a menudo desactualizados y la incapacidad de realizar análisis territoriales más complejos, como los que se encuentran en los paquetes de Sistemas de la Información Geográfica (SI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el mapeo basado en Internet puede satisfacer las necesidades de mapeo de una comunidad a pesar de estas deficiencias, entonces esas desventajas pueden no ser una preocupación importante. Sin embargo, los miembros comunitarios deben estar en conocimiento de estas limitaciones antes de invertir su tiempo y recursos en el desarrollo de un mapa de Internet y no deberían esperar ser capaces de crear el mismo tipo de producto que podría ser elaborado utilizando herramientas más avanzadas, y a menudo más costo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31B2-CCA6-4D15-9A1F-E45A5FCEBFB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Representación de las perspectivas loc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o con todas las formas del mapeo participativo, resulta importante recordar que las comunidades son raras veces unidades homogéneas con una perspectiva unificada. Por lo tanto, podría surgir el problema de la voz de quién ( y de quien no) de la comunidad está siendo presentada en el mapa. Con el mapeo basado en Internet, este problema se agrava porque la representación del conocimiento territorial es mediada y presentada utilizando niveles de tecnología que generalmente no son entendidos y dominados universalmente por todos los miembros de una comunidad. Es importante evitar una situación en la cual aquellos con habilidades tecnológicas se vuelvan los guardianes del conocimiento de otros miembros de la comunidad. Este es especialmente el caso cuando asumen una función de decisión sobre qué información es incorporada en un mapa y cómo se presenta esa inform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307AF-2DAC-431D-B65F-12C154CA0AF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l riesgo de ex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las tecnologías asociadas con GeoWeb están generalmente acreditadas permitiendo más participación ciudadana en el proceso de mapeo, es posible que determinados miembros de la comunidad puedan ser excluidos si sus perspectivas no se ajustan al punto de vista dominante en la comunidad.  Este es especialmente el caso si son miembros de la sociedad que tradicionalmente no tienen voz, como por ejemplo, mujeres o ni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5203-FF2C-472F-8CBD-498396CD1EC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Tecnocra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las herramientas de GeoWeb están volviéndose más fáciles de usar y son generalmente más fáciles de entender que los SIG tradicionales, todavía pueden presentar una barrera para determinados sectores de la sociedad. El uso de estas herramientas requiere tener acceso a una computadora, que muchas personas no tienen.  Aun en situaciones en las que una comunidad colectivamente tiene una o varias computadoras, el acceso puede no ser igual cuando determinados miembros adquieren más habilidades o se involucran más en el proceso de mapeo. Asimismo, aunque las tecnologías están volviéndose más simples de usar y entender, algunas personas todavía pueden encontrarlas extremadamente complicadas, particularmente si están trabajando con una computadora por primera v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BB93-E74B-4A3C-BF77-28E65D281B3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dministración continua de un mapa d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vez que el mapa haya sido creado y que la información inicial haya sido agregada, probablemente la comunidad querrá continuar agregando puntos y actualizando el mapa. Podrá ser necesario poner a una persona o a un pequeño grupo de personas a cargo de supervisar esto. A la persona que cumple esta función se le denomina moderador.</a:t>
            </a:r>
            <a:r>
              <a:rPr b="0" lang="en-GB" sz="1200" spc="-1" strike="noStrike">
                <a:solidFill>
                  <a:srgbClr val="000000"/>
                </a:solidFill>
                <a:latin typeface="Arial"/>
              </a:rPr>
              <a:t> </a:t>
            </a:r>
            <a:r>
              <a:rPr b="0" lang="es-AR" sz="1200" spc="-1" strike="noStrike">
                <a:solidFill>
                  <a:srgbClr val="000000"/>
                </a:solidFill>
                <a:latin typeface="Arial"/>
              </a:rPr>
              <a:t>El moderador es alguien que estará a cargo de monitorear y subir información que los miembros comunitarios presentan para el mapa. El moderador tendrá una importante tarea en las etapas tempranas y continuadas del proceso de elaboración de mapas. Sin embargo, la naturaleza controladora de esta función podría llevar a una situación en la cual algunos miembros de la comunidad se vuelvan excluidos de agregar su propia información al mapa. Esto puede mitigarse potencialmente mediante el establecimiento de un conjunto de protocolos para crear, presentar y subir información para el ma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99AC2-AAE7-4B4E-AB67-2F708107D4F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rotección de la información en lín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información contenida en un mapa basado en Internet está generalmente disponible para cualquier usuario de la Red Mundial, aunque es posible mantener el mapa en privado, protegiéndolo mediante la autorización de acceso solamente a aquellos usuarios con un nombre de usuario registrado y una contraseña). Dado esto, es importante asegurarse que ninguna información delicada sea incluida en el mapa. Asimismo, todos los contribuyentes del mapa deben ser informados de la forma en la que los datos que proporcionan serán finalmente mostrados y deben confirmar que están cómodos con esto. También es posible hacer determinados aspectos del mapa visibles públicamente, con otros aspectos visibles solamente a miembros que ingresan para visualizar el mapa. </a:t>
            </a:r>
            <a:endParaRPr b="0" lang="en-US"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B69DB-3DE6-40F5-AD4D-780F2A85DA6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ivulg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 haber diferentes requisitos para divulgar los datos, dependiendo de las características del (de los) público (s) para el cual (los cuales) se está elaborando el mapa. Al tratar con comunidades dispersas, debería haber algunos medios de asegurarse que todos los miembros tengan acceso al mapa. Al trabajar con comunidades más pequeñas, el proceso de divulgación puede simplemente involucrar la realización de una reunión de la comunidad durante la cual el mapa se presenta a los miembros comunitari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6F0E5-08E0-431E-9AB5-98E09B83A14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222B8E-40B1-4BE7-B148-5F02D30115D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6A168A59-DE28-4B09-8AAD-28200B153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9A47CEC6-11A2-4E77-87EE-1E53C295C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A189B373-0A47-4939-B716-E11D7DA97A9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E1C4664E-9E99-4BEC-8099-10999D41C4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DBAB15E-8A6A-4A89-AB7B-87C390D82A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8988B90-953B-4355-99E2-CE3A47D16B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63C7C4F-91E4-401E-98E9-8508CE474F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CC190C8-1D06-4DD0-94EC-F31B7E1BC3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2CDC8A7E-2EF0-4C16-847B-7C8C7FDB67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D527FD9-90CE-431A-B0B4-21E4618C1C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E97B3642-CC4D-4677-ACB0-3E87C8894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5E08C0C-DD25-4FE2-BC2B-F71C7335FF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D023C6F-BD9B-49E5-BD12-D89B4979D3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5A69E71-AABE-49F8-A316-89F853E743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50F4E003-52E5-4DEB-B4A9-01E1C54966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5C57FE77-B0C4-42E7-B100-B5C2116ED2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22C27952-D29E-4E92-8D7D-40951FE3B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B1E15C9A-F18E-445C-BE02-44B2474E7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E0DA6990-47ED-413A-B461-0B5EF3ED0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A80EDE99-E449-4F25-BB0A-CAC1A423C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627BE97-C6A3-4BCB-AB73-B54DC3B5C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4389F56-EAE9-4302-9776-532D9C5D7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0CA16071-7E29-4F78-88C2-B6FDE8D103B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2BCF-F2F7-44A5-B48A-F1131DE207B0}"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1BCF3-F71F-4900-A9F4-F635B19B9C28}"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peo Participativo Basado en Internet</a:t>
            </a:r>
            <a:endParaRPr b="0" lang="en-US" sz="4400" spc="-1" strike="noStrike">
              <a:solidFill>
                <a:srgbClr val="cc3300"/>
              </a:solidFill>
              <a:latin typeface="Arial"/>
            </a:endParaRPr>
          </a:p>
        </p:txBody>
      </p:sp>
      <p:sp>
        <p:nvSpPr>
          <p:cNvPr id="90" name="PlaceHolder 2"/>
          <p:cNvSpPr>
            <a:spLocks noGrp="1"/>
          </p:cNvSpPr>
          <p:nvPr>
            <p:ph type="subTitle"/>
          </p:nvPr>
        </p:nvSpPr>
        <p:spPr>
          <a:xfrm>
            <a:off x="1382760" y="3914280"/>
            <a:ext cx="6400800" cy="838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969696"/>
                </a:solidFill>
                <a:latin typeface="Arial"/>
              </a:rPr>
              <a:t>Riesgos y Limitaciones</a:t>
            </a:r>
            <a:endParaRPr b="0" lang="en-US" sz="3200" spc="-1" strike="noStrike">
              <a:solidFill>
                <a:srgbClr val="5f5f5f"/>
              </a:solidFill>
              <a:latin typeface="Arial"/>
            </a:endParaRPr>
          </a:p>
        </p:txBody>
      </p:sp>
      <p:sp>
        <p:nvSpPr>
          <p:cNvPr id="91" name="Rectangle 4"/>
          <p:cNvSpPr/>
          <p:nvPr/>
        </p:nvSpPr>
        <p:spPr>
          <a:xfrm>
            <a:off x="2703240" y="5157720"/>
            <a:ext cx="37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Jon Corbett y Kasondra White</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13U03</a:t>
            </a:r>
            <a:endParaRPr b="0" lang="en-US" sz="1800" spc="-1" strike="noStrike">
              <a:solidFill>
                <a:srgbClr val="000000"/>
              </a:solidFill>
              <a:latin typeface="Arial"/>
            </a:endParaRPr>
          </a:p>
        </p:txBody>
      </p:sp>
      <p:pic>
        <p:nvPicPr>
          <p:cNvPr id="93"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Agregado y Modificación de Datos</a:t>
            </a:r>
            <a:endParaRPr b="0" lang="en-US" sz="4000" spc="-1" strike="noStrike">
              <a:solidFill>
                <a:srgbClr val="cc33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ermitir o no contribuciones adiciona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aneles de discus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ién podrá agregar o modificar dat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ién supervisará est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Habrá alguna restricció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nejo de Contenido Ofensivo</a:t>
            </a:r>
            <a:endParaRPr b="0" lang="en-US" sz="4400" spc="-1" strike="noStrike">
              <a:solidFill>
                <a:srgbClr val="cc33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lgunos contenidos podrían ofender a otras person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to puede ser intencional o no intencion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 importante decidir un conjunto de estándar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Derechos de Propiedad Intelectual</a:t>
            </a:r>
            <a:endParaRPr b="0" lang="en-US" sz="4000" spc="-1" strike="noStrike">
              <a:solidFill>
                <a:srgbClr val="cc3300"/>
              </a:solidFill>
              <a:latin typeface="Arial"/>
            </a:endParaRPr>
          </a:p>
        </p:txBody>
      </p:sp>
      <p:sp>
        <p:nvSpPr>
          <p:cNvPr id="115" name=""/>
          <p:cNvSpPr txBox="1"/>
          <p:nvPr/>
        </p:nvSpPr>
        <p:spPr>
          <a:xfrm>
            <a:off x="457200" y="1341000"/>
            <a:ext cx="8229600" cy="4784760"/>
          </a:xfrm>
          <a:prstGeom prst="rect">
            <a:avLst/>
          </a:prstGeom>
          <a:noFill/>
          <a:ln w="0">
            <a:noFill/>
          </a:ln>
        </p:spPr>
        <p:txBody>
          <a:bodyPr anchor="t">
            <a:normAutofit fontScale="91000"/>
          </a:bodyPr>
          <a:p>
            <a:pPr marL="312120" indent="-3121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rechos que los grupos tienen sobre su propio:</a:t>
            </a:r>
            <a:endParaRPr b="0" lang="en-US" sz="3200" spc="-1" strike="noStrike">
              <a:solidFill>
                <a:srgbClr val="5f5f5f"/>
              </a:solidFill>
              <a:latin typeface="Arial"/>
            </a:endParaRPr>
          </a:p>
          <a:p>
            <a:pPr lvl="1" marL="676080" indent="-25992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Conocimiento</a:t>
            </a:r>
            <a:endParaRPr b="0" lang="en-US" sz="2400" spc="-1" strike="noStrike">
              <a:solidFill>
                <a:srgbClr val="5f5f5f"/>
              </a:solidFill>
              <a:latin typeface="Arial"/>
            </a:endParaRPr>
          </a:p>
          <a:p>
            <a:pPr lvl="1" marL="676080" indent="-25992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Creencias</a:t>
            </a:r>
            <a:endParaRPr b="0" lang="en-US" sz="2400" spc="-1" strike="noStrike">
              <a:solidFill>
                <a:srgbClr val="5f5f5f"/>
              </a:solidFill>
              <a:latin typeface="Arial"/>
            </a:endParaRPr>
          </a:p>
          <a:p>
            <a:pPr lvl="1" marL="676080" indent="-25992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Prácticas</a:t>
            </a:r>
            <a:endParaRPr b="0" lang="en-US" sz="2400" spc="-1" strike="noStrike">
              <a:solidFill>
                <a:srgbClr val="5f5f5f"/>
              </a:solidFill>
              <a:latin typeface="Arial"/>
            </a:endParaRPr>
          </a:p>
          <a:p>
            <a:pPr lvl="1" marL="676080" indent="-25992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Arte</a:t>
            </a:r>
            <a:endParaRPr b="0" lang="en-US" sz="2400" spc="-1" strike="noStrike">
              <a:solidFill>
                <a:srgbClr val="5f5f5f"/>
              </a:solidFill>
              <a:latin typeface="Arial"/>
            </a:endParaRPr>
          </a:p>
          <a:p>
            <a:pPr lvl="1" marL="676080" indent="-25992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Otras expresiones culturales.</a:t>
            </a:r>
            <a:endParaRPr b="0" lang="en-US" sz="2400" spc="-1" strike="noStrike">
              <a:solidFill>
                <a:srgbClr val="5f5f5f"/>
              </a:solidFill>
              <a:latin typeface="Arial"/>
            </a:endParaRPr>
          </a:p>
          <a:p>
            <a:pPr marL="312120" indent="-3121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 importante la protección por razones relacionadas con:</a:t>
            </a:r>
            <a:endParaRPr b="0" lang="en-US" sz="3200" spc="-1" strike="noStrike">
              <a:solidFill>
                <a:srgbClr val="5f5f5f"/>
              </a:solidFill>
              <a:latin typeface="Arial"/>
            </a:endParaRPr>
          </a:p>
          <a:p>
            <a:pPr lvl="1" marL="676080" indent="-25992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Justicia social</a:t>
            </a:r>
            <a:endParaRPr b="0" lang="en-US" sz="2400" spc="-1" strike="noStrike">
              <a:solidFill>
                <a:srgbClr val="5f5f5f"/>
              </a:solidFill>
              <a:latin typeface="Arial"/>
            </a:endParaRPr>
          </a:p>
          <a:p>
            <a:pPr lvl="1" marL="676080" indent="-25992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Distribución justa de los beneficios.</a:t>
            </a:r>
            <a:endParaRPr b="0" lang="en-US" sz="2400" spc="-1" strike="noStrike">
              <a:solidFill>
                <a:srgbClr val="5f5f5f"/>
              </a:solidFill>
              <a:latin typeface="Arial"/>
            </a:endParaRPr>
          </a:p>
          <a:p>
            <a:pPr lvl="2" marL="1040040" indent="-2077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Protección de los Intereses Locales</a:t>
            </a:r>
            <a:endParaRPr b="0" lang="en-US" sz="4000" spc="-1" strike="noStrike">
              <a:solidFill>
                <a:srgbClr val="cc3300"/>
              </a:solidFill>
              <a:latin typeface="Arial"/>
            </a:endParaRPr>
          </a:p>
        </p:txBody>
      </p:sp>
      <p:sp>
        <p:nvSpPr>
          <p:cNvPr id="117" name=""/>
          <p:cNvSpPr txBox="1"/>
          <p:nvPr/>
        </p:nvSpPr>
        <p:spPr>
          <a:xfrm>
            <a:off x="457200" y="1268280"/>
            <a:ext cx="8229600" cy="4857840"/>
          </a:xfrm>
          <a:prstGeom prst="rect">
            <a:avLst/>
          </a:prstGeom>
          <a:noFill/>
          <a:ln w="0">
            <a:noFill/>
          </a:ln>
        </p:spPr>
        <p:txBody>
          <a:bodyPr anchor="t">
            <a:normAutofit fontScale="97000"/>
          </a:bodyPr>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intereses pueden ser protegidos mediante: </a:t>
            </a:r>
            <a:endParaRPr b="0" lang="en-US" sz="32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lmacenamiento de la información de los legítimos poseedores junto con sus contribuciones;</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imitación del acceso a datos;</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elineación de usos aceptables de datos;</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xclusión de información delicada; </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oporcionando solamente a los miembros de la comunidad acceso a material más delicado.</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a:t>
            </a:r>
            <a:endParaRPr b="0" lang="en-US" sz="4400" spc="-1" strike="noStrike">
              <a:solidFill>
                <a:srgbClr val="cc3300"/>
              </a:solidFill>
              <a:latin typeface="Arial"/>
            </a:endParaRPr>
          </a:p>
        </p:txBody>
      </p:sp>
      <p:sp>
        <p:nvSpPr>
          <p:cNvPr id="95" name=""/>
          <p:cNvSpPr txBox="1"/>
          <p:nvPr/>
        </p:nvSpPr>
        <p:spPr>
          <a:xfrm>
            <a:off x="457200" y="1428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r consciente de las limitacion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itigar los problem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presentar las perspectivas loca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dministrar el map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oteger la información en líne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rechos de propiedad intelectual.</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l Costo de Mostrar Datos en Forma Gratuita</a:t>
            </a:r>
            <a:endParaRPr b="0" lang="en-US" sz="4400" spc="-1" strike="noStrike">
              <a:solidFill>
                <a:srgbClr val="cc3300"/>
              </a:solidFill>
              <a:latin typeface="Arial"/>
            </a:endParaRPr>
          </a:p>
        </p:txBody>
      </p:sp>
      <p:sp>
        <p:nvSpPr>
          <p:cNvPr id="97" name=""/>
          <p:cNvSpPr txBox="1"/>
          <p:nvPr/>
        </p:nvSpPr>
        <p:spPr>
          <a:xfrm>
            <a:off x="457200" y="18320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atos inexactos y desactualizad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capacidad de realizar análisis territoriales complej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desventajas pueden no ser preocupant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No esperar un producto más sofistica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Representación de las Perspectivas Locales</a:t>
            </a:r>
            <a:endParaRPr b="0" lang="en-US" sz="4000" spc="-1" strike="noStrike">
              <a:solidFill>
                <a:srgbClr val="cc3300"/>
              </a:solidFill>
              <a:latin typeface="Arial"/>
            </a:endParaRPr>
          </a:p>
        </p:txBody>
      </p:sp>
      <p:sp>
        <p:nvSpPr>
          <p:cNvPr id="99" name=""/>
          <p:cNvSpPr txBox="1"/>
          <p:nvPr/>
        </p:nvSpPr>
        <p:spPr>
          <a:xfrm>
            <a:off x="457200" y="19749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comunidades son raras veces homogéne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voz de quién está siendo presentad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tecnología no es entendida universalmen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iénes son los guardianes del conocimiento loc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l Riesgo de Exclusión</a:t>
            </a:r>
            <a:endParaRPr b="0" lang="en-US" sz="4400" spc="-1" strike="noStrike">
              <a:solidFill>
                <a:srgbClr val="cc33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clusión de perspectivas atípic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lgunas personas pueden no tener voz:</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ujer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Niñ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ncian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nfermos o minusválido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Tecnocracia</a:t>
            </a:r>
            <a:endParaRPr b="0" lang="en-US" sz="4400" spc="-1" strike="noStrike">
              <a:solidFill>
                <a:srgbClr val="cc33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tecnología puede ser una barrera para algun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cceso a una computadora y conexión a Interne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acceso puede no ser igual dentro de la comunida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tendimiento de las habilidades informáticas básica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dministración de un Mapa basado en Internet</a:t>
            </a:r>
            <a:endParaRPr b="0" lang="en-US" sz="4400" spc="-1" strike="noStrike">
              <a:solidFill>
                <a:srgbClr val="cc33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gregados y actualizaciones futur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ién estará a carg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odría ser excluyen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tablecimiento de protocolos para: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reación de contenid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esentación de informació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ctualización de dato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c3300"/>
                </a:solidFill>
                <a:latin typeface="Arial"/>
              </a:rPr>
              <a:t>Protección de Información en Línea</a:t>
            </a:r>
            <a:endParaRPr b="0" lang="en-US" sz="4000" spc="-1" strike="noStrike">
              <a:solidFill>
                <a:srgbClr val="cc33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datos están a menudo disponibles para cualquier usuario de Interne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n estar protegidos por una contraseñ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vitar mostrar información delicad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contribuyentes deben estar de acuerdo en que sus contribuciones sean mostradas en líne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ivulgación</a:t>
            </a:r>
            <a:endParaRPr b="0" lang="en-US" sz="4400" spc="-1" strike="noStrike">
              <a:solidFill>
                <a:srgbClr val="cc3300"/>
              </a:solidFill>
              <a:latin typeface="Arial"/>
            </a:endParaRPr>
          </a:p>
        </p:txBody>
      </p:sp>
      <p:sp>
        <p:nvSpPr>
          <p:cNvPr id="109" name=""/>
          <p:cNvSpPr txBox="1"/>
          <p:nvPr/>
        </p:nvSpPr>
        <p:spPr>
          <a:xfrm>
            <a:off x="395280" y="2133360"/>
            <a:ext cx="8229600" cy="33001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ara quién se elabora el map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ratamiento con comunidades dispers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esentación del mapa a miembros comunitario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tens</cp:lastModifiedBy>
  <dcterms:modified xsi:type="dcterms:W3CDTF">2010-04-27T09:31:28Z</dcterms:modified>
  <cp:revision>30</cp:revision>
  <dc:subject/>
  <dc:title>Presentacion - Mapeo Participativo Basado en Internet : Riesgos y Limit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ContentTypeId">
    <vt:lpwstr>0x0101008C84B226A9342E48A609F5C5A1DE5B07</vt:lpwstr>
  </property>
</Properties>
</file>