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8080"/>
                </a:solidFill>
                <a:latin typeface="Times New Roman"/>
              </a:rPr>
              <a:t>Apoyo a la difusión de buenas prácticas en la generación, la gestión, el análisis y la comunicación de información territorial</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D0669-8B93-48E6-AC29-D1BE0B28382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ntrevis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entrevista es un diálogo entre dos o más personas con el fin de explorar un tema o asunto específico o proporcionar ideas sobre un tema amplio. Las entrevistas generalmente involucran a un entrevistador (que hace preguntas) y un entrevistado (que responde). Las entrevistas son intrínsecas en todos los demás métodos de documentación discutidos en esta sec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tender algunos de los estilos de entrevista más populares resulta útil para reconocer cómo pueden ser usados para proyectos de mapeo participativ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Grupos foc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 grupo focal es una entrevista que se lleva a cabo con un grupo de personas para discutir un tema de interés. El tipo de información obtenida a través de entrevistas de grupos focales puede recordar aquella obtenida en una sesión de lluvia de ideas. Por esta razón, los grupos focales son particularmente útiles para determinar objetivos y diseño del proyecto. Por otra parte, un grupo focal puede no ser la mejor elección si se desea información detallada sobre un tema específico. Eso puede ser obtenido más fácilmente en una entrevista personal con una persona que entiende el te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ntrevistas estructura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s entrevistas estructuradas se llevan a cabo entre un entrevistador y uno o más entrevistados. Involucran una discusión que se encuentra enmarcada por una serie de preguntas predeterminadas. Este enfoque es más útil para investigar un tema específico que los miembros comunitarios podrían entender en forma diferente. Debería ser usado para preguntas más exploratoria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ntrevistas semiestructura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s entrevistas semiestructuradas utilizan determinados componentes del proceso de entrevista estructurada: el entrevistador viene preparado con una serie de preguntas o temas de discusión. Sin embargo, la entrevista puede desviarse de la programación de la entrevista. Generalmente es positivo registrar entrevistas semiestructuradas al explorar la gama de conocimiento relativa a un tema en particul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ntrevistas no estructura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entrevista no estructurada comienza con la premisa de que el entrevistador no conoce los temas más importantes de discusión. Por lo tanto, no se guía por una programación de entrevista, sino por el flujo natural de la conversación entre el entrevistador y el entrevistado. El entrevistador interroga al entrevistado en base a las cosas que se dicen y en áreas donde se desea mayor detalle o aclar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Fotograf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uso de fotografías sirve para mejorar la estética y el contenido de un mapa participativo, especialmente si es un mapa digital. Las personas, los lugares, los objetos o eventos pueden ser fotografiados por miembros comunitarios y otras personas involucradas en el proyecto de mapeo y agregados al mapa. Las fotos o imágenes históricas de las colecciones personales de los miembros comunitarios también pueden ser incluidas. Dependiendo de las técnicas de mapeo que se usen, las fotografías pueden incluso servir como la forma primaria de transmitir el conocimiento local, complementado con texto o palabras hablad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Video participa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filmación es una herramienta poderosa para transmitir eventos, sentimientos o los temas diarios que caracterizan la vida en un lugar en particular. Mediante el uso de la filmación, los miembros comunitarios son capaces de demostrar acciones, prácticas o creencias relacionadas con la tierra que pueden requerir muchas palabras para su explicación. Asimismo, la filmación es una gran ecualizadora porque las ideas pueden ser transmitidas entre grupos que pueden no compartir el mismo idioma escrito o hablado. Aunque existen ciertos costos asociados con el uso de video participativo, por ejemplo, los costos del equipo  y la cantidad de tiempo que lleva capacitar a aquellos que no están familiarizados con estas herramientas, la filmación puede mejorar un mapa comunitario mediante la documentación de las formas en que las personas interactúan entre sí y la tier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lección de métodos de document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 base a los criterios que anteceden, existe una </a:t>
            </a:r>
            <a:r>
              <a:rPr b="0" lang="es-AR" sz="1200" spc="-1" strike="noStrike">
                <a:solidFill>
                  <a:srgbClr val="000000"/>
                </a:solidFill>
                <a:latin typeface="Arial"/>
                <a:ea typeface="Times New Roman"/>
              </a:rPr>
              <a:t>serie de preguntas que los  cartógrafos deberían hacerse antes de elegir el proceso de elaboración de mapas y las formas en las que documentarán el conocimiento local. Es importante recordar que uno no necesita elegir a una única técnica sino que múltiples estilos de documentación pueden ser usados para mejorar el proyecto. La siguiente lista sirve como guía para los tipos de preguntas que podrían ser hechas al comienzo de un proye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Cómo será mostrado el mapa, por ejemplo, papel, modelo, digita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Cuánto tiempo hay disponibl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Cuanto tiempo puede ser dedicado al proceso de documentación real y cuánto a la capacit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Cuál es el presupuesto? ¿Hay oportunidades para financiamiento adiciona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Cuáles son los costos de los diferentes estilos de documentación que están siendo considerad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Cuál es el rol que los miembros comunitarios tienen en el proceso de document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Qué estilos de documentación son más aceptables dentro de la comunida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Qué técnicas de documentación satisfacen mejor los objetivos del proyecto que han sido delineados por la comunida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ocumentación es un término genérico que hace referencia al proceso y a las  herramientas para recolectar y registrar información. Existe una variedad de métodos de documentación que emplean componentes visuales y auditivos, los cuales transmiten la relevancia y el significado del material que se recolecta. Estos incluyen texto, video, audio o una combinación de medi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 Unidad incluye una revisión de enfoques de la recolección y documentación de información, incluyendo observación, toma de notas y realización de entrevistas. Aborda las preguntas de porqué es necesaria la documentación, cómo y cuándo debería ser llevada a cabo, qué técnicas deberían ser usadas y para quién y por quién deberían registrarse los datos. Así también, identifica los requerimientos específicos para la documentación de los procesos de creación de un mapa participativo y para la recolección del conocimiento local. Finalmente, se discuten los requisitos éticos relativos a la documentación, incluyendo la obtención del consentimiento previo y los formularios de exoneración de los miembros comunitarios (Esto se vinculará al Módulo 02 – Actitudes, Comportamientos y Ét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Limitaciones de tiempo y financi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Todos los programas finalmente operan bajo limitaciones de tiempo y financiamiento. Dependiendo de qué necesita lograrse dentro de estas limitaciones, determinados procesos y técnicas de documentación pueden ser más apropiados que otros. Puede y probablemente debería emplearse una combinación de técnicas, de manera que las técnicas sean complementarias entre sí y permitan que el proyecto avance dentro de sus limitaciones de tiempo y financiamient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Un elemento adicional para considerar es la cantidad de asistencia que será utilizada de la comunidad.  Aunque utilizar ayuda de los miembros comunitarios podría permitir que se registre más conocimiento dentro de un período de tiempo más breve, el proceso de capacitar miembros comunitarios también debe ser considerado. Sin embargo, el componente de capacitación puede ser expresado como un objetivo en y de por sí, con el beneficio agregado de permitir mayor compromiso comunitario y aportes mientras se permite a los actores refinar determinadas habilidades, que podrían ser compartidas en toda la comunidad.</a:t>
            </a: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Requisitos éticos de la docum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El consentimiento libre, previo e informado (CLPI) reconoce los derechos inherentes y previos de una comunidad a sus tierras y recursos y respeta su autoridad legítima de exigir que terceros mantengan una relación igual y respetuosa con la misma, en base al principio de consentimiento informado. El proceso de CLPI se refiere al diálogo, al compartir información y el proceso general a través del cual los miembros comunitarios eligen participar en un proyecto. Al ser debidamente implementado, el proceso CLPI asegura que las comunidades y los individuos sean participantes voluntariamente con un conocimiento amplio de los riesgos y beneficios relevan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En iniciativas de mapeo participativo que sean iniciadas por partes externas, el CLPI incluye asegurar que los miembros comunitarios tengan un entendimiento claro 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El objetivo de la iniciativa y la duración y procedimientos esperad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El derecho a negarse a participar y retirarse de la iniciativa y las consecuencias previstas de hacerl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Los factores que pueden influenciar la voluntad de participar, como riesgos potenciales o efectos advers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Un entendimiento de los potenciales benefici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La forma en que la información territorial que los miembros comunitarios proporcionan es registrada, usada, archivada y posiblemente reutilizada.</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A quién contactar por pregunt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Al documentar iniciativas de mapeo, aplicar un proceso participativo no garantiza que los materiales registrados sean una representación auténtica de los valores y deseos de una comunidad. El mapeo participativo puede, en algunos casos, ser aplicado incorrectamente para que sea un ejercicio extractivo de explotación de datos en vez de un esfuerzo de empoderamiento genuino. Esos potenciales riesgos necesitan ser comunicados a la comunidad al comienzo del proyecto, aunque esto pudiera influenciar la voluntad de la comunidad de dedicarse al proyect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Formularios de exoner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Los entrevistadores siempre deberían pedir permiso al entrevistado para compartir la información y materiales creados durante entrevistas y programas de mapeo participativo. En principio, la autorización debería ser dada por escrito, utilizando un documento preparado denominado “formulario de exoneración o consentimiento”. Esto es particularmente importante si los materiales se utilizan en un foro público, como por ejemplo, presentaciones en línea, publicaciones impresas o documentales, etc.</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Los entrevistados firman un formulario de exoneración escrito para indicar su conocimiento de los objetivos del proyecto y su voluntad de permitir que su material registrado sea utilizado en programas establecidos o con otros fines. Los formularios de exoneración pueden ser específicos, como la autorización para utilizar la imagen de una persona en un video o pueden ser amplios, de manera de permitir que la documentación pueda ser usada en formas imposibles de prever en el momento de la entrevis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En general, no se necesita un formulario de exoneración en casos en que las personas están participando en eventos públicos, como por ejemplo, una fotografía de un gran grupo de personas mirando un MP3D o bailando en un festival. Sin embargo, se debe ser cuidadoso al fotografiar o registrar a artistas profesionales participando en eventos en escena; muchos artistas profesionales no permiten dicha documentación sin su consentimiento</a:t>
            </a: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daptado de “Folklife and Fieldwork: A Layman’s Introduction to Field Techniques”. Primera Edición Preparada en 1979 por Peter Bartis. Revisada en 2002 Library of Congress, Washington D.C.</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La necesidad de la document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documentación es importante por una serie de razones. Genera material que puede ser usado pa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formar y apoyar el producto de mapeo de una comunidad. A largo plazo, el material referido al conocimiento local podría volverse útil en el archivo de y podría tener usos más allá de su objetivo de mapeo origina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antener un registro de actividades y eventos durante toda la duración de un proyecto de mapeo, lo que puede ser útil en la evaluación del proyecto y para proporcionar a las partes interesadas contribuciones sobre el progreso de un proyecto; por ejemplo, al gobierno y financiadores</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La función de los miembros comunit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be considerarse cuidadosamente qué se documenta, los métodos usados para documentación y quién identifica y registra este material. Aunque los miembros de la comunidad adopten una función prominente en el proceso de documentación, es probable que las personas fuera de la comunidad también se involucren, generalmente en una función de facilitación o capacitación. Los materiales y métodos que se identifican para la documentación deberían insertarse dentro de los objetivos del proyecto y dentro de los intereses y la aprobación de los miembros comunitarios. Si bien  determinadas personas, como por ejemplo, líderes comunitarios o aquellos que actúan como autoridad en un tema específico, pueden tener una función mayor en el proceso de documentación, deberían buscarse aportes de la comunidad entera sobre los materiales a ser registrados y los enfoques preferidos para la documentación, siempre que sea posible.</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obablemente será necesario incorporar formas locales de expresar conocimiento al considerar la función que los miembros comunitarios tendrán en el proyecto. Esto podrá afectar la adecuación de determinados estilos de documentación, dependiendo de la capacidad de ciertas técnicas de representar el conocimiento local en forma que sea significativa para los miembros comunit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serie de factores culturales dan forma a la manera en que el componente de documentación de un proyecto de mapeo se desarrolla. Por ejemplo, las discusiones grupales pueden evitar que miembros menos elocuentes de la comunidad se involucren o el uso de fotografía o video puede inadvertidamente limitar el involucramiento de participantes que no se sientan cómodos con que su imagen sea tomada. Los métodos de documentación deberían ser sensibles a la conveniencia cultural y los sentimientos personales. Además, deben  reconocer y responder  a los desequilibrios de poder que pueden existir dentro de la comu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facilitadores del proyecto necesitan entender que determinados estilos de documentación llevan a mayor inclusión que otros y que múltiples enfoques y métodos pueden requerirse para obtener aportes de un amplio espectro de miembros comunitarios. Una forma de comenzar a pensar sobre esto es preguntándose cómo está formado el equipo de documentación. Debería comprender a partes externas y miembros comunitarios, mujeres y hombres, jóvenes, personas de mediana edad y ancianos, ricos y pobres y a aquellas personas de diferentes grupos étnicos de dentro de la comun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Métodos de docum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serie de técnicas pueden ser empleadas en forma individual o combinadas entre sí para documentar conocimiento local y/o el proceso de mapeo participativo. Un panorama general de estos estilos de documentación proporciona un punto de comienzo útil para determinar qué métodos son más apropiados para un determinado proye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Archivo y revisión de literat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 menudo resulta útil la revisión de informes, estudios, videos, fotografías, mapas y otros documentos que hayan sido creados con respecto al área y/o comunidad en cuestión, antes de dedicarse a un ejercicio de mapeo comunitario. La recolección de información en esta forma involucra la recolección y organización de ítems, como por ejemplo, materiales de archivo, informes y demás literatura o registros publicados. Este paso es importante para evitar duplicar material y gastar tiempo de los miembros comunitarios que podrían haber proporcionado esta información antes. Sin embargo, también es importante que los miembros comunitarios validen este material antes de aplicarlo al map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Observación y toma de no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cuchar y mirar son fundamentales para el proceso de utilizar la observación como medio de documentar conocimiento local. La observación involucra prestar atención a las cosas que las personas están haciendo y diciendo, incluyendo las formas en que hacen uso de espacios privados y públicos y las sugerencias que hacen con respecto al propio proceso de mape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observadores necesitar ser concientes de la parcialidad, o “ver lo que esperamos ver”. En otras palabras, tenemos una noción preconcebida de lo que está sucediendo, de manera que nuestras observaciones están distorsionadas por nuestro propio entendimiento limitado de los event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observadores también necesitan ser imparciales al sacar conclusiones definitivas sobre determinados eventos. En particular, necesitamos evitar la subjetividad y “ver lo que queremos ver”. Este puede ser el caso especialmente al evaluar proyectos que los observadores quieren que parezcan exitosos porque los eventos pueden ser mal interpretados, conciente o inconcientemente, para satisfacer mejor los propios requis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s notas de campo son importantes no solamente para registrar observaciones directas, sino también para documentar procedimientos que se emplean e ideas que surgen alrededor de los mismos. Mantener notas de campo bien organizadas y detalladas resulta necesario incluso para proyectos que no se basan en la observación y en la toma de notas como un método primario de docum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E247F6-90EE-4E81-935C-8D1A477F0BF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53AA1A24-AC4A-4548-B6D9-B5AD864A9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E736370D-820D-4D85-92BF-7A127FD38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84788BB6-627C-497E-8145-49DCD931E87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1B1D9108-59B3-4EA5-BE72-574EEBBF38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9ED01A45-B93D-4CCA-9967-693BB142C9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993C99DB-81EE-4C8C-811F-22D05954EF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509F4A37-A249-4273-A234-4709921238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3F0DCDDB-768E-4297-9769-C9EAA6EE9D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FCB88401-CEBF-4C47-BFAD-5459D35462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F1D61C8-177B-472A-A7A8-EA330AF701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8ACDA9DA-9285-4102-854F-B82704363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31F4AE05-44F7-4AA2-8825-C765E2FCAC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81BE5C97-0EE6-4195-855C-9C02B628F6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2BA451C1-6431-41A1-9EF2-9DC3BB88BA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B6BAE3F2-55CF-4419-8E13-6EC6930B51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7B302239-F12F-4FEE-92CF-BCA63191F3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D0AA60E3-4212-4900-8CF6-590E2331D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EBBC9AE0-3593-48EB-B75F-CB3E0028E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C6071D91-33AD-4DBD-823C-40EC8185A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1CBD2D7C-C16D-43B4-A695-913112B1C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5BF298FE-EC61-43F7-BCAC-A9650378C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EC970F31-8B5B-4695-911D-9D3F77A34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424E7AAD-1C87-4358-A705-A10CF30797A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218BD-4DEC-4C18-813C-586070F286F2}"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1" name="Picture 10" descr="cc_license_by-nc-sa"/>
          <p:cNvPicPr/>
          <p:nvPr/>
        </p:nvPicPr>
        <p:blipFill>
          <a:blip r:embed="rId2"/>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23E3D-4A75-499C-89BB-1558A0DD87B2}"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Documentación</a:t>
            </a:r>
            <a:endParaRPr b="0" lang="en-US" sz="4400" spc="-1" strike="noStrike">
              <a:solidFill>
                <a:srgbClr val="cc3300"/>
              </a:solidFill>
              <a:latin typeface="Arial"/>
            </a:endParaRPr>
          </a:p>
        </p:txBody>
      </p:sp>
      <p:sp>
        <p:nvSpPr>
          <p:cNvPr id="90"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969696"/>
                </a:solidFill>
                <a:latin typeface="Arial"/>
              </a:rPr>
              <a:t>Introducción a la Documentación</a:t>
            </a:r>
            <a:endParaRPr b="0" lang="en-US" sz="3200" spc="-1" strike="noStrike">
              <a:solidFill>
                <a:srgbClr val="5f5f5f"/>
              </a:solidFill>
              <a:latin typeface="Arial"/>
            </a:endParaRPr>
          </a:p>
        </p:txBody>
      </p:sp>
      <p:sp>
        <p:nvSpPr>
          <p:cNvPr id="91" name="Rectangle 4"/>
          <p:cNvSpPr/>
          <p:nvPr/>
        </p:nvSpPr>
        <p:spPr>
          <a:xfrm>
            <a:off x="2931840" y="5157720"/>
            <a:ext cx="370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69696"/>
                </a:solidFill>
                <a:latin typeface="Arial"/>
              </a:rPr>
              <a:t>Por: Jon Corbett y Kasondra White</a:t>
            </a:r>
            <a:endParaRPr b="0" lang="en-US" sz="1800" spc="-1" strike="noStrike">
              <a:solidFill>
                <a:srgbClr val="000000"/>
              </a:solidFill>
              <a:latin typeface="Arial"/>
            </a:endParaRPr>
          </a:p>
        </p:txBody>
      </p:sp>
      <p:sp>
        <p:nvSpPr>
          <p:cNvPr id="92"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f5f5f"/>
                </a:solidFill>
                <a:latin typeface="Arial"/>
              </a:rPr>
              <a:t>Unidad: M14U01</a:t>
            </a:r>
            <a:endParaRPr b="0" lang="en-US" sz="1800" spc="-1" strike="noStrike">
              <a:solidFill>
                <a:srgbClr val="000000"/>
              </a:solidFill>
              <a:latin typeface="Arial"/>
            </a:endParaRPr>
          </a:p>
        </p:txBody>
      </p:sp>
      <p:pic>
        <p:nvPicPr>
          <p:cNvPr id="93"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ntrevistas</a:t>
            </a:r>
            <a:endParaRPr b="0" lang="en-US" sz="4400" spc="-1" strike="noStrike">
              <a:solidFill>
                <a:srgbClr val="cc3300"/>
              </a:solidFill>
              <a:latin typeface="Arial"/>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iálogo entre dos o más person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Grupos focal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ntrevistas estructurad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ntrevistas semiestructurad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ntrevistas no estructurada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Grupos Focales: Fortalezas y Debilidades</a:t>
            </a:r>
            <a:endParaRPr b="0" lang="en-US" sz="4000" spc="-1" strike="noStrike">
              <a:solidFill>
                <a:srgbClr val="cc3300"/>
              </a:solidFill>
              <a:latin typeface="Arial"/>
            </a:endParaRPr>
          </a:p>
        </p:txBody>
      </p:sp>
      <p:graphicFrame>
        <p:nvGraphicFramePr>
          <p:cNvPr id="113" name=""/>
          <p:cNvGraphicFramePr/>
          <p:nvPr/>
        </p:nvGraphicFramePr>
        <p:xfrm>
          <a:off x="457200" y="1938240"/>
          <a:ext cx="8229600" cy="3206880"/>
        </p:xfrm>
        <a:graphic>
          <a:graphicData uri="http://schemas.openxmlformats.org/drawingml/2006/table">
            <a:tbl>
              <a:tblPr/>
              <a:tblGrid>
                <a:gridCol w="4114800"/>
                <a:gridCol w="4114800"/>
              </a:tblGrid>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c00000"/>
                          </a:solidFill>
                          <a:latin typeface="Arial"/>
                        </a:rPr>
                        <a:t>Fortalez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c00000"/>
                          </a:solidFill>
                          <a:latin typeface="Arial"/>
                        </a:rPr>
                        <a:t>Debilid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2837160">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Solución de problemas en colaboración.</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Eficaz en función del tiempo y eficaz en función de los costo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Coloca a los miembros comunitarios en igualdad de condicione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Formato flex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No puede proporcionar el mismo tipo de información en profundidad que las conversaciones frente a frente.</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Algunos miembros comunitarios pueden sentirse incómodos hablando.</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Pensamiento grupal: Acordar ideas populare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ntrevistas Estructuradas: Fortalezas y Debilidades </a:t>
            </a:r>
            <a:endParaRPr b="0" lang="en-US" sz="4400" spc="-1" strike="noStrike">
              <a:solidFill>
                <a:srgbClr val="cc3300"/>
              </a:solidFill>
              <a:latin typeface="Arial"/>
            </a:endParaRPr>
          </a:p>
        </p:txBody>
      </p:sp>
      <p:graphicFrame>
        <p:nvGraphicFramePr>
          <p:cNvPr id="115" name=""/>
          <p:cNvGraphicFramePr/>
          <p:nvPr/>
        </p:nvGraphicFramePr>
        <p:xfrm>
          <a:off x="457200" y="2035080"/>
          <a:ext cx="8229600" cy="2382840"/>
        </p:xfrm>
        <a:graphic>
          <a:graphicData uri="http://schemas.openxmlformats.org/drawingml/2006/table">
            <a:tbl>
              <a:tblPr/>
              <a:tblGrid>
                <a:gridCol w="4114800"/>
                <a:gridCol w="4114800"/>
              </a:tblGrid>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c00000"/>
                          </a:solidFill>
                          <a:latin typeface="Arial"/>
                        </a:rPr>
                        <a:t>P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c00000"/>
                          </a:solidFill>
                          <a:latin typeface="Arial"/>
                        </a:rPr>
                        <a:t>Contr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2014200">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Comparabilidad en un grupo de persona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Pueden no necesitar transcribir entrevistas (menor consumo de tiem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Puede no revelar preocupaciones verdaderas de miembros comunitarios si no pueden desviarse de pregunta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No permite la inclusión de historias interesantes o revelador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ntrevistas Semiestructuradas: Fortalezas y Debilidades </a:t>
            </a:r>
            <a:endParaRPr b="0" lang="en-US" sz="4400" spc="-1" strike="noStrike">
              <a:solidFill>
                <a:srgbClr val="cc3300"/>
              </a:solidFill>
              <a:latin typeface="Arial"/>
            </a:endParaRPr>
          </a:p>
        </p:txBody>
      </p:sp>
      <p:graphicFrame>
        <p:nvGraphicFramePr>
          <p:cNvPr id="117" name=""/>
          <p:cNvGraphicFramePr/>
          <p:nvPr/>
        </p:nvGraphicFramePr>
        <p:xfrm>
          <a:off x="457200" y="2238480"/>
          <a:ext cx="8229600" cy="1834920"/>
        </p:xfrm>
        <a:graphic>
          <a:graphicData uri="http://schemas.openxmlformats.org/drawingml/2006/table">
            <a:tbl>
              <a:tblPr/>
              <a:tblGrid>
                <a:gridCol w="4114800"/>
                <a:gridCol w="4114800"/>
              </a:tblGrid>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c00000"/>
                          </a:solidFill>
                          <a:latin typeface="Arial"/>
                        </a:rPr>
                        <a:t>Fortalez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c00000"/>
                          </a:solidFill>
                          <a:latin typeface="Arial"/>
                        </a:rPr>
                        <a:t>Debilid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1465560">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Permite un grado de comparabilidad.</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Permite la inclusión de algunos comentarios o historias relaciona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Puede verse como representativa de la agenda de los investigadores externos a la comun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ntrevistas No Estructuradas: Fortalezas y Debilidades </a:t>
            </a:r>
            <a:endParaRPr b="0" lang="en-US" sz="4400" spc="-1" strike="noStrike">
              <a:solidFill>
                <a:srgbClr val="cc3300"/>
              </a:solidFill>
              <a:latin typeface="Arial"/>
            </a:endParaRPr>
          </a:p>
        </p:txBody>
      </p:sp>
      <p:graphicFrame>
        <p:nvGraphicFramePr>
          <p:cNvPr id="119" name=""/>
          <p:cNvGraphicFramePr/>
          <p:nvPr/>
        </p:nvGraphicFramePr>
        <p:xfrm>
          <a:off x="457200" y="1938240"/>
          <a:ext cx="8229600" cy="3206880"/>
        </p:xfrm>
        <a:graphic>
          <a:graphicData uri="http://schemas.openxmlformats.org/drawingml/2006/table">
            <a:tbl>
              <a:tblPr/>
              <a:tblGrid>
                <a:gridCol w="4114800"/>
                <a:gridCol w="4114800"/>
              </a:tblGrid>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c00000"/>
                          </a:solidFill>
                          <a:latin typeface="Arial"/>
                        </a:rPr>
                        <a:t>Fortaleza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c00000"/>
                          </a:solidFill>
                          <a:latin typeface="Arial"/>
                        </a:rPr>
                        <a:t>Debilid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2837160">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Reconoce el cuerpo de conocimiento único perteneciente a cada entrevistado.</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Guiada por los miembros comunitario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Permite la plena expresión de las ideas de cada perso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Fácil de desviarse del camino.</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Puede perderse tiempo discutiendo puntos aparentemente irrelevante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Consume más tiempo que otras técnica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Puede requerir transcripc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Fotografía</a:t>
            </a:r>
            <a:endParaRPr b="0" lang="en-US" sz="4400" spc="-1" strike="noStrike">
              <a:solidFill>
                <a:srgbClr val="cc3300"/>
              </a:solidFill>
              <a:latin typeface="Arial"/>
            </a:endParaRPr>
          </a:p>
        </p:txBody>
      </p:sp>
      <p:sp>
        <p:nvSpPr>
          <p:cNvPr id="121" name=""/>
          <p:cNvSpPr txBox="1"/>
          <p:nvPr/>
        </p:nvSpPr>
        <p:spPr>
          <a:xfrm>
            <a:off x="457200" y="1267920"/>
            <a:ext cx="8229600" cy="487548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ejora:</a:t>
            </a:r>
            <a:endParaRPr b="0" lang="en-US" sz="32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a estética</a:t>
            </a:r>
            <a:endParaRPr b="0" lang="en-US" sz="28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l contenido</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ersonas, lugares y event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Fotografías históric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Fotografías de las colecciones personales de los miembros comunitarios.</a:t>
            </a:r>
            <a:endParaRPr b="0" lang="en-US" sz="32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Fotografía: Fortalezas y Debilidades </a:t>
            </a:r>
            <a:endParaRPr b="0" lang="en-US" sz="4000" spc="-1" strike="noStrike">
              <a:solidFill>
                <a:srgbClr val="cc3300"/>
              </a:solidFill>
              <a:latin typeface="Arial"/>
            </a:endParaRPr>
          </a:p>
        </p:txBody>
      </p:sp>
      <p:graphicFrame>
        <p:nvGraphicFramePr>
          <p:cNvPr id="123" name=""/>
          <p:cNvGraphicFramePr/>
          <p:nvPr/>
        </p:nvGraphicFramePr>
        <p:xfrm>
          <a:off x="457200" y="1938240"/>
          <a:ext cx="8229600" cy="3479760"/>
        </p:xfrm>
        <a:graphic>
          <a:graphicData uri="http://schemas.openxmlformats.org/drawingml/2006/table">
            <a:tbl>
              <a:tblPr/>
              <a:tblGrid>
                <a:gridCol w="4114800"/>
                <a:gridCol w="41148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c00000"/>
                          </a:solidFill>
                          <a:latin typeface="Arial"/>
                        </a:rPr>
                        <a:t>Fortaleza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c00000"/>
                          </a:solidFill>
                          <a:latin typeface="Arial"/>
                        </a:rPr>
                        <a:t>Debilid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3111480">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Agrega valor estético a las palabras de los miembros comunitario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Significativa, independientemente del idioma o nivel de alfabetización.</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Describe a las personas, lugares y eventos en una forma que no podría ser lograda utilizando solamente palabr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Podría dar una impresión errada.</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No todos los cartógrafos estarán familiarizados con técnicas de toma de fotografía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Algunos miembros comunitarios podrán sentirse incómodos frente a la cáma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Video Participativo</a:t>
            </a:r>
            <a:endParaRPr b="0" lang="en-US" sz="4400" spc="-1" strike="noStrike">
              <a:solidFill>
                <a:srgbClr val="cc3300"/>
              </a:solidFill>
              <a:latin typeface="Arial"/>
            </a:endParaRPr>
          </a:p>
        </p:txBody>
      </p:sp>
      <p:sp>
        <p:nvSpPr>
          <p:cNvPr id="125" name=""/>
          <p:cNvSpPr txBox="1"/>
          <p:nvPr/>
        </p:nvSpPr>
        <p:spPr>
          <a:xfrm>
            <a:off x="457200" y="1341000"/>
            <a:ext cx="8229600" cy="478476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presenta:</a:t>
            </a:r>
            <a:endParaRPr b="0" lang="en-US" sz="32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ventos</a:t>
            </a:r>
            <a:endParaRPr b="0" lang="en-US" sz="28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mociones</a:t>
            </a:r>
            <a:endParaRPr b="0" lang="en-US" sz="28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Vida comunitaria</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mparte ideas, independientemente del idioma o nivel de alfabetizac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volucra a la comunidad en la elaboración de la filmación.</a:t>
            </a:r>
            <a:endParaRPr b="0" lang="en-US" sz="32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Video Participativo: Fortalezas y Debilidades </a:t>
            </a:r>
            <a:endParaRPr b="0" lang="en-US" sz="4400" spc="-1" strike="noStrike">
              <a:solidFill>
                <a:srgbClr val="cc3300"/>
              </a:solidFill>
              <a:latin typeface="Arial"/>
            </a:endParaRPr>
          </a:p>
        </p:txBody>
      </p:sp>
      <p:graphicFrame>
        <p:nvGraphicFramePr>
          <p:cNvPr id="127" name=""/>
          <p:cNvGraphicFramePr/>
          <p:nvPr/>
        </p:nvGraphicFramePr>
        <p:xfrm>
          <a:off x="457200" y="1938240"/>
          <a:ext cx="8229600" cy="3479760"/>
        </p:xfrm>
        <a:graphic>
          <a:graphicData uri="http://schemas.openxmlformats.org/drawingml/2006/table">
            <a:tbl>
              <a:tblPr/>
              <a:tblGrid>
                <a:gridCol w="4114800"/>
                <a:gridCol w="41148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c00000"/>
                          </a:solidFill>
                          <a:latin typeface="Arial"/>
                        </a:rPr>
                        <a:t>Fortaleza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c00000"/>
                          </a:solidFill>
                          <a:latin typeface="Arial"/>
                        </a:rPr>
                        <a:t>Debilid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3111480">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Transmite acción, por lo que es un medio preferido de registrar evento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Significativo independientemente del idioma o el nivel de alfabetización.</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Permite la representación de emo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Relativamente costoso en comparación con otras técnica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No todos los cartógrafos estarán familiarizados con las herramientas requeridas para crear una filmación.</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Algunos miembros comunitarios pueden sentirse incómodos frente a la cáma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lección de un Método de Documentación</a:t>
            </a:r>
            <a:endParaRPr b="0" lang="en-US" sz="4400" spc="-1" strike="noStrike">
              <a:solidFill>
                <a:srgbClr val="cc3300"/>
              </a:solidFill>
              <a:latin typeface="Arial"/>
            </a:endParaRPr>
          </a:p>
        </p:txBody>
      </p:sp>
      <p:sp>
        <p:nvSpPr>
          <p:cNvPr id="129" name=""/>
          <p:cNvSpPr txBox="1"/>
          <p:nvPr/>
        </p:nvSpPr>
        <p:spPr>
          <a:xfrm>
            <a:off x="468360" y="1773360"/>
            <a:ext cx="8229600" cy="4525920"/>
          </a:xfrm>
          <a:prstGeom prst="rect">
            <a:avLst/>
          </a:prstGeom>
          <a:noFill/>
          <a:ln w="0">
            <a:noFill/>
          </a:ln>
        </p:spPr>
        <p:txBody>
          <a:bodyPr anchor="t">
            <a:normAutofit fontScale="98000"/>
          </a:bodyPr>
          <a:p>
            <a:pPr marL="335880" indent="-3358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n usarse múltiples técnicas.</a:t>
            </a:r>
            <a:endParaRPr b="0" lang="en-US" sz="3200" spc="-1" strike="noStrike">
              <a:solidFill>
                <a:srgbClr val="5f5f5f"/>
              </a:solidFill>
              <a:latin typeface="Arial"/>
            </a:endParaRPr>
          </a:p>
          <a:p>
            <a:pPr marL="335880" indent="-3358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lgunas preguntas para hacer: </a:t>
            </a:r>
            <a:endParaRPr b="0" lang="en-US" sz="3200" spc="-1" strike="noStrike">
              <a:solidFill>
                <a:srgbClr val="5f5f5f"/>
              </a:solidFill>
              <a:latin typeface="Arial"/>
            </a:endParaRPr>
          </a:p>
          <a:p>
            <a:pPr lvl="1" marL="727920" indent="-28008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ómo será mostrado el mapa?</a:t>
            </a:r>
            <a:endParaRPr b="0" lang="en-US" sz="2800" spc="-1" strike="noStrike">
              <a:solidFill>
                <a:srgbClr val="5f5f5f"/>
              </a:solidFill>
              <a:latin typeface="Arial"/>
            </a:endParaRPr>
          </a:p>
          <a:p>
            <a:pPr lvl="1" marL="727920" indent="-28008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uánto tiempo hay disponible?</a:t>
            </a:r>
            <a:endParaRPr b="0" lang="en-US" sz="2800" spc="-1" strike="noStrike">
              <a:solidFill>
                <a:srgbClr val="5f5f5f"/>
              </a:solidFill>
              <a:latin typeface="Arial"/>
            </a:endParaRPr>
          </a:p>
          <a:p>
            <a:pPr lvl="1" marL="727920" indent="-28008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uál es el presupuesto?</a:t>
            </a:r>
            <a:endParaRPr b="0" lang="en-US" sz="2800" spc="-1" strike="noStrike">
              <a:solidFill>
                <a:srgbClr val="5f5f5f"/>
              </a:solidFill>
              <a:latin typeface="Arial"/>
            </a:endParaRPr>
          </a:p>
          <a:p>
            <a:pPr lvl="1" marL="727920" indent="-28008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Qué estilos de documentación son preferidos dentro de la comunidad?</a:t>
            </a:r>
            <a:endParaRPr b="0" lang="en-US" sz="2800" spc="-1" strike="noStrike">
              <a:solidFill>
                <a:srgbClr val="5f5f5f"/>
              </a:solidFill>
              <a:latin typeface="Arial"/>
            </a:endParaRPr>
          </a:p>
          <a:p>
            <a:pPr lvl="1" marL="727920" indent="-28008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Qué técnicas satisfacen mejor los objetivos del proyecto?</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ntroducción</a:t>
            </a:r>
            <a:endParaRPr b="0" lang="en-US" sz="4400" spc="-1" strike="noStrike">
              <a:solidFill>
                <a:srgbClr val="cc3300"/>
              </a:solidFill>
              <a:latin typeface="Arial"/>
            </a:endParaRPr>
          </a:p>
        </p:txBody>
      </p:sp>
      <p:sp>
        <p:nvSpPr>
          <p:cNvPr id="95" name=""/>
          <p:cNvSpPr txBox="1"/>
          <p:nvPr/>
        </p:nvSpPr>
        <p:spPr>
          <a:xfrm>
            <a:off x="457200" y="14288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ocumentación del proces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gistro de materi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orqué es necesaria la documentac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uándo y cómo debería ser realizad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ara quién o por quién se registra la informac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écnicas disponibl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Limitaciones de Tiempo y Financiamiento</a:t>
            </a:r>
            <a:endParaRPr b="0" lang="en-US" sz="4400" spc="-1" strike="noStrike">
              <a:solidFill>
                <a:srgbClr val="cc3300"/>
              </a:solidFill>
              <a:latin typeface="Arial"/>
            </a:endParaRPr>
          </a:p>
        </p:txBody>
      </p:sp>
      <p:sp>
        <p:nvSpPr>
          <p:cNvPr id="13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Hacen a determinadas técnicas más apropiadas que otras.</a:t>
            </a:r>
            <a:endParaRPr b="0" lang="en-US" sz="3200" spc="-1" strike="noStrike">
              <a:solidFill>
                <a:srgbClr val="5f5f5f"/>
              </a:solidFill>
              <a:latin typeface="Arial"/>
            </a:endParaRPr>
          </a:p>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quilibrio entre: </a:t>
            </a:r>
            <a:endParaRPr b="0" lang="en-US" sz="3200" spc="-1" strike="noStrike">
              <a:solidFill>
                <a:srgbClr val="5f5f5f"/>
              </a:solidFill>
              <a:latin typeface="Arial"/>
            </a:endParaRPr>
          </a:p>
          <a:p>
            <a:pPr lvl="1" marL="713160" indent="-274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 Menor costo pero enfoques menos abarcadores.</a:t>
            </a:r>
            <a:endParaRPr b="0" lang="en-US" sz="2800" spc="-1" strike="noStrike">
              <a:solidFill>
                <a:srgbClr val="5f5f5f"/>
              </a:solidFill>
              <a:latin typeface="Arial"/>
            </a:endParaRPr>
          </a:p>
          <a:p>
            <a:pPr lvl="1" marL="713160" indent="-274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 Mayor costo, pero técnicas más exhaustivas.</a:t>
            </a:r>
            <a:endParaRPr b="0" lang="en-US" sz="2800" spc="-1" strike="noStrike">
              <a:solidFill>
                <a:srgbClr val="5f5f5f"/>
              </a:solidFill>
              <a:latin typeface="Arial"/>
            </a:endParaRPr>
          </a:p>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ol comunitario.</a:t>
            </a:r>
            <a:endParaRPr b="0" lang="en-US" sz="3200" spc="-1" strike="noStrike">
              <a:solidFill>
                <a:srgbClr val="5f5f5f"/>
              </a:solidFill>
              <a:latin typeface="Arial"/>
            </a:endParaRPr>
          </a:p>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apacitación de miembros comunitarios</a:t>
            </a:r>
            <a:endParaRPr b="0" lang="en-US" sz="3200" spc="-1" strike="noStrike">
              <a:solidFill>
                <a:srgbClr val="5f5f5f"/>
              </a:solidFill>
              <a:latin typeface="Arial"/>
            </a:endParaRPr>
          </a:p>
          <a:p>
            <a:pPr lvl="1" marL="713160" indent="-274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 Compartir habilidades aprendida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Requisitos Éticos de la Documentación</a:t>
            </a:r>
            <a:endParaRPr b="0" lang="en-US" sz="4400" spc="-1" strike="noStrike">
              <a:solidFill>
                <a:srgbClr val="cc3300"/>
              </a:solidFill>
              <a:latin typeface="Arial"/>
            </a:endParaRPr>
          </a:p>
        </p:txBody>
      </p:sp>
      <p:sp>
        <p:nvSpPr>
          <p:cNvPr id="133" name=""/>
          <p:cNvSpPr txBox="1"/>
          <p:nvPr/>
        </p:nvSpPr>
        <p:spPr>
          <a:xfrm>
            <a:off x="179280" y="1483920"/>
            <a:ext cx="8785440" cy="4730760"/>
          </a:xfrm>
          <a:prstGeom prst="rect">
            <a:avLst/>
          </a:prstGeom>
          <a:noFill/>
          <a:ln w="0">
            <a:noFill/>
          </a:ln>
        </p:spPr>
        <p:txBody>
          <a:bodyPr anchor="t">
            <a:normAutofit fontScale="99000"/>
          </a:bodyPr>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nsentimiento libre, previo e informado.</a:t>
            </a:r>
            <a:endParaRPr b="0" lang="en-US" sz="32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nocimiento de los riesgos y beneficios.</a:t>
            </a:r>
            <a:endParaRPr b="0" lang="en-US" sz="32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so incorrecto de las prácticas participativas.</a:t>
            </a:r>
            <a:endParaRPr b="0" lang="en-US" sz="3200" spc="-1" strike="noStrike">
              <a:solidFill>
                <a:srgbClr val="5f5f5f"/>
              </a:solidFill>
              <a:latin typeface="Arial"/>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 Explotación extractiva de datos versus empoderamiento.</a:t>
            </a:r>
            <a:endParaRPr b="0" lang="en-US" sz="28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Formularios de exoneración</a:t>
            </a:r>
            <a:endParaRPr b="0" lang="en-US" sz="3200" spc="-1" strike="noStrike">
              <a:solidFill>
                <a:srgbClr val="5f5f5f"/>
              </a:solidFill>
              <a:latin typeface="Arial"/>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 Consentimiento firmado</a:t>
            </a:r>
            <a:endParaRPr b="0" lang="en-US" sz="2800" spc="-1" strike="noStrike">
              <a:solidFill>
                <a:srgbClr val="5f5f5f"/>
              </a:solidFill>
              <a:latin typeface="Arial"/>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 Generalmente no necesario al participar en eventos públicos.</a:t>
            </a:r>
            <a:endParaRPr b="0" lang="en-US" sz="2800" spc="-1" strike="noStrike">
              <a:solidFill>
                <a:srgbClr val="5f5f5f"/>
              </a:solidFill>
              <a:latin typeface="Arial"/>
            </a:endParaRPr>
          </a:p>
          <a:p>
            <a:pPr lvl="2" marL="1131480" indent="-2260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La Necesidad de  la Documentación</a:t>
            </a:r>
            <a:endParaRPr b="0" lang="en-US" sz="4400" spc="-1" strike="noStrike">
              <a:solidFill>
                <a:srgbClr val="cc3300"/>
              </a:solidFill>
              <a:latin typeface="Arial"/>
            </a:endParaRPr>
          </a:p>
        </p:txBody>
      </p:sp>
      <p:sp>
        <p:nvSpPr>
          <p:cNvPr id="97" name=""/>
          <p:cNvSpPr txBox="1"/>
          <p:nvPr/>
        </p:nvSpPr>
        <p:spPr>
          <a:xfrm>
            <a:off x="457200" y="18320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formar y apoyar un proyecto de mapeo de una comunidad.</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antener un registro  de las actividades y eventos del producto de mape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La Función de los Miembros Comunitarios</a:t>
            </a:r>
            <a:endParaRPr b="0" lang="en-US" sz="4000" spc="-1" strike="noStrike">
              <a:solidFill>
                <a:srgbClr val="cc3300"/>
              </a:solidFill>
              <a:latin typeface="Arial"/>
            </a:endParaRPr>
          </a:p>
        </p:txBody>
      </p:sp>
      <p:sp>
        <p:nvSpPr>
          <p:cNvPr id="99" name=""/>
          <p:cNvSpPr txBox="1"/>
          <p:nvPr/>
        </p:nvSpPr>
        <p:spPr>
          <a:xfrm>
            <a:off x="457200" y="18320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Función de los facilitadores y capacitador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Formas locales de expresar conocimient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Factores cultural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clus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valuación de múltiples métod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étodos de Documentación</a:t>
            </a:r>
            <a:endParaRPr b="0" lang="en-US" sz="4400" spc="-1" strike="noStrike">
              <a:solidFill>
                <a:srgbClr val="cc3300"/>
              </a:solidFill>
              <a:latin typeface="Arial"/>
            </a:endParaRPr>
          </a:p>
        </p:txBody>
      </p:sp>
      <p:sp>
        <p:nvSpPr>
          <p:cNvPr id="101" name=""/>
          <p:cNvSpPr txBox="1"/>
          <p:nvPr/>
        </p:nvSpPr>
        <p:spPr>
          <a:xfrm>
            <a:off x="457200" y="190332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rchivo y revisión de literatur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Observación y toma de not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ntrevist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Fotografí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Video participativ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rchivo y Revisión de Literatura</a:t>
            </a:r>
            <a:endParaRPr b="0" lang="en-US" sz="4400" spc="-1" strike="noStrike">
              <a:solidFill>
                <a:srgbClr val="cc3300"/>
              </a:solidFill>
              <a:latin typeface="Arial"/>
            </a:endParaRPr>
          </a:p>
        </p:txBody>
      </p:sp>
      <p:sp>
        <p:nvSpPr>
          <p:cNvPr id="103" name=""/>
          <p:cNvSpPr txBox="1"/>
          <p:nvPr/>
        </p:nvSpPr>
        <p:spPr>
          <a:xfrm>
            <a:off x="395280" y="1267920"/>
            <a:ext cx="8229600" cy="530388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visión:</a:t>
            </a:r>
            <a:endParaRPr b="0" lang="en-US" sz="3200" spc="-1" strike="noStrike">
              <a:solidFill>
                <a:srgbClr val="5f5f5f"/>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 Informes existentes</a:t>
            </a:r>
            <a:endParaRPr b="0" lang="en-US" sz="2800" spc="-1" strike="noStrike">
              <a:solidFill>
                <a:srgbClr val="5f5f5f"/>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 Estudios</a:t>
            </a:r>
            <a:endParaRPr b="0" lang="en-US" sz="2800" spc="-1" strike="noStrike">
              <a:solidFill>
                <a:srgbClr val="5f5f5f"/>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 Videos</a:t>
            </a:r>
            <a:endParaRPr b="0" lang="en-US" sz="2800" spc="-1" strike="noStrike">
              <a:solidFill>
                <a:srgbClr val="5f5f5f"/>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 Fotografías</a:t>
            </a:r>
            <a:endParaRPr b="0" lang="en-US" sz="2800" spc="-1" strike="noStrike">
              <a:solidFill>
                <a:srgbClr val="5f5f5f"/>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 Mapas</a:t>
            </a:r>
            <a:endParaRPr b="0" lang="en-US" sz="2800" spc="-1" strike="noStrike">
              <a:solidFill>
                <a:srgbClr val="5f5f5f"/>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 Documentos</a:t>
            </a:r>
            <a:endParaRPr b="0" lang="en-US" sz="28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vitar la duplicación y la pérdida de tiempo.</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Validar la información recolectada.</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000" y="333000"/>
            <a:ext cx="8351640" cy="135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Archivo y Revisiones de Literatura: Fortalezas y Debilidades </a:t>
            </a:r>
            <a:endParaRPr b="0" lang="en-US" sz="4000" spc="-1" strike="noStrike">
              <a:solidFill>
                <a:srgbClr val="cc3300"/>
              </a:solidFill>
              <a:latin typeface="Arial"/>
            </a:endParaRPr>
          </a:p>
        </p:txBody>
      </p:sp>
      <p:graphicFrame>
        <p:nvGraphicFramePr>
          <p:cNvPr id="105" name=""/>
          <p:cNvGraphicFramePr/>
          <p:nvPr/>
        </p:nvGraphicFramePr>
        <p:xfrm>
          <a:off x="642960" y="2357280"/>
          <a:ext cx="8229600" cy="3480120"/>
        </p:xfrm>
        <a:graphic>
          <a:graphicData uri="http://schemas.openxmlformats.org/drawingml/2006/table">
            <a:tbl>
              <a:tblPr/>
              <a:tblGrid>
                <a:gridCol w="4114800"/>
                <a:gridCol w="4114800"/>
              </a:tblGrid>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c00000"/>
                          </a:solidFill>
                          <a:latin typeface="Arial"/>
                        </a:rPr>
                        <a:t>Fortalez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c00000"/>
                          </a:solidFill>
                          <a:latin typeface="Arial"/>
                        </a:rPr>
                        <a:t>Debilid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3111480">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Documenta las características del grupo.</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Se elaboran en base a la historia y patrón de desarrollo.</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Establece presencia histórica.</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Permite analizar las diversas formas en la que la comunidad ha sido descrita en el pasa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Las fuentes externas a la comunidad pueden no reflejar las perspectivas locale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La calidad de los documentos variará.</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El acceso puede ser restringido.</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Los datos pueden ser inexactos o una representación incomple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Observación y Toma de Notas</a:t>
            </a:r>
            <a:endParaRPr b="0" lang="en-US" sz="4400" spc="-1" strike="noStrike">
              <a:solidFill>
                <a:srgbClr val="cc3300"/>
              </a:solidFill>
              <a:latin typeface="Arial"/>
            </a:endParaRPr>
          </a:p>
        </p:txBody>
      </p:sp>
      <p:sp>
        <p:nvSpPr>
          <p:cNvPr id="107" name=""/>
          <p:cNvSpPr txBox="1"/>
          <p:nvPr/>
        </p:nvSpPr>
        <p:spPr>
          <a:xfrm>
            <a:off x="457200" y="18320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cuchar y mira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t>
            </a:r>
            <a:r>
              <a:rPr b="0" lang="es-AR" sz="3200" spc="-1" strike="noStrike">
                <a:solidFill>
                  <a:srgbClr val="5f5f5f"/>
                </a:solidFill>
                <a:latin typeface="Arial"/>
              </a:rPr>
              <a:t>Ver lo que esperamos v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t>
            </a:r>
            <a:r>
              <a:rPr b="0" lang="es-AR" sz="3200" spc="-1" strike="noStrike">
                <a:solidFill>
                  <a:srgbClr val="5f5f5f"/>
                </a:solidFill>
                <a:latin typeface="Arial"/>
              </a:rPr>
              <a:t>Ver lo que queremos ver”.</a:t>
            </a:r>
            <a:endParaRPr b="0" lang="en-US" sz="3200" spc="-1" strike="noStrike">
              <a:solidFill>
                <a:srgbClr val="5f5f5f"/>
              </a:solidFill>
              <a:latin typeface="Arial"/>
            </a:endParaRPr>
          </a:p>
          <a:p>
            <a:pPr lvl="1" marL="743040" indent="-285840">
              <a:spcBef>
                <a:spcPts val="700"/>
              </a:spcBef>
              <a:buClr>
                <a:srgbClr val="5f5f5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valuación del proyecto</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Notas de camp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Observación y Toma de notas: Fortalezas y Debilidades </a:t>
            </a:r>
            <a:endParaRPr b="0" lang="en-US" sz="4400" spc="-1" strike="noStrike">
              <a:solidFill>
                <a:srgbClr val="cc3300"/>
              </a:solidFill>
              <a:latin typeface="Arial"/>
            </a:endParaRPr>
          </a:p>
        </p:txBody>
      </p:sp>
      <p:graphicFrame>
        <p:nvGraphicFramePr>
          <p:cNvPr id="109" name=""/>
          <p:cNvGraphicFramePr/>
          <p:nvPr/>
        </p:nvGraphicFramePr>
        <p:xfrm>
          <a:off x="571680" y="2786040"/>
          <a:ext cx="8229600" cy="3278160"/>
        </p:xfrm>
        <a:graphic>
          <a:graphicData uri="http://schemas.openxmlformats.org/drawingml/2006/table">
            <a:tbl>
              <a:tblPr/>
              <a:tblGrid>
                <a:gridCol w="4114800"/>
                <a:gridCol w="41148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c00000"/>
                          </a:solidFill>
                          <a:latin typeface="Arial"/>
                        </a:rPr>
                        <a:t>Fortalez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c00000"/>
                          </a:solidFill>
                          <a:latin typeface="Arial"/>
                        </a:rPr>
                        <a:t>Debilid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2906640">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Bajo costo.</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Incluye observaciones improvisada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Registra comportamientos que pueden escaparse a otras herramientas de documentación.</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Documenta los pasos dados en la creación del map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Puede excluir a algunos miembros comunitario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Refleja la perspectiva de un investigador.</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f7f7f"/>
                          </a:solidFill>
                          <a:latin typeface="Arial"/>
                        </a:rPr>
                        <a:t> </a:t>
                      </a:r>
                      <a:r>
                        <a:rPr b="0" lang="es-AR" sz="1800" spc="-1" strike="noStrike">
                          <a:solidFill>
                            <a:srgbClr val="7f7f7f"/>
                          </a:solidFill>
                          <a:latin typeface="Arial"/>
                        </a:rPr>
                        <a:t>Puede no incluir el contexto que subyace a declaraciones u ocurrencias.</a:t>
                      </a:r>
                      <a:endParaRPr b="0" lang="en-US" sz="1800" spc="-1" strike="noStrike">
                        <a:solidFill>
                          <a:srgbClr val="000000"/>
                        </a:solidFill>
                        <a:latin typeface="Arial"/>
                      </a:endParaRPr>
                    </a:p>
                    <a:p>
                      <a:pPr>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8T20:59:02Z</dcterms:created>
  <dc:creator>Jon Corbett and Kasondra White</dc:creator>
  <dc:description/>
  <dc:language>en-US</dc:language>
  <cp:lastModifiedBy>martens</cp:lastModifiedBy>
  <dcterms:modified xsi:type="dcterms:W3CDTF">2010-05-20T13:02:01Z</dcterms:modified>
  <cp:revision>126</cp:revision>
  <dc:subject/>
  <dc:title>Presentación - Introducción a la documnetació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