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808080"/>
                </a:solidFill>
                <a:latin typeface="Times New Roman"/>
              </a:rPr>
              <a:t>Apoyo a la difusión de buenas prácticas en la generación, la gestión, el análisis y la comunicación de información territorial</a:t>
            </a:r>
            <a:endParaRPr b="0" lang="en-US" sz="8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6B84-8A57-4F0E-9BE5-AA3E9C19138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034C-C213-448C-94DE-ECBCC5EB35F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reguntas abiertas versus preguntas cerra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xisten dos tipos generales de preguntas que los entrevistados usan: abiertas y cerradas</a:t>
            </a:r>
            <a:r>
              <a:rPr b="0" lang="es-A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Una pregunta abierta no puede ser respondida con un simple “sí” o “no”. Las preguntas abiertas son más conversacionales y pueden ayudar a un entrevistado a abrirse y proporcionar más inform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jemplo: ¿Cuál es el recuerdo favorito de su infancia?</a:t>
            </a:r>
            <a:r>
              <a:rPr b="0" i="1" lang="es-AR"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Por otra parte, una pregunta cerrada es un tipo de pregunta que puede ser respondida usando un simple “sí” o “no”, una información simple específica o una selección de un conjunto de elecciones predefinidas establecidas por el entrevist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jemplo: ¿Le gusta el arroz?</a:t>
            </a:r>
            <a:r>
              <a:rPr b="0" i="1" lang="es-AR"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Recordar que las preguntas cerradas o abiertas no necesitan ser usadas en forma exclusiva. Muchos entrevistadores usan una combinación de ambas. Las preguntas cerradas pueden ayudar a animar a un entrevistado al comienzo de una entrevist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as preguntas abiertas incentivan y sustentan la discusión. A menudo dan origen a más preguntas para el entrevistador porque incentivan a los entrevistados a compartir y desarrollar sus perspectivas. En otras palabras, la entrevista se vuelve más una conversa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Algunos consejos generales incluy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que los entrevistados se interesen en la discusión tan pronto como sea posible. Deberían sostener una conversación con el entrevistador, en vez de simplemente proporcionar respuestas a las preguntas</a:t>
            </a:r>
            <a:r>
              <a:rPr b="0" lang="es-AR"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zar una pregunta abierta para incentivar a las personas a expandirse en un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zar una pregunta cerrada para seguir sobre detalles específ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Hacer preguntas sobre el presente antes de hacer preguntas sobre el pasado o el futuro. Generalmente es más fácil para los entrevistados hablar sobre el presente y luego trabajar en el pasado o futuro</a:t>
            </a:r>
            <a:r>
              <a:rPr b="0" lang="es-A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dacción de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a forma en que el entrevistador redacta una pregunta es de gran importancia, porque a menudo da forma a la manera en que un entrevistado la responde. Por lo tanto, las preguntas no deberían reflejar las opiniones personales del entrevistador con respecto a los temas. A cambio, deberían buscar explorar el conocimiento del entrevi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l entrevistador necesita desarrollar preguntas que empleen “fraseo neutral”. El fraseo neutral incentiva a los entrevistados a responder libremente, en vez de incentivarlos a proporcionar una respuesta que sienten que concuerda con las opiniones del entrevistador. Al crear preguntas de investigación, el entrevistador debería asegurarse de qu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a redacción sea abierta. Los entrevistados deberían ser capaces de escoger sus propios términos y formas de expresar sus ideas al responder a pregun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as preguntas son percibidas por los entrevistados como neutrales. Esto significa evitar una redacción que podría influenciar las respues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as preguntas se hagan de a una por v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as preguntas sean redactadas claramente. Esto involucra usar un lenguaje y presentar las preguntas de una forma que los entrevistados entien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as preguntas que comienzan con “por qué” se usen con cuidado. Este tipo de pregunta puede poner a los entrevistados a la defensiva (esto es, que pueden tener que justificar sus respuestas) y por lo tanto, podrán inhibir respuestas adicion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Si las preguntas no están fraseadas neutralmente, la línea de interrogación se denomina “dirigida”. Dirigir es cuando un entrevistador trata (conscientemente o no) de obtener una respuesta específica (que a menudo se ajusta a su propia agenda) de los entrevistados, más que permitirles responder la respuesta libremente. </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scucha ac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a escucha activa se refiere a la forma en que el entrevistador escucha a los entrevistados e interactúa con los mismos. Incentiva el desarrollo de un diálogo mediante el cual los entrevistados sienten que sus contribuciones son apreciadas, interesantes y respetadas. Existe una serie de formas en las cuales un entrevistador puede lograr esto</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Ponerse frente a los entrevistados. Sentarse derecho o levemente inclinado para mostrar atención mediante el lenguaje corp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Mantener contacto visual, en un grado que todos se sientan cóm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Responder apropiadamente para mostrar que lo que está siendo dicho es entend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nfocarse solamente en lo que los entrevistados están diciendo. Tratar de no pensar en qué decir a continuación. La conversación sigue un flujo lógico luego de que los hablantes se expres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Mantener una mente abierta. Esperar hasta que los entrevistados finalicen antes de responder. Tratar de no hacer suposiciones sobre lo que los entrevistados están pensando. Pedir aclaraciones si fuese 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vitar expresar opiniones o experiencias personales, a menos que los entrevistados pregunten específic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No interrumpir a los entrevistados en el medio de una oración o pensamiento; esperar hasta que hayan finalizado. En esa forma, su línea de pensamiento no se interrump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Utilizando un enfoque de escucha activa, el entrevistador escucha la esencia de la historia según se cuenta. A menudo, los entrevistados solamente pueden dar indicios de temas importantes en sus historias. Los entrevistadores pueden recoger mejor estos indicios y explorarlos en más profundidad si están escuchando activamente.  Por lo tanto, pueden guiar mucho más efectivamente la entrevista y responder con preguntas perceptivas y pertin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Sentirse cómodo con largos silencios es crucial para el proceso de escucha. El transcurso de las preguntas, a menudo exige que los entrevistadores aguarden durante los silencios del diálogo interno de los entrevistados</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aptado de http://tinyurl.com/nqkkj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sentimiento de respues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Aunque es importante que los entrevistados sepan que el entrevistador está escuchando activamente durante la entrevista, muchos “ajás” pueden distraer. Asimismo, si la entrevista se graba utilizando un grabador de audio o cámara de video, estos ruidos se escuchan en las grabaciones documentadas final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n consecuencia, las respuestas de los entrevistadores, con excepción de las preguntas, deberían ser puntuales. Esto es, a un punto que puedan ser eliminadas con la edición y no superponerse con los comentarios de los entrevistados y mantenerse en un mínimo. Cuando el entrevistador sienta la necesidad de responder, el contacto visual, el asentimiento con la cabeza o una sonrisa son afirmaciones visuales útiles para expresar que está escuchando la información que se comparte</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aráfr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e necesita asegurar a los entrevistados de que están siendo escuchados y que sus historias son entendidas, es importante tratar de parafrasear una parte importante de la entrevista. La paráfrasis es la nueva enunciación de un texto o pasaje en las propias palabras del entrevistador. Esto hace saber a los entrevistados que el entrevistador se está conectando con ellos y sus historias y que está escuchando verdaderamente. Sin embargo, como en la sección de “Respuestas de Asentimiento” anterior, es importante parafrasear a una altura de la entrevista en que el entrevistado haya terminado de hablar, de manera que la paráfrasis del entrevistador no se superponga con las palabras del entrevi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jempl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evistado: Cuando era joven, pasábamos todo el verano en campamentos en todo el territorio. La vida era divertida; jugábamos junto al mar y recolectábamos bayas en el bosque. También era difícil... Recuerdo que teníamos que acarrear agua fresca todos los días, vaciar peces; ¡y siempre comer la misma comida! Recuerdos fel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Paráfrasis del entrevistador: Tuvo una vida extraordinariamente libre viviendo cerca de la tierra; también involucraba mucho trabajo duro</a:t>
            </a:r>
            <a:r>
              <a:rPr b="0" lang="es-A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peo y entrevi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Tener mapas presentes durante las entrevistas puede ayudar a los entrevistados a focalizarse en información e historias relacionadas con la tierr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Antes de la entrevista: Resulta importante estar informado sobre los entrevistados previo a la entrevista. ¿Qué conocimiento tienen los entrevistados que pueda ser mapeado? Por ejemplo, ¿Tienen los entrevistados conocimiento sobre áreas de pesca? En caso afirmativo, puede ser una buena idea traer mapas que ayudarían a identificar esas ubicacio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Durante la entrevista: Al pedir a los entrevistados que identifiquen información de ubicaciones específicas en el mapa, el entrevistador deberí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visar el mapa con los entrevistados y asegurarse de que estén familiarizados con el formato del mapa y el área que cub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centivar a los entrevistados a utilizar el mapa cuando están hablando o compartiendo información que se refiera a un lugar o un área. Es una buena idea demostrar unos pocos ejemplos primero y luego permitirles tratar por sí mism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Asignar a cada característica en el mapa un número único cuando se identifican ubicaciones en el mapa. Asegurarse de registrar la ubicación y el número. Esto ayuda a identificar la información en el mapa luego que la entrevista ter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Utilizar diferentes colores o símbolos y hacer una leyenda en un cuaderno para mantener los ítems separados en el mapa si hubiera varias características agrupadas en una pequeña área</a:t>
            </a:r>
            <a:r>
              <a:rPr b="0" lang="es-A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nclusión de la entrev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ntes de concluir la entrevista, es una buena idea preguntar a los entrevistados si hay algo más que quisieran discutir. Concluir en esta forma da a los entrevistados la oportunidad de hacer preguntas, mientras potencialmente se abre una nueva línea para discus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final de la entrevista, los entrevistadores pueden querer tomar un descanso y revisar sus notas por cualquiera de las preguntas que pueden no haber realizado. Los entrevistadores también podrían pasar algún tiempo con los entrevistados revisando qué se hará con la entrevista. Los entrevistados pueden querer saber un poco sobre los entrevistadores, pueden estar interesados en cómo serán usados los resultados. Resulta útil, utilizar estos tipos de intereses como forma de cerrar la conversación. Es importante que los entrevistados no se sientan como si se quisieran salir rápidamente luego de completarse la entrevist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Una vez que la entrevista haya finalizado, agradecer al entrevistado. Aunque la entrevista no haya salido bien, es importante agradecer educadamente a los entrevistados por su tiempo y por compartir sus pensamientos, conocimiento y opiniones</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Unidad describe las técnicas para asistir al entrevistador en el desarrollo y presentación de entrevistas con los miembros comunitarios. Discute los requisitos preparatorios para llevar a cabo la entrevista, el equipo necesario, la elección de lugares para completar la entrevista y posibilidades de grabar la entrevista. Revisa enfoques para la realización de entrevistas, por ejemplo, estilos de entrevista estructurada, semiestructurada o más abierta, discusiones de grupo focal y cómo la elección de un estilo de entrevista puede afectar los resultados de la entrevista. La Unidad incluye un análisis de las parcialidades que los entrevistadores pueden imponer a los temas si los entrevistadores no fueran conscientes de las posiciones que ocupan y de cómo pueden evitarse estas parcia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l proceso de entrevista es un arte, no una ciencia. Las entrevistas son una forma de explorar y documentar las historias que subyacen a las experiencias y conocimiento de un individuo o familia. La entrevista proporciona un lugar para que los entrevistados cuenten sus historias en la medida en que las recuerdan y para que el entrevistador incentive el compartir estas memorias. Las preguntas de la entrevista son sumamente importantes para asegurar que el entrevistador y el entrevistado obtengan lo máximo de una entrevista. Es crucial para prepararse para la entrevista, familiarizarse con las personas que están siendo entrevistadas y los tipos de información que son de interés. De igual importancia es tener las habilidades para documentar la información que se comparte. Esto puede involucrar tomar notas o grabar la entrevista</a:t>
            </a:r>
            <a:r>
              <a:rPr b="0" lang="es-A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reparación para la entrev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n muchos aspectos, una buena entrevista es como una buena conversación. Sin embargo, es importante que el entrevistador entienda claramente el tema y el objetivo de la entrevista para asegurar que la conversación sea productiva</a:t>
            </a:r>
            <a:r>
              <a:rPr b="0" lang="es-A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ntender exactamente el tema de discusión</a:t>
            </a:r>
            <a:r>
              <a:rPr b="0" lang="es-AR" sz="1200" spc="-1" strike="noStrike">
                <a:solidFill>
                  <a:srgbClr val="000000"/>
                </a:solidFill>
                <a:latin typeface="Arial"/>
              </a:rPr>
              <a:t>. El tema se determina a menudo por el porqué de la realización de la entrevista en primer lugar. Esto probablemente involucra aportes de los miembros comunitarios sobre los temas que sienten que son impor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dactar un conjunto preliminar de preguntas que discuta la información pertinente y consultarlas durante la entrev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ntacto in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Antes de realizar una entrevista, los potenciales entrevistados deben ser contactados para ver si desean participar de la entrevista. Un entrevistador bien preparado entiende el objetivo del proyecto de entrevista y es capaz de explicar esto claramente al potencial entrevistado. Esto es más probable que haga que los potenciales entrevistados se sientan cómodos con el entrevistador y por lo tanto, con más voluntad de participar. Por otro lado, una mala explicación del objetivo de la entrevista puede confundir al potencial entrevistado. Esto puede hacer que el entrevistador parezca poco profesional y puede desanimar al potencial entrevistado para participar en una entrevista</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Cuando se hace el contacto inicial, es importante informar al potencial entrevistado lo siguiente</a:t>
            </a:r>
            <a:r>
              <a:rPr b="0" lang="es-A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formación sobre el , su fin, objet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ánto se espera que dure la entrevista y dónde tendrá lug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ómo será utilizada la entrevista una vez que sea complet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én estará presente en la entrev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Qué se espera del entrevistado, incluyendo los tipos de preguntas que pueden ser realizadas</a:t>
            </a:r>
            <a:r>
              <a:rPr b="0" lang="es-A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reparación d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general, cuando se realiza una entrevista, se graba  </a:t>
            </a:r>
            <a:r>
              <a:rPr b="0" lang="es-AR" sz="1200" spc="-1" strike="noStrike">
                <a:solidFill>
                  <a:srgbClr val="000000"/>
                </a:solidFill>
                <a:latin typeface="Arial"/>
                <a:ea typeface="Times New Roman"/>
              </a:rPr>
              <a:t>o documenta, de manera que el conocimiento que ha sido compartido no se pierda. Antes de comenzar la entrevista, es vital que el entrevistador esté familiarizado con el equipo que utilizará para evitar que ocurran problemas durante la entrevista. El equipo puede incluir grabadores de audio, micrófonos o cámaras de video</a:t>
            </a:r>
            <a:r>
              <a:rPr b="0" lang="es-A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Aprender los principios básicos: encendido/apagado, niveles de audio, habilitación de la función de grabación y fuentes de energía auxili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Asegurar que las baterías se carguen totalmente la noche antes de la entrevista. También es una buena idea llevar consigo algunas pilas adi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Tener un cassette nuevo u otros medios de grabación para cada entrevista. Esto hace más fácil la organización posterior. ¡Una vez más, asegurarse que haya un cassette adicional a mano para esos momentos inespe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star absolutamente seguro sobre por cuánto tiempo puede grabar el dispositivo o medio (por ejemplo, 45 minutos, 60 minutos, 2 horas) y prever el número de cassettes necesar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Verificar durante la entrevista que el dispositivo esté grabando activamente. A menudo, la forma de hacer esto con una cámara de video o grabador de audio digital es usar auriculares y asegurarse de que la luz de grabación o símbolo se muestren en el aparato</a:t>
            </a:r>
            <a:r>
              <a:rPr b="0" lang="es-A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lección de la ub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xiste una serie de consideraciones al elegir una ubicación apropiada para realizar una entrevista. Debería estar libre de distracciones para el entrevistador y, lo que es más importante, para el entrevistado. Aunque algunos entrevistados pueden sentirse cómodos con una entrevista en un escenario más público, otros pueden sentirse más tranquilos y deseosos de abrirse en su propio hogar. A menudo, el mejor curso de acción es preguntar a los entrevistadores dónde se sentirían más cómodos para la entrevista</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ordar al realizar una entrevista, que d</a:t>
            </a:r>
            <a:r>
              <a:rPr b="0" lang="es-AR" sz="1200" spc="-1" strike="noStrike">
                <a:solidFill>
                  <a:srgbClr val="000000"/>
                </a:solidFill>
                <a:latin typeface="Arial"/>
                <a:ea typeface="Times New Roman"/>
              </a:rPr>
              <a:t>emasiado ruido de fondo puede distraer y arruinar la calidad de una grabación de audio. A menudo el oído filtra los ruidos de fondo y el dispositivo de grabación no. Cada pequeño sonido, un automóvil que pasa, el corte de una cortadora de césped, risas de niños,  queda grabado</a:t>
            </a:r>
            <a:r>
              <a:rPr b="0" lang="es-A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ontaje de la entrev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Si se utiliza un dispositivo de grabación de audio, debería ser colocado cerca del entrevistado. Si se coloca un micrófono en una mesa, debería separarse de la mesa utilizando un soporte o de lo contrario, habrá peligro de que la tapa de la mesa refleje el sonido y cause un efecto de eco</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Al considerar dónde debería sentarse el entrevistado en una sala, los entrevistadores deberían prestar atención a los objetos en la sala que podrían causar una distracción. Por ejemplo, el entrevistador debería preg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a puerta que pueda abrirse durante la entrev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a ventana abier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a televisión o radio encend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está cerca de un refrigerador, acondicionador de aire o computadora cuyos ventiladores pudieran tener un impacto en la calidad del aud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Muchos de estos ruidos pueden ser minimizados sentando a los entrevistados con sus espaldas hacia el lado más tranquilo de la sala y con el micrófono colocado frente a ellos, apuntando hacia esa área tranquil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s preferible cerrar ventanas y apagar las computadoras, acondicionadores de aire y teléfonos durante la entrevista. Recordar que los refrigeradores y acondicionadores de aire se prenden y apagan automáticamente y causan ruido innecesario: ¡Esta es una buena razón para no realizar la entrevista en una cocina! Utilizar criterio con respecto a si es o no recomendable detener la entrevista por un ruido alto. Podría ser más importante en ese momento dejar que la persona continúe hablan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entrevistador siempre debe equilibrar la calidad del sonido de la entrevista con la comodidad general y tranquilidad del entrevist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Demasiado alboroto puede hacer que una persona se sienta nerviosa e inhibida cuando sea finalmente el momento de comenzar a hablar</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alización de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Para que una entrevista sea exitosa, los entrevistados deben sentirse cómodos, interesados y preparados para hablar. Para conseguir esto, es de suma importancia que los entrevistadores hagan preguntas claras, pertinentes e indagatorias en forma inquisitiva y escuchen activamente las respuestas, de manera que estén preparados para seguir preguntas iniciales con otras interrogaciones</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Un buen lugar para comenzar al diseñar una entrevista exitosa es considerar qué integra una buena pregunta y, quizás lo que es más importante, qué integra una mala pregunta. El tipo de preguntas realizadas durante una entrevista se relaciona directamente con el tipo de información que los entrevistados discuten. Por lo tanto, una buena pregunta inspira una discusión que genera información importante e interesante sobre el tema</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 otra parte, las </a:t>
            </a:r>
            <a:r>
              <a:rPr b="0" lang="es-AR" sz="1200" spc="-1" strike="noStrike">
                <a:solidFill>
                  <a:srgbClr val="000000"/>
                </a:solidFill>
                <a:latin typeface="Arial"/>
                <a:ea typeface="Times New Roman"/>
              </a:rPr>
              <a:t>malas preguntas hacen exactamente lo contrario. Una mala pregun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No proporciona ideas sobre un tema interes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Puede molestar a los entrevistados o hacerlos sentirse incómo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Hace que los entrevistados pierdan interés, de manera que se cansen enseguida de la entrevista y ejerzan menos cuidado al responder a las pregun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Pueden perturbar al flujo de la conversación y dejar al entrevistado confundido</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Qué, dónde, quién, cómo, cuándo y por 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Al estructurar el flujo general de una entrevista y diseñar un conjunto de preguntas, a menudo resulta útil pensar sobre qué, dónde, quién, cómo, cuándo y por qué. Estas preguntas proporcionan una fórmula para obtener la historia completa</a:t>
            </a:r>
            <a:r>
              <a:rPr b="0" lang="es-AR" sz="1200" spc="-1" strike="noStrike">
                <a:solidFill>
                  <a:srgbClr val="000000"/>
                </a:solidFill>
                <a:latin typeface="Arial"/>
              </a:rPr>
              <a:t> de al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Por ejemplo, si el tema de interés es la pesca de </a:t>
            </a:r>
            <a:r>
              <a:rPr b="0" lang="es-AR" sz="1200" spc="-1" strike="noStrike">
                <a:solidFill>
                  <a:srgbClr val="000000"/>
                </a:solidFill>
                <a:latin typeface="Arial"/>
              </a:rPr>
              <a:t>Oolichan  IN THE MATERIAL INFORMATIVO PARA EL PARTICIPANTE, THE TEXT MAKES REFERENCE TO THE FISH eulacón</a:t>
            </a:r>
            <a:r>
              <a:rPr b="0" lang="es-ES" sz="1200" spc="-1" strike="noStrike">
                <a:solidFill>
                  <a:srgbClr val="000000"/>
                </a:solidFill>
                <a:latin typeface="Arial"/>
              </a:rPr>
              <a:t> </a:t>
            </a:r>
            <a:r>
              <a:rPr b="0" lang="es-AR" sz="1200" spc="-1" strike="noStrike">
                <a:solidFill>
                  <a:srgbClr val="000000"/>
                </a:solidFill>
                <a:latin typeface="Arial"/>
              </a:rPr>
              <a:t> </a:t>
            </a:r>
            <a:r>
              <a:rPr b="0" lang="es-AR" sz="1200" spc="-1" strike="noStrike">
                <a:solidFill>
                  <a:srgbClr val="000000"/>
                </a:solidFill>
                <a:latin typeface="Arial"/>
                <a:ea typeface="Times New Roman"/>
              </a:rPr>
              <a:t>(un pequeño pez utilizado por los indígenas en la costa oeste de Canadá), resultaría de ayuda pensar primero sobre qué tema (pesca de Oolichan) y los tipos de información que se buscan. El fin es hacer las preguntas que produzcan la mayor cantidad de información sobre el tema. Algunos ejemplos de los tipos de preguntas que podrían hacerse son los siguientes:</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recuerdos tiene de la pesca de Oolicha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ónde pescaba Oolicha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quién pescab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tipo de equipo usaba para pescar Oolicha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edad tenía cuando pescaba Oolic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n qué momento del año pescaba </a:t>
            </a:r>
            <a:r>
              <a:rPr b="0" lang="es-AR" sz="1200" spc="-1" strike="noStrike">
                <a:solidFill>
                  <a:srgbClr val="000000"/>
                </a:solidFill>
                <a:latin typeface="Arial"/>
              </a:rPr>
              <a:t>Oolichan</a:t>
            </a:r>
            <a:r>
              <a:rPr b="0" lang="es-AR" sz="1200" spc="-1" strike="noStrike">
                <a:solidFill>
                  <a:srgbClr val="000000"/>
                </a:solidFill>
                <a:latin typeface="Arial"/>
                <a:ea typeface="Times New Roman"/>
              </a:rPr>
              <a:t>?</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6CC1D4-6974-4457-95C4-C17FB2834B6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F4307753-5DD9-4145-ABA5-8A3491834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6E03C52E-0F92-411A-97DA-E8922D43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E601B28F-966F-47A5-BB21-3334BE23B3F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F99A888-83D8-45AF-B764-610A625051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C44FE6D-59E2-4255-80D8-A7ED1C8D1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D235E64-9480-4BCB-A3C4-F46D91731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A6DB2B7-0A1F-4AC9-BE93-CE9051F40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3DE7D42-B9D8-4833-B5E8-FE188E9BB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D04BDAA-435D-421E-9E69-EACC85902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E010F85-90BB-4A41-A370-041A96B35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11D7E9E-07B7-4302-ABDF-029368BB0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A549263-A675-428A-B830-E47248B03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E0E6C1F-7863-416F-BC22-F218C415F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8E45817-6827-4290-890A-4570916DD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534B804-DCC8-41DF-8067-2C77A6DE36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ED3604BD-D492-48CB-8968-5EBC1C51E4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450BF704-BE44-4D23-B049-F226F096A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F78D3ED5-0B88-4FFC-92CB-00066842C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B9589F94-8F45-4E9E-B933-B39785E2E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EA9447EA-B353-47C1-8BAA-E862E7753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08E5ABB-9052-4F49-802D-E287DD624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CAB094E-B828-40ED-B5F2-61BC81921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8438791-5748-4F5D-9DAD-B7A637530B7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7209-5E8E-4215-9970-A36E22C694F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56D9-505C-44A0-8A2A-5E928448134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ocumentación</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écnicas de Entrevista</a:t>
            </a:r>
            <a:endParaRPr b="0" lang="en-US" sz="3200" spc="-1" strike="noStrike">
              <a:solidFill>
                <a:srgbClr val="5f5f5f"/>
              </a:solidFill>
              <a:latin typeface="Arial"/>
            </a:endParaRPr>
          </a:p>
        </p:txBody>
      </p:sp>
      <p:sp>
        <p:nvSpPr>
          <p:cNvPr id="92" name="Rectangle 4"/>
          <p:cNvSpPr/>
          <p:nvPr/>
        </p:nvSpPr>
        <p:spPr>
          <a:xfrm>
            <a:off x="3711240" y="51577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4U02</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reguntas Abiertas versus Preguntas Cerradas</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Abiertas:</a:t>
            </a:r>
            <a:endParaRPr b="0" lang="en-US" sz="3000" spc="-1" strike="noStrike">
              <a:solidFill>
                <a:srgbClr val="5f5f5f"/>
              </a:solidFill>
              <a:latin typeface="Arial"/>
            </a:endParaRPr>
          </a:p>
          <a:p>
            <a:pPr lvl="1" marL="743040" indent="-285840">
              <a:lnSpc>
                <a:spcPct val="90000"/>
              </a:lnSpc>
              <a:spcBef>
                <a:spcPts val="649"/>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No pueden ser respondidas con “sí” o “no”.</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Más conversacionale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Pueden ayudar a un entrevistado a abrirse.</a:t>
            </a:r>
            <a:endParaRPr b="0" lang="en-US" sz="2600" spc="-1" strike="noStrike">
              <a:solidFill>
                <a:srgbClr val="5f5f5f"/>
              </a:solidFill>
              <a:latin typeface="Arial"/>
            </a:endParaRPr>
          </a:p>
          <a:p>
            <a:pPr lvl="3" marL="1600200" indent="-228600">
              <a:lnSpc>
                <a:spcPct val="90000"/>
              </a:lnSpc>
              <a:spcBef>
                <a:spcPts val="476"/>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Cerradas:</a:t>
            </a:r>
            <a:endParaRPr b="0" lang="en-US" sz="3000" spc="-1" strike="noStrike">
              <a:solidFill>
                <a:srgbClr val="5f5f5f"/>
              </a:solidFill>
              <a:latin typeface="Arial"/>
            </a:endParaRPr>
          </a:p>
          <a:p>
            <a:pPr lvl="1" marL="743040" indent="-285840">
              <a:lnSpc>
                <a:spcPct val="90000"/>
              </a:lnSpc>
              <a:spcBef>
                <a:spcPts val="649"/>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Pueden ser respondidas con “sí” o “no”.</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Proporcionan información específica.</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Pueden ayudar a un entrevistado a abrirse al comienzo.</a:t>
            </a:r>
            <a:endParaRPr b="0" lang="en-US" sz="2600" spc="-1" strike="noStrike">
              <a:solidFill>
                <a:srgbClr val="5f5f5f"/>
              </a:solidFill>
              <a:latin typeface="Arial"/>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lvl="2" marL="1143000" indent="-228600">
              <a:lnSpc>
                <a:spcPct val="90000"/>
              </a:lnSpc>
              <a:spcBef>
                <a:spcPts val="55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lvl="2" marL="1143000" indent="-228600">
              <a:lnSpc>
                <a:spcPct val="90000"/>
              </a:lnSpc>
              <a:spcBef>
                <a:spcPts val="55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lvl="2" marL="1143000" indent="-228600">
              <a:lnSpc>
                <a:spcPct val="90000"/>
              </a:lnSpc>
              <a:spcBef>
                <a:spcPts val="55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dacción de Preguntas</a:t>
            </a:r>
            <a:endParaRPr b="0" lang="en-US" sz="4400" spc="-1" strike="noStrike">
              <a:solidFill>
                <a:srgbClr val="cc33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a forma a la manera en que un entrevistado responderá.</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raseo neutr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guntas dirigid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guntas,  una por vez y claramente realizad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tilizar las preguntas con “por qué” con cuid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scucha Activa</a:t>
            </a:r>
            <a:endParaRPr b="0" lang="en-US" sz="4400" spc="-1" strike="noStrike">
              <a:solidFill>
                <a:srgbClr val="cc3300"/>
              </a:solidFill>
              <a:latin typeface="Arial"/>
            </a:endParaRPr>
          </a:p>
        </p:txBody>
      </p:sp>
      <p:sp>
        <p:nvSpPr>
          <p:cNvPr id="116" name=""/>
          <p:cNvSpPr txBox="1"/>
          <p:nvPr/>
        </p:nvSpPr>
        <p:spPr>
          <a:xfrm>
            <a:off x="642960" y="1285560"/>
            <a:ext cx="8177040" cy="51433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cuchar e interactuar con el entrevistado.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logra: </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oniéndose frente  al entrevistado.</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nteniendo contacto visual.</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spondiendo apropiadamente.</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entrándose en lo que se dice.</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o interrumpiendo.</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nteniendo una mente abierta.</a:t>
            </a:r>
            <a:endParaRPr b="0" lang="en-US" sz="28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o usar en exceso</a:t>
            </a:r>
            <a:endParaRPr b="0" lang="en-US" sz="3200" spc="-1" strike="noStrike">
              <a:solidFill>
                <a:srgbClr val="5f5f5f"/>
              </a:solidFill>
              <a:latin typeface="Arial"/>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sentimiento de Respuestas</a:t>
            </a:r>
            <a:endParaRPr b="0" lang="en-US" sz="4400" spc="-1" strike="noStrike">
              <a:solidFill>
                <a:srgbClr val="cc3300"/>
              </a:solidFill>
              <a:latin typeface="Arial"/>
            </a:endParaRPr>
          </a:p>
        </p:txBody>
      </p:sp>
      <p:sp>
        <p:nvSpPr>
          <p:cNvPr id="118" name=""/>
          <p:cNvSpPr txBox="1"/>
          <p:nvPr/>
        </p:nvSpPr>
        <p:spPr>
          <a:xfrm>
            <a:off x="457200" y="1689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distra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escuchará en la grabación fi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bería ser oportuno y mantenerse en un mínim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dicios no verbal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sentimiento con la cabez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onris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ntacto visual.</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aráfrasis</a:t>
            </a:r>
            <a:endParaRPr b="0" lang="en-US" sz="4400" spc="-1" strike="noStrike">
              <a:solidFill>
                <a:srgbClr val="cc33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ueva enunciación en las propias palabras del entrevistad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muestra entendimien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hace en forma oportun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o interrumpir al entrevistad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y Entrevistas</a:t>
            </a:r>
            <a:endParaRPr b="0" lang="en-US" sz="4400" spc="-1" strike="noStrike">
              <a:solidFill>
                <a:srgbClr val="cc3300"/>
              </a:solidFill>
              <a:latin typeface="Arial"/>
            </a:endParaRPr>
          </a:p>
        </p:txBody>
      </p:sp>
      <p:sp>
        <p:nvSpPr>
          <p:cNvPr id="122" name=""/>
          <p:cNvSpPr txBox="1"/>
          <p:nvPr/>
        </p:nvSpPr>
        <p:spPr>
          <a:xfrm>
            <a:off x="45720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erramienta para centrarse en información relacionada con la tierr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estimular recuer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segurarse de que el entrevistado está familiarizado con el formato de los map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centiva a los entrevistados a utilizar el map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clusión de la Entrevista</a:t>
            </a:r>
            <a:endParaRPr b="0" lang="en-US" sz="4400" spc="-1" strike="noStrike">
              <a:solidFill>
                <a:srgbClr val="cc3300"/>
              </a:solidFill>
              <a:latin typeface="Arial"/>
            </a:endParaRPr>
          </a:p>
        </p:txBody>
      </p:sp>
      <p:sp>
        <p:nvSpPr>
          <p:cNvPr id="124" name=""/>
          <p:cNvSpPr txBox="1"/>
          <p:nvPr/>
        </p:nvSpPr>
        <p:spPr>
          <a:xfrm>
            <a:off x="457200" y="1928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y alguna cosa que quisiera agreg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visar notas de preguntas no realizad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errar la entrevis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gradecer al entrevistad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6" name=""/>
          <p:cNvSpPr txBox="1"/>
          <p:nvPr/>
        </p:nvSpPr>
        <p:spPr>
          <a:xfrm>
            <a:off x="457200" y="1546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ploración y documentación de experiencias y conocimien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paración para la entrevis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ilos de entrevis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écnicas de entrevis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revistas de mape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reparación para la Entrevista</a:t>
            </a:r>
            <a:endParaRPr b="0" lang="en-US" sz="4400" spc="-1" strike="noStrike">
              <a:solidFill>
                <a:srgbClr val="cc3300"/>
              </a:solidFill>
              <a:latin typeface="Arial"/>
            </a:endParaRPr>
          </a:p>
        </p:txBody>
      </p:sp>
      <p:sp>
        <p:nvSpPr>
          <p:cNvPr id="98" name=""/>
          <p:cNvSpPr txBox="1"/>
          <p:nvPr/>
        </p:nvSpPr>
        <p:spPr>
          <a:xfrm>
            <a:off x="457200" y="2117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a buena entrevista es como una buena convers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ender el tema de discus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dactar preguntas preliminar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tacto Inicial</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plicar el objetivo a los potenciales entrevistados.</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formar a los potenciales entrevistados sobre:</a:t>
            </a:r>
            <a:endParaRPr b="0" lang="en-US" sz="32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formación sobre el proyecto</a:t>
            </a:r>
            <a:endParaRPr b="0" lang="en-US" sz="28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uánto durará la entrevista</a:t>
            </a:r>
            <a:endParaRPr b="0" lang="en-US" sz="28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ónde tendrá lugar</a:t>
            </a:r>
            <a:endParaRPr b="0" lang="en-US" sz="28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ién estará presente</a:t>
            </a:r>
            <a:endParaRPr b="0" lang="en-US" sz="28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se esperará del entrevistado</a:t>
            </a:r>
            <a:endParaRPr b="0" lang="en-US" sz="2800" spc="-1" strike="noStrike">
              <a:solidFill>
                <a:srgbClr val="5f5f5f"/>
              </a:solidFill>
              <a:latin typeface="Arial"/>
            </a:endParaRPr>
          </a:p>
          <a:p>
            <a:pPr lvl="2" marL="1085760" indent="-21708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quipos</a:t>
            </a:r>
            <a:endParaRPr b="0" lang="en-US" sz="4400" spc="-1" strike="noStrike">
              <a:solidFill>
                <a:srgbClr val="cc3300"/>
              </a:solidFill>
              <a:latin typeface="Arial"/>
            </a:endParaRPr>
          </a:p>
        </p:txBody>
      </p:sp>
      <p:sp>
        <p:nvSpPr>
          <p:cNvPr id="102" name=""/>
          <p:cNvSpPr txBox="1"/>
          <p:nvPr/>
        </p:nvSpPr>
        <p:spPr>
          <a:xfrm>
            <a:off x="214200" y="1285560"/>
            <a:ext cx="8686800" cy="520524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ipos de equipos: </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Grabadores de audio</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icrófono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ámaras de video</a:t>
            </a:r>
            <a:endParaRPr b="0" lang="en-US" sz="28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entrevistadores deberían:</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prender los principios básicos de uso de los equipo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segurarse de que las pilas están totalmente cargada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erificar que el dispositivo esté grabando durante toda la entrevista.</a:t>
            </a:r>
            <a:endParaRPr b="0" lang="en-US" sz="28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ección de la Ubicación</a:t>
            </a:r>
            <a:endParaRPr b="0" lang="en-US" sz="4400" spc="-1" strike="noStrike">
              <a:solidFill>
                <a:srgbClr val="cc3300"/>
              </a:solidFill>
              <a:latin typeface="Arial"/>
            </a:endParaRPr>
          </a:p>
        </p:txBody>
      </p:sp>
      <p:sp>
        <p:nvSpPr>
          <p:cNvPr id="104" name=""/>
          <p:cNvSpPr txBox="1"/>
          <p:nvPr/>
        </p:nvSpPr>
        <p:spPr>
          <a:xfrm>
            <a:off x="457200" y="1617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ibre de distraccio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 fácil acceso para el entrevist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guntar a los entrevistados dónde se sentirían más cómo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vitar ruido de fondo.</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ontaje de la Entrevista</a:t>
            </a:r>
            <a:endParaRPr b="0" lang="en-US" sz="4400" spc="-1" strike="noStrike">
              <a:solidFill>
                <a:srgbClr val="cc3300"/>
              </a:solidFill>
              <a:latin typeface="Arial"/>
            </a:endParaRPr>
          </a:p>
        </p:txBody>
      </p:sp>
      <p:sp>
        <p:nvSpPr>
          <p:cNvPr id="106" name=""/>
          <p:cNvSpPr txBox="1"/>
          <p:nvPr/>
        </p:nvSpPr>
        <p:spPr>
          <a:xfrm>
            <a:off x="457200" y="1599840"/>
            <a:ext cx="8229600" cy="490068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sicionar el dispositivo de grabació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ntar al entrevistado:</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a puerta que pueda abrirse?</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ventanas abierta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a televisión o radio que puedan escucharse?</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otros dispositivos próximos que puedan desvirtuar la calidad de la grabación?</a:t>
            </a:r>
            <a:endParaRPr b="0" lang="en-US" sz="28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quilibrar la calidad del sonido con la comodidad del entrevistad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alización de Preguntas</a:t>
            </a:r>
            <a:endParaRPr b="0" lang="en-US" sz="4400" spc="-1" strike="noStrike">
              <a:solidFill>
                <a:srgbClr val="cc3300"/>
              </a:solidFill>
              <a:latin typeface="Arial"/>
            </a:endParaRPr>
          </a:p>
        </p:txBody>
      </p:sp>
      <p:graphicFrame>
        <p:nvGraphicFramePr>
          <p:cNvPr id="108" name=""/>
          <p:cNvGraphicFramePr/>
          <p:nvPr/>
        </p:nvGraphicFramePr>
        <p:xfrm>
          <a:off x="1357200" y="1571760"/>
          <a:ext cx="6500880" cy="3935160"/>
        </p:xfrm>
        <a:graphic>
          <a:graphicData uri="http://schemas.openxmlformats.org/drawingml/2006/table">
            <a:tbl>
              <a:tblPr/>
              <a:tblGrid>
                <a:gridCol w="3251160"/>
                <a:gridCol w="3249720"/>
              </a:tblGrid>
              <a:tr h="48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Buenas pregunt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Malas pregunt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3446280">
                <a:tc>
                  <a:txBody>
                    <a:bodyPr lIns="90000" rIns="90000" tIns="46800" bIns="46800" anchor="t">
                      <a:noAutofit/>
                    </a:bodyPr>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95959"/>
                          </a:solidFill>
                          <a:latin typeface="Arial"/>
                        </a:rPr>
                        <a:t> </a:t>
                      </a:r>
                      <a:r>
                        <a:rPr b="0" lang="es-AR" sz="1800" spc="-1" strike="noStrike">
                          <a:solidFill>
                            <a:srgbClr val="595959"/>
                          </a:solidFill>
                          <a:latin typeface="Arial"/>
                        </a:rPr>
                        <a:t>Inspiran discusión.</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95959"/>
                          </a:solidFill>
                          <a:latin typeface="Arial"/>
                        </a:rPr>
                        <a:t> </a:t>
                      </a:r>
                      <a:r>
                        <a:rPr b="0" lang="es-AR" sz="1800" spc="-1" strike="noStrike">
                          <a:solidFill>
                            <a:srgbClr val="595959"/>
                          </a:solidFill>
                          <a:latin typeface="Arial"/>
                        </a:rPr>
                        <a:t>Generan información importante e interesante sobre el tema.</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95959"/>
                          </a:solidFill>
                          <a:latin typeface="Arial"/>
                        </a:rPr>
                        <a:t> </a:t>
                      </a:r>
                      <a:r>
                        <a:rPr b="0" lang="es-AR" sz="1800" spc="-1" strike="noStrike">
                          <a:solidFill>
                            <a:srgbClr val="595959"/>
                          </a:solidFill>
                          <a:latin typeface="Arial"/>
                        </a:rPr>
                        <a:t>Fluyen naturalmente con la conversación.</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95959"/>
                          </a:solidFill>
                          <a:latin typeface="Arial"/>
                        </a:rPr>
                        <a:t> </a:t>
                      </a:r>
                      <a:r>
                        <a:rPr b="0" lang="es-AR" sz="1800" spc="-1" strike="noStrike">
                          <a:solidFill>
                            <a:srgbClr val="595959"/>
                          </a:solidFill>
                          <a:latin typeface="Arial"/>
                        </a:rPr>
                        <a:t>Hacen que el entrevistador se sienta cómodo y tranquil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95959"/>
                          </a:solidFill>
                          <a:latin typeface="Arial"/>
                        </a:rPr>
                        <a:t> </a:t>
                      </a:r>
                      <a:r>
                        <a:rPr b="0" lang="es-AR" sz="1800" spc="-1" strike="noStrike">
                          <a:solidFill>
                            <a:srgbClr val="595959"/>
                          </a:solidFill>
                          <a:latin typeface="Arial"/>
                        </a:rPr>
                        <a:t>No proporcionan ideas sobre un tema interesante.</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95959"/>
                          </a:solidFill>
                          <a:latin typeface="Arial"/>
                        </a:rPr>
                        <a:t> </a:t>
                      </a:r>
                      <a:r>
                        <a:rPr b="0" lang="es-AR" sz="1800" spc="-1" strike="noStrike">
                          <a:solidFill>
                            <a:srgbClr val="595959"/>
                          </a:solidFill>
                          <a:latin typeface="Arial"/>
                        </a:rPr>
                        <a:t>Pueden molestar a los entrevistados o hacerlos sentirse incómodos.</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95959"/>
                          </a:solidFill>
                          <a:latin typeface="Arial"/>
                        </a:rPr>
                        <a:t> </a:t>
                      </a:r>
                      <a:r>
                        <a:rPr b="0" lang="es-AR" sz="1800" spc="-1" strike="noStrike">
                          <a:solidFill>
                            <a:srgbClr val="595959"/>
                          </a:solidFill>
                          <a:latin typeface="Arial"/>
                        </a:rPr>
                        <a:t>Harán que el entrevistado pierda el interés.</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95959"/>
                          </a:solidFill>
                          <a:latin typeface="Arial"/>
                        </a:rPr>
                        <a:t> </a:t>
                      </a:r>
                      <a:r>
                        <a:rPr b="0" lang="es-AR" sz="1800" spc="-1" strike="noStrike">
                          <a:solidFill>
                            <a:srgbClr val="595959"/>
                          </a:solidFill>
                          <a:latin typeface="Arial"/>
                        </a:rPr>
                        <a:t>Pueden perturbar el flujo de la convers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Qué, Dónde, Quién, Cómo, Por Qué, Cuándo</a:t>
            </a:r>
            <a:endParaRPr b="0" lang="en-US" sz="4000" spc="-1" strike="noStrike">
              <a:solidFill>
                <a:srgbClr val="cc3300"/>
              </a:solidFill>
              <a:latin typeface="Arial"/>
            </a:endParaRPr>
          </a:p>
        </p:txBody>
      </p:sp>
      <p:sp>
        <p:nvSpPr>
          <p:cNvPr id="110" name=""/>
          <p:cNvSpPr txBox="1"/>
          <p:nvPr/>
        </p:nvSpPr>
        <p:spPr>
          <a:xfrm>
            <a:off x="457200" y="2117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órmula para obtener la historia comple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é tipos de información se busca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cer preguntas que producirán la mayor cantidad de información sobre el tem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10-05-20T13:31:37Z</dcterms:modified>
  <cp:revision>31</cp:revision>
  <dc:subject/>
  <dc:title>Presentación - Técnicas de entrevis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