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8688-3DA4-406B-9FF9-D27E365C6E1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188F-32F3-48BF-853A-E4D063DECCF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Ejercicio 2: Mapa 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Ejercicio 1: Código Secreto de la Escritura Abrevi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 Unidad proporciona una revisión amplia del proceso de toma de notas en el campo, incluyendo la organización de notas de campo, las herramientas y técnicas importantes de toma de notas para captar tanta información pertinente y de alta calidad como sea pos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os capacitadores pueden querer recordar a los participantes que el tipo de cuaderno preferible variará dependiendo de las razones para tomar notas y las condiciones locales. Por ejemplo, si quien toma notas desea escribir mucho, puede querer un cuaderno con rayas, aunque las hojas lisas pueden ser una mejor opción si se van a hacer muchos croquis o mapas mentales. En forma similar, el papel a prueba de agua puede no ser tan importante si las notas no serán tomadas al aire lib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os lápices de mina comunes son preferibles porque se les puede sacar punta en una superficie dura, como por ejemplo, una ro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lgunos ejemplos de situaciones donde puede resultar inapropiado tomar notas incluy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nversaciones priv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eremonias priv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ituaciones en las que puede considerarse irrespetuoso tomar notas, por ejemplo, un fun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uando recién se conoce a una persona o grupo de person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penderá en gran medida del criterio si deberían tomarse notas o 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E7B6-F6FA-4452-A65C-12043EF37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6578-CD5B-4FA4-88BC-A92671AA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8E09-0C30-4486-9694-1B251A0B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4A12-59BD-4BE8-9ABE-BF4D9C1D22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40FE5-FE08-4EC7-BB6C-402BABAE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096E3-3D47-4ACA-8DA8-BDFCB8A6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D980C-F459-4437-AFFE-CCE5FC13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F2144-32F9-412B-8D12-32551826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11831-85AD-4F36-A5F6-6E0CA2F3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9D358-406A-4248-9011-9E8D7756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1743E-A515-4B67-8E23-86D8913F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4FED-4C52-4CE5-BB2E-20B9B79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0826B-8980-4C16-98EA-870532D5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B954F-1C12-41EE-9C95-3B4ADB1A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C0BF5-E198-4D35-B1BC-9BBAADAF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99813-8DD2-4A50-BC2B-D391C821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73CAD-A591-4C82-B9A6-74D0C345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D4E4-5A95-40B1-81E4-E9059007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DDDBD-4F72-46EC-91BF-887EB794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5845-2744-4194-AD06-829EB557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8106-726A-486A-A6A0-4FDDEFB4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A4A1-177E-423D-8D79-E8AC4807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7B2A-CBFF-4215-B993-FD409A61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8E3D-4CF5-4A05-972E-D80381B8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B339-B900-4ED3-B4FC-585677A3DF6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47F5-233B-4B07-93F1-53A932DE842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undamentos para la Toma de Notas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69696"/>
                </a:solidFill>
                <a:latin typeface="Arial"/>
              </a:rPr>
              <a:t>Documentació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741400" y="515772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Jon Corbett y Kasondra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4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iario Person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ugar para registrar pensamientos e ideas person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ructurado en forma similar al cuadern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e registra la fecha y hor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o necesariamente utilizado para informar al mapa o futuros inform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écnicas de Toma de Not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da persona tendrá la suya propi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sarrollar un sistema que funcione para us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écnicas para registrar más información en menos tiemp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apa ment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critura abreviada y abreviatur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a Men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iagrama utilizado para organizar pensamientos a través de palabras, conceptos e imáge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ienza con una idea central y trabajar hacia fuer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e usa para ilustrar relaci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ejora con colores, símbolos, íconos y flech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Utilización de la Escritura Abreviada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ás rápido escribir en forma esquemátic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breviar palabras y usar símbol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Quienes toman notas pueden querer desarrollar su propia escritura abrevia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iempre mantener una leyenda de las abreviaturas o símbolos que han sido usad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e requiere como medio 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ocumentar conocimiento loc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gistrar observaci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gistrar ideas que presenten los miembros comunitari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Hacer un seguimiento de lo que se ha hech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rganización de notas de camp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erramientas de toma de no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écnicas para captar inform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Herramientas de Toma de Nota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1264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tilizadas par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gistrar comentarios u observaciones improvisa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rear un registro de pasos que han sido da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notas deberían ser tomadas en forma regula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erramientas confiables necesaria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uadern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tensilios de escritu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 Cuadern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urabilidad y portabilidad son las dos características más import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uficientemente grande para escribir, suficientemente pequeño para ser transportad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apa dur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áginas enumerad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apel a prueba de agu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Utensilios de Escritur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mportantes para asegurar que los datos registrados no se desintegren o borr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ápic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ina median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vitar lápices mecánic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Bolígraf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ección de respaldo si no hubiera un lápiz disponibl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itar bolígrafos con punta de fieltro o fu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uándo Tomar Not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uede resultar inapropiado tomar notas en algunas situaci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odría causar desinteré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odría hacer que algunas personas se sientan incómod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Organización del Cuadern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cluir nombre e información de contacto en la cubierta intern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jar unas pocas páginas en blanco para un índ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tegorización de tipos de observ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rma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enzar cada nuevo día o entrevista con una nueva págin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gistrar la fecha y hora en un formato consist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uede incluir nombres de personas prese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gistrar ubicació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dría involucrar un croquis del áre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gistro de Observacio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oma de notas objetiv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vitar escribir la propia interpretación de quien toma not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gistrar ocurrencias re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ideas personales pueden ser notadas brevemente y exploradas posteriormente en un diario person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rganización en múltiples secci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e puede querer hacer un resumen al final de cada serie de no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ens</cp:lastModifiedBy>
  <dcterms:modified xsi:type="dcterms:W3CDTF">2010-05-20T14:07:34Z</dcterms:modified>
  <cp:revision>17</cp:revision>
  <dc:subject/>
  <dc:title>Presentación - Fundamentos para la Toma de Not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/>
  </property>
  <property fmtid="{D5CDD505-2E9C-101B-9397-08002B2CF9AE}" pid="7" name="Slides">
    <vt:lpwstr>13</vt:lpwstr>
  </property>
  <property fmtid="{D5CDD505-2E9C-101B-9397-08002B2CF9AE}" pid="8" name="Subject">
    <vt:lpwstr/>
  </property>
  <property fmtid="{D5CDD505-2E9C-101B-9397-08002B2CF9AE}" pid="9" name="_Author">
    <vt:lpwstr/>
  </property>
  <property fmtid="{D5CDD505-2E9C-101B-9397-08002B2CF9AE}" pid="10" name="_Category">
    <vt:lpwstr/>
  </property>
  <property fmtid="{D5CDD505-2E9C-101B-9397-08002B2CF9AE}" pid="11" name="_Comments">
    <vt:lpwstr/>
  </property>
</Properties>
</file>