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7F1-DB6C-43B3-A9A1-27C8D5CE3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935E-7259-4C53-BA67-15DD87C27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379F-88C1-4731-A510-E5CEAF111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F27-F2C6-43FC-BB7D-7AC997F08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F49-F543-443B-8F77-C8D454EB4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AD4-27D6-435D-9CA8-63B711CDC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8AD0-A8EB-48BD-B6D9-72FB08E19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26B-6B9D-456D-B995-A1E74F91A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B749-CCFC-4B54-883C-AEAAA4304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21C-DE86-40E2-8ABA-B2E26E45C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A77-7A2D-4C2B-84CD-8AA1AA14C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E94-83E8-4642-B1BE-8E2997FEE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7CC-8AFD-4524-AA0A-BB6BB9B6D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AF4-7831-41D6-86FD-F5D56C47B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9C0D-C99F-4ABF-9199-E983DA6CE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315-96E9-4185-B7AA-33A19A17B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851-E5B4-499D-9B2B-E72457FD0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FB21-19B6-427B-81D7-02DE63A33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A78-61FF-424B-8CD6-351AED4BF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BD1-1F7D-440F-A577-CE4A946BB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EEC0-436E-441A-BA17-DD792E293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3DC6-CAF1-451D-A1FA-630C62C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416A-4BC3-4FBB-A3C9-6EE8DA9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3399-519E-4FAB-8AC2-FDE5CC556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66EAF-671A-4E77-8157-2809D902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2D481-BF48-4D73-9546-AC607DCE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5E3FE-DB04-4599-A779-9743A995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20FB7-0501-409B-BD0F-70F4000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178BB-DA2C-458A-BD6C-6B1AAF79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EE2DF-7855-4409-A7A0-7D6DFC97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2FDC-C66F-425A-9A5A-BF1B1BA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1B69-6E62-4210-80B5-690F94E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FAA77-E9C2-4111-A9DD-59DB616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6998F-40DD-4468-961F-CFA780D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C9D1A-9282-4642-97D4-E91C843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5A31-04DD-4D2B-A0ED-330AA1D2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93EB5-26AF-476A-A59F-90CEC591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DFE7-70D1-4829-BB1D-A14B55DB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41FD-3EA1-4B79-B968-3C4C2416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F259-D6F4-457C-A31B-7288AC00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B23E-4C70-4D2B-8506-DF84BFC8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3F10-DD6E-469E-B365-6CC297F7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7B60-957E-4FE6-BB44-64B6128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A59B-A4EF-4F1A-9D18-C9CD89B5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9418-ED2A-48F4-BE3B-6BCDE7564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E2A-DD72-44E8-8F0D-9E2E83804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sightshare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sightshare.org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id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Autofit/>
          </a:bodyPr>
          <a:p>
            <a:pPr marL="39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“</a:t>
            </a:r>
            <a:r>
              <a:rPr b="1" i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Se necesitan dos para decir la verdad , uno que hable y otro que escuche.</a:t>
            </a:r>
            <a:r>
              <a:rPr b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96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cc3300"/>
                </a:solidFill>
                <a:latin typeface="Arial"/>
                <a:ea typeface="Arial"/>
              </a:rPr>
              <a:t>Henry Thoreau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120" y="3657600"/>
            <a:ext cx="1460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Ori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879800" y="3429000"/>
            <a:ext cx="1778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Project 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854760" y="3276720"/>
            <a:ext cx="179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Reporting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&amp;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Sustain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476360" y="5805360"/>
            <a:ext cx="6048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Este Módulo es una adaptación de los métodos de capacitación desarrollados por InsightShare. </a:t>
            </a:r>
            <a:br>
              <a:rPr sz="1200"/>
            </a:b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Para obtener más información, sírvase visitar el sitio </a:t>
            </a:r>
            <a:r>
              <a:rPr b="0" lang="es-AR" sz="12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www.insightshar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Por qué usar guiones gráficos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reunir diferentes ideas, puntos de vista, métodos y experiencias en una historia, alrededor de un tema comú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uede ayudar a desarrollar consens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las personas a comunicar ideas y sentimientos en forma visualmente interesante, con diferentes ubicaciones y presentador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los participantes a entender cómo contar una historia como una pieza visual, con un comienzo, un desarrollo y un fin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ermite al facilitador incluir a tod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crear un plan en particular a partir del cual puede comenzar la film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Herramientas de Análi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11920" cy="5230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Árbol de problem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Prioriz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Métodos de entrevista Ríos de Vi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Un Día en la Vi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Ejercicio de vis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¿Otro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2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Sesión Práctic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91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Reunirse en dos grupos de seis personas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En cada grupo, elegir a dos personas como facilitadores y cuatro personas como miembros comunitarios.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dejan la sala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miembros comunitarios deciden qué tipo de problemas enfrentan y qué tipo de papel tienen en la comunidad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deciden qué tipo de método de evaluación rural participativa les gustaría usar y quién va a hacer qué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trabajan con los participantes y: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71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5f5f5f"/>
                </a:solidFill>
                <a:latin typeface="Arial"/>
              </a:rPr>
              <a:t>Llevan a cabo una exploración de evaluación rural participativa. 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71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5f5f5f"/>
                </a:solidFill>
                <a:latin typeface="Arial"/>
              </a:rPr>
              <a:t>Dibujan un guión gráfico.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participantes filman la representación de roles desarrollados en el guión gráfico, escena por escena (1 minuto máximo por escena)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2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500800" y="1643040"/>
            <a:ext cx="3341520" cy="2228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olver a Exhibi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6840"/>
            <a:ext cx="4900320" cy="30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Imaginen que todavía están en su comunidad de ficción.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A y el B se reúnen alrededor del televiso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A comienza. Los “facilitadores” invitan a un “miembro comunitario” a aprender cómo conectar la cámara al televisor y a volver a reproducir el metraje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4142880"/>
            <a:ext cx="7286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B simula que son miembros de la comunidad del equipo A que no participaron en la filmación del VP, pero que ahora han venido a ver la filmación que sus vecinos han hech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Todos miran la filmación enter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olver a Exhibi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232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os “Facilitadores” generan discusión entre los “miembros comunitarios” 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Felicitarlos por su logr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reguntar qué les gustó sobre ell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reguntarles en qué lo cambiarían o mejorarían. Pedirles que imaginen que son partes externas; ¿Los convencería su campaña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¿Es su caso suficientemente fuerte? ¿Está faltando algo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edir aportes a los “miembros comunitarios” que no fueron parte de la filmación (esto es, Equipo B). ¿Les gustaría agregar algo en cámara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lanificar una nueva filmación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Discutir las estrategias de público, quién verá la filmación, cómo, dónde…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petir con el Equipo B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Reflexión sobre la Sesión de Práctic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Pensar y escuchar: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cuatro “facilitadores” se reúnen para una lluvia de ideas sobre la pregunta: ¿Cómo se sintió ser un facilitador?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ocho “miembros comunitarios” se reúnen y reflexionan sobre cómo resultó ser facilitad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iscusión grupal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l equipo A y el B se reúnen. Escribir una lista de consejos y principios de facilitación, incluyendo el manejo de la exhibición y de los obstácul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Ambos equipos presentan su lista para discusión gener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03320" y="613080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7157880" y="5599080"/>
            <a:ext cx="31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029-5508-4263-BD66-07F3CE4158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Consentimiento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, Edición y A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cabado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752480" y="624528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47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Consentimiento, Edición y Acabad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94560" cy="53038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Ser claro desde el principio sobre la forma en que el proceso de VP va a funcionar y luego ajustarse a sus compromis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Manejar las expectativ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dición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Capacitar a los miembros comunitarios, si fuese práctic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Hacer una edición en pape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ditar en la comun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Hacer exhibiciones de filmaciones a medio editar y procurar aport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Utilizar imágenes del proceso, si pudie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Consentimiento, Edición y Acabad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Discutir posibles repercusiones negativ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Buscar el consenso de todos los miembros comunitarios sobre la versión fi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Buscar consentimiento y permiso para mostrar la filmación a partes ext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Grabar este consentimiento en la cáma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Asegurarse de que los miembros comunitarios tengan sus propias copias de la fil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c3300"/>
                </a:solidFill>
                <a:latin typeface="Arial"/>
                <a:ea typeface="Arial"/>
              </a:rPr>
              <a:t>Consejos Técnicos, Lecturas y Recursos Adicionales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1412640"/>
            <a:ext cx="8358120" cy="5159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Este Módulo o UNIDAD ??es una adaptación de métodos de capacitación desarrollados por Insight, una organización dedicada a promover la práctica del video participativo. Por más información sobre el VP como lo practican Insight y sus asociados, sírvase visitar </a:t>
            </a:r>
            <a:r>
              <a:rPr b="0" lang="es-AR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www.insightshare.org</a:t>
            </a:r>
            <a:r>
              <a:rPr b="0" lang="es-AR" sz="2000" spc="-1" strike="noStrike" u="sng">
                <a:solidFill>
                  <a:srgbClr val="5f5f5f"/>
                </a:solidFill>
                <a:uFillTx/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Leer el manual de Insight por Nick y Chris Lunch, que también puede ser descargado del sitio web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Otras publicaciones sobre video participativo incluyen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articipatory Video” por Jackie Shaw y Clive Robertson (1997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articipatory Video” por Shirley White (200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Eyes</a:t>
            </a:r>
            <a:r>
              <a:rPr b="0" i="1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See, Ears Hear”</a:t>
            </a:r>
            <a:r>
              <a:rPr b="0" i="1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or Donald Snowd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Las cámaras cambian todo el tiempo, pero como requisito mínimo recomendamos utilizar una cámara con una entrada para micrófono y una entrada para auriculares. Evitar las cámaras con tarjeta de memoria y cámaras de DV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215040" y="6068880"/>
            <a:ext cx="2549520" cy="7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ómo E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nseña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nsightShare Video Participativo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872040" cy="46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El Video Participativo en Pocas Palabra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574640"/>
            <a:ext cx="8456760" cy="49262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participantes, hombres, mujeres, jóvenes,  aprenden rápidamente a usar equipos de video mediante juegos y actividad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facilitadores ayudan a los grupos a identificar y analizar temas importantes en su comun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Breves videos y mensajes son dirigidos por los participant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l metraje se muestra a la comunidad más amplia en exhibiciones diari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Un proceso dinámico de aprendizaje guiado por la comunidad se pone en movimient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¿Qué podemos hacer con ello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889760" cy="4300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Concientización, campañas y defensa (comunicación horizont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Compartir conocimiento e innovación (comunicación horizont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Otorgar a las personas un sentido de valía y una voz (empoderamiento y terapia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Mirar el video “Insights into Participatory Video” y cuáles son cuá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¿Qué puede ofrecer el VP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561440" cy="5159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28680" indent="-289080">
              <a:lnSpc>
                <a:spcPct val="8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V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rigina interé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Confiere poder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clara. 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mplía.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Cataliza.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s inclusivo y flexible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s accesible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quipa a las personas con habilidades y actitudes positiva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Divulga la buena práctic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28680" indent="0">
              <a:lnSpc>
                <a:spcPct val="85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9000" cy="5244840"/>
          </a:xfrm>
          <a:prstGeom prst="rect">
            <a:avLst/>
          </a:prstGeom>
          <a:ln w="12600">
            <a:solidFill>
              <a:srgbClr val="fbdf5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Reflexiones sobre el Juego de los Nombr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18960"/>
            <a:ext cx="5616720" cy="53528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Quiebra el hiel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Presenta el equip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Aprendizaje práctic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Entrega el control inmediatamente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Muestra confianza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Ecualizado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Supera miedos y desarrolla confianza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Aprendizaje técnico (Ver páginas 26 y 27 del manual)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Encender/apagar el equip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Iniciar/detener la grabación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Luz roja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Sonid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Siluetas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Consideraciones de sonid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857920" y="1490760"/>
            <a:ext cx="289548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Otros Jueg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280" y="1257480"/>
            <a:ext cx="7853400" cy="5171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Juego de Desaparició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esarrolla la confianza para presionar “grabar” para que todos puedan hacerl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Muestra la magia del video y la capacidad de manipular el tiempo y jugar con la real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Giro en el Cuadr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esarrolla la confianza y la intim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participantes practican el encuadre y la visualización a través del “ojo” de la cáma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Presenta ángulos inusual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Conexión de la cámara al televisor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nseña que el director está a carg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30400" y="6426360"/>
            <a:ext cx="624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uión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Gráfic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57880" y="5599080"/>
            <a:ext cx="31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F0B-357A-4014-9ED2-12D35A753B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168560" y="1447920"/>
            <a:ext cx="65610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1:38:22Z</dcterms:created>
  <dc:creator>Giacomo Rambaldi</dc:creator>
  <dc:description/>
  <cp:keywords>pgis training kit</cp:keywords>
  <dc:language>en-US</dc:language>
  <cp:lastModifiedBy>martens</cp:lastModifiedBy>
  <dcterms:modified xsi:type="dcterms:W3CDTF">2010-05-25T14:20:07Z</dcterms:modified>
  <cp:revision>63</cp:revision>
  <dc:subject/>
  <dc:title>Presentación - Video Particip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