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808080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33AB-E885-4C45-B840-7E9821C93D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2367-1674-412E-9BAE-67FC46FF60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EB34-0743-431D-BE12-0D8B8F5882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7005-D803-404A-9F39-EA597A7426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1A4F-FE86-4B81-8889-51F9D2439C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8F67-D949-48A7-B01B-408136D961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CB7D-4425-4282-AE15-E5150478FA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240C-541F-420B-BEB5-648C2688EF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0F63-ECD4-4DD0-AA9A-1CCF98A3F5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DF94-30AD-4873-84BF-4B9D4AB73F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8DEC-3015-4BD8-AA38-4F8EDE9D08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6C11-79B1-432E-8E37-25D940CBB1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1B52-A03B-4A2D-8878-9E597421E7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D90D-5D94-4D15-A51F-BFA7133782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88EB-2FA1-401F-8E18-9CE7084789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2433-B244-4059-BEF9-43A2696BEC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B573-4424-4FBF-9755-AE3E2F39FE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D356-AD89-4563-A48F-BF3B0DE945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9DBB-82AA-4B95-AE78-27F867781D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FA03-58A5-4BD5-9BA5-A474ECA90F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441BE-F511-4D17-ACA3-0B42A4C5B7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4F45B-67F9-4EFB-B167-B7C47A8D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232EF-9CD6-4C5F-ABC9-D4306725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A5DD4-4DD6-41FE-B466-FF9E956F9D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06619-F3C7-4009-A116-8D6D200F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BEF15-5483-4ECC-95D4-12C1945E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F4EC4-3995-45B3-AB64-BEA65375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E085D-867F-4EBB-B451-DC3AC6EB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39CD8-65CD-48C4-B2BC-DC2D7504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D4476-AF39-4FB9-8BC1-0AFFB959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A6F1E-AD68-49EB-AA74-60FDC2E2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DBF0F-E25E-4479-9130-AC89B2CF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F5BCA-61BB-4D33-8DDC-B64CC167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B5B3E-C788-4F35-BED4-3402218C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0CE99-B014-46DC-81F6-2F423F1B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538F7-7B04-461B-862A-05D53B8E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E7146-B210-4812-8370-45BDCF7ED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AF309-0311-4578-894C-CEE39F0A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58ECC-4BE7-41C1-9A8C-10858900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021C3-0E5C-4E98-B342-C06EE65C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29396-BF8E-4ACD-9269-66949A0A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D334C-F2A9-44F8-BCA9-7266E3AE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EE690-FDBB-470B-B209-4BDF46D6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D0175-03C7-4389-B0F9-9BC95071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609D-8256-4FAD-B255-8C3F6CC89B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0B0E-3974-4485-A848-BC9A569569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sightshare.org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nsightshare.org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  <a:ea typeface="Arial"/>
              </a:rPr>
              <a:t>Video Participativ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Autofit/>
          </a:bodyPr>
          <a:p>
            <a:pPr marL="39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cc3300"/>
                </a:solidFill>
                <a:latin typeface="Arial"/>
                <a:ea typeface="Arial"/>
              </a:rPr>
              <a:t>“</a:t>
            </a:r>
            <a:r>
              <a:rPr b="1" i="1" lang="es-AR" sz="2000" spc="-1" strike="noStrike">
                <a:solidFill>
                  <a:srgbClr val="cc3300"/>
                </a:solidFill>
                <a:latin typeface="Arial"/>
                <a:ea typeface="Arial"/>
              </a:rPr>
              <a:t>Se necesitan dos para decir la verdad , uno que hable y otro que escuche.</a:t>
            </a:r>
            <a:r>
              <a:rPr b="1" lang="es-AR" sz="2000" spc="-1" strike="noStrike">
                <a:solidFill>
                  <a:srgbClr val="cc3300"/>
                </a:solidFill>
                <a:latin typeface="Arial"/>
                <a:ea typeface="Arial"/>
              </a:rPr>
              <a:t>”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96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cc3300"/>
                </a:solidFill>
                <a:latin typeface="Arial"/>
                <a:ea typeface="Arial"/>
              </a:rPr>
              <a:t>Henry Thoreau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62120" y="3657600"/>
            <a:ext cx="1460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5680" tIns="38160" bIns="38160" anchor="t">
            <a:noAutofit/>
          </a:bodyPr>
          <a:p>
            <a:pPr marL="79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Lucida Grande"/>
              </a:rPr>
              <a:t>Orient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879800" y="3429000"/>
            <a:ext cx="1778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5680" tIns="38160" bIns="38160" anchor="t">
            <a:noAutofit/>
          </a:bodyPr>
          <a:p>
            <a:pPr marL="79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Lucida Grande"/>
              </a:rPr>
              <a:t>Project Implement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6854760" y="3276720"/>
            <a:ext cx="179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5680" tIns="38160" bIns="38160" anchor="t">
            <a:noAutofit/>
          </a:bodyPr>
          <a:p>
            <a:pPr marL="79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Lucida Grande"/>
              </a:rPr>
              <a:t>Reporting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Lucida Grande"/>
              </a:rPr>
              <a:t>&amp;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Lucida Grande"/>
              </a:rPr>
              <a:t>Sustainabi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476360" y="5805360"/>
            <a:ext cx="60483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Este Módulo es una adaptación de los métodos de capacitación desarrollados por InsightShare. </a:t>
            </a:r>
            <a:br>
              <a:rPr sz="1200"/>
            </a:br>
            <a:r>
              <a:rPr b="0" lang="es-AR" sz="1200" spc="-1" strike="noStrike">
                <a:solidFill>
                  <a:srgbClr val="000000"/>
                </a:solidFill>
                <a:latin typeface="Arial"/>
                <a:ea typeface="Arial"/>
              </a:rPr>
              <a:t>Para obtener más información, sírvase visitar el sitio </a:t>
            </a:r>
            <a:r>
              <a:rPr b="0" lang="es-AR" sz="1200" spc="-1" strike="noStrike" u="sng">
                <a:solidFill>
                  <a:srgbClr val="cc3300"/>
                </a:solidFill>
                <a:uFillTx/>
                <a:latin typeface="Arial"/>
                <a:ea typeface="Arial"/>
                <a:hlinkClick r:id="rId1"/>
              </a:rPr>
              <a:t>www.insightshare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¿Por qué usar guiones gráficos?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3024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Ayuda a reunir diferentes ideas, puntos de vista, métodos y experiencias en una historia, alrededor de un tema común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Puede ayudar a desarrollar consenso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Ayuda a las personas a comunicar ideas y sentimientos en forma visualmente interesante, con diferentes ubicaciones y presentadore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Ayuda a los participantes a entender cómo contar una historia como una pieza visual, con un comienzo, un desarrollo y un final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Permite al facilitador incluir a todo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Ayuda a crear un plan en particular a partir del cual puede comenzar la filmación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  <a:ea typeface="Arial"/>
              </a:rPr>
              <a:t>Herramientas de Análisi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11920" cy="5230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960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Mape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960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Árbol de problem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960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Prioriza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960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Métodos de entrevista Ríos de Vid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960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Un Día en la Vid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960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Ejercicio de vis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9600">
              <a:lnSpc>
                <a:spcPct val="95000"/>
              </a:lnSpc>
              <a:spcAft>
                <a:spcPts val="1400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s-AR" sz="3200" spc="-1" strike="noStrike">
                <a:solidFill>
                  <a:srgbClr val="5f5f5f"/>
                </a:solidFill>
                <a:latin typeface="Arial"/>
                <a:ea typeface="Arial"/>
              </a:rPr>
              <a:t>¿Otros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261248" presetSubtype="17253786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261248" presetSubtype="17253786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261248" presetSubtype="17253786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500"/>
                            </p:stCondLst>
                            <p:childTnLst>
                              <p:par>
                                <p:cTn id="86" nodeType="afterEffect" fill="hold" presetClass="entr" presetID="1261248" presetSubtype="17253786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ntr" presetID="1261248" presetSubtype="17253786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2500"/>
                            </p:stCondLst>
                            <p:childTnLst>
                              <p:par>
                                <p:cTn id="92" nodeType="afterEffect" fill="hold" presetClass="entr" presetID="1261248" presetSubtype="17253786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" nodeType="afterEffect" fill="hold" presetClass="entr" presetID="1261248" presetSubtype="17253786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  <a:ea typeface="Arial"/>
              </a:rPr>
              <a:t>Sesión Práctica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569080" cy="55911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43080">
              <a:lnSpc>
                <a:spcPct val="95000"/>
              </a:lnSpc>
              <a:spcAft>
                <a:spcPts val="8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</a:rPr>
              <a:t>Reunirse en dos grupos de seis personas.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8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</a:rPr>
              <a:t>En cada grupo, elegir a dos personas como facilitadores y cuatro personas como miembros comunitarios.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8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</a:rPr>
              <a:t>Los facilitadores dejan la sala.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8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</a:rPr>
              <a:t>Los miembros comunitarios deciden qué tipo de problemas enfrentan y qué tipo de papel tienen en la comunidad.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8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</a:rPr>
              <a:t>Los facilitadores deciden qué tipo de método de evaluación rural participativa les gustaría usar y quién va a hacer qué.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8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</a:rPr>
              <a:t>Los facilitadores trabajan con los participantes y: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5000"/>
              </a:lnSpc>
              <a:spcAft>
                <a:spcPts val="711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5f5f5f"/>
                </a:solidFill>
                <a:latin typeface="Arial"/>
              </a:rPr>
              <a:t>Llevan a cabo una exploración de evaluación rural participativa. </a:t>
            </a:r>
            <a:endParaRPr b="0" lang="en-US" sz="19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5000"/>
              </a:lnSpc>
              <a:spcAft>
                <a:spcPts val="711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5f5f5f"/>
                </a:solidFill>
                <a:latin typeface="Arial"/>
              </a:rPr>
              <a:t>Dibujan un guión gráfico.</a:t>
            </a:r>
            <a:endParaRPr b="0" lang="en-US" sz="19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8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</a:rPr>
              <a:t>Los participantes filman la representación de roles desarrollados en el guión gráfico, escena por escena (1 minuto máximo por escena).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261248" presetSubtype="172548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1261248" presetSubtype="172548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261248" presetSubtype="172548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500"/>
                            </p:stCondLst>
                            <p:childTnLst>
                              <p:par>
                                <p:cTn id="110" nodeType="afterEffect" fill="hold" presetClass="entr" presetID="1261248" presetSubtype="172548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1261248" presetSubtype="172548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6" nodeType="afterEffect" fill="hold" presetClass="entr" presetID="1261248" presetSubtype="172548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1261248" presetSubtype="172548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2" nodeType="afterEffect" fill="hold" presetClass="entr" presetID="1261248" presetSubtype="172548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5" nodeType="afterEffect" fill="hold" presetClass="entr" presetID="1261248" presetSubtype="172548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5500800" y="1643040"/>
            <a:ext cx="3341520" cy="22287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  <a:ea typeface="Arial"/>
              </a:rPr>
              <a:t>Volver a Exhibir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356840"/>
            <a:ext cx="4900320" cy="30006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4308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</a:rPr>
              <a:t>Imaginen que todavía están en su comunidad de ficción. 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</a:rPr>
              <a:t>El equipo A y el B se reúnen alrededor del televisor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</a:rPr>
              <a:t>El equipo A comienza. Los “facilitadores” invitan a un “miembro comunitario” a aprender cómo conectar la cámara al televisor y a volver a reproducir el metraje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760" y="4142880"/>
            <a:ext cx="7286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59640" indent="-32220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59640" indent="-3222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</a:rPr>
              <a:t>El equipo B simula que son miembros de la comunidad del equipo A que no participaron en la filmación del VP, pero que ahora han venido a ver la filmación que sus vecinos han hecho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59640" indent="-3222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</a:rPr>
              <a:t>Todos miran la filmación entera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5964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59640" indent="-32220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  <a:ea typeface="Arial"/>
              </a:rPr>
              <a:t>Volver a Exhibir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52326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Los “Facilitadores” generan discusión entre los “miembros comunitarios” 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</a:rPr>
              <a:t>Felicitarlos por su logro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</a:rPr>
              <a:t>Preguntar qué les gustó sobre ello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</a:rPr>
              <a:t>Preguntarles en qué lo cambiarían o mejorarían. Pedirles que imaginen que son partes externas; ¿Los convencería su campaña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</a:rPr>
              <a:t>¿Es su caso suficientemente fuerte? ¿Está faltando algo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</a:rPr>
              <a:t>Pedir aportes a los “miembros comunitarios” que no fueron parte de la filmación (esto es, Equipo B). ¿Les gustaría agregar algo en cámara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</a:rPr>
              <a:t>Planificar una nueva filmación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</a:rPr>
              <a:t>Discutir las estrategias de público, quién verá la filmación, cómo, dónde…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Repetir con el Equipo B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  <a:ea typeface="Arial"/>
              </a:rPr>
              <a:t>Reflexión sobre la Sesión de Práctica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Pensar y escuchar: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Los cuatro “facilitadores” se reúnen para una lluvia de ideas sobre la pregunta: ¿Cómo se sintió ser un facilitador?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Los ocho “miembros comunitarios” se reúnen y reflexionan sobre cómo resultó ser facilitado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Discusión grupal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El equipo A y el B se reúnen. Escribir una lista de consejos y principios de facilitación, incluyendo el manejo de la exhibición y de los obstáculo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Ambos equipos presentan su lista para discusión general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003320" y="613080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261248" presetSubtype="22258284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61248" presetSubtype="22258284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261248" presetSubtype="22258284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261248" presetSubtype="22258284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261248" presetSubtype="22258284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61248" presetSubtype="22258284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7157880" y="5599080"/>
            <a:ext cx="3128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B273-CC52-4E6B-B5FC-A996B50E99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  <a:ea typeface="Arial"/>
              </a:rPr>
              <a:t>Consentimiento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  <a:ea typeface="Arial"/>
              </a:rPr>
              <a:t>, Edición y A</a:t>
            </a:r>
            <a:r>
              <a:rPr b="0" lang="es-AR" sz="4400" spc="-1" strike="noStrike">
                <a:solidFill>
                  <a:srgbClr val="cc3300"/>
                </a:solidFill>
                <a:latin typeface="Arial"/>
                <a:ea typeface="Arial"/>
              </a:rPr>
              <a:t>cabado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752480" y="624528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124760" cy="47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  <a:ea typeface="Arial"/>
              </a:rPr>
              <a:t>Consentimiento, Edición y Acabado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494560" cy="53038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43080">
              <a:lnSpc>
                <a:spcPct val="9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Ser claro desde el principio sobre la forma en que el proceso de VP va a funcionar y luego ajustarse a sus compromiso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Manejar las expectativa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Edición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Capacitar a los miembros comunitarios, si fuese práctico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Hacer una edición en papel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Editar en la comunidad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Hacer exhibiciones de filmaciones a medio editar y procurar aporte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Utilizar imágenes del proceso, si pudiera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261248" presetSubtype="2226034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1261248" presetSubtype="2226034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261248" presetSubtype="2226034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261248" presetSubtype="2226034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61248" presetSubtype="2226034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61248" presetSubtype="2226034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261248" presetSubtype="2226034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61248" presetSubtype="2226034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  <a:ea typeface="Arial"/>
              </a:rPr>
              <a:t>Consentimiento, Edición y Acabado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43080">
              <a:lnSpc>
                <a:spcPct val="95000"/>
              </a:lnSpc>
              <a:spcAft>
                <a:spcPts val="12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  <a:ea typeface="Arial"/>
              </a:rPr>
              <a:t>Discutir posibles repercusiones negativ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12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  <a:ea typeface="Arial"/>
              </a:rPr>
              <a:t>Buscar el consenso de todos los miembros comunitarios sobre la versión final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12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  <a:ea typeface="Arial"/>
              </a:rPr>
              <a:t>Buscar consentimiento y permiso para mostrar la filmación a partes externa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12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  <a:ea typeface="Arial"/>
              </a:rPr>
              <a:t>Grabar este consentimiento en la cámar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12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  <a:ea typeface="Arial"/>
              </a:rPr>
              <a:t>Asegurarse de que los miembros comunitarios tengan sus propias copias de la filmac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261248" presetSubtype="2226034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1261248" presetSubtype="2226034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1261248" presetSubtype="2226034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500"/>
                            </p:stCondLst>
                            <p:childTnLst>
                              <p:par>
                                <p:cTn id="179" nodeType="afterEffect" fill="hold" presetClass="entr" presetID="1261248" presetSubtype="2226034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" nodeType="afterEffect" fill="hold" presetClass="entr" presetID="1261248" presetSubtype="2226034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cc3300"/>
                </a:solidFill>
                <a:latin typeface="Arial"/>
                <a:ea typeface="Arial"/>
              </a:rPr>
              <a:t>Consejos Técnicos, Lecturas y Recursos Adicionales</a:t>
            </a: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480" y="1412640"/>
            <a:ext cx="8358120" cy="51591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4308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Este Módulo o UNIDAD ??es una adaptación de métodos de capacitación desarrollados por Insight, una organización dedicada a promover la práctica del video participativo. Por más información sobre el VP como lo practican Insight y sus asociados, sírvase visitar </a:t>
            </a:r>
            <a:r>
              <a:rPr b="0" lang="es-AR" sz="2000" spc="-1" strike="noStrike" u="sng">
                <a:solidFill>
                  <a:srgbClr val="cc3300"/>
                </a:solidFill>
                <a:uFillTx/>
                <a:latin typeface="Arial"/>
                <a:ea typeface="Arial"/>
                <a:hlinkClick r:id="rId1"/>
              </a:rPr>
              <a:t>www.insightshare.org</a:t>
            </a:r>
            <a:r>
              <a:rPr b="0" lang="es-AR" sz="2000" spc="-1" strike="noStrike" u="sng">
                <a:solidFill>
                  <a:srgbClr val="5f5f5f"/>
                </a:solidFill>
                <a:uFillTx/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Leer el manual de Insight por Nick y Chris Lunch, que también puede ser descargado del sitio web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Otras publicaciones sobre video participativo incluyen: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“</a:t>
            </a: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Participatory Video” por Jackie Shaw y Clive Robertson (1997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“</a:t>
            </a: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Participatory Video” por Shirley White (2003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“</a:t>
            </a: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Eyes</a:t>
            </a:r>
            <a:r>
              <a:rPr b="0" i="1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See, Ears Hear”</a:t>
            </a:r>
            <a:r>
              <a:rPr b="0" i="1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por Donald Snowde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Las cámaras cambian todo el tiempo, pero como requisito mínimo recomendamos utilizar una cámara con una entrada para micrófono y una entrada para auriculares. Evitar las cámaras con tarjeta de memoria y cámaras de DVD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6215040" y="6068880"/>
            <a:ext cx="2549520" cy="7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261248" presetSubtype="22261108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1261248" presetSubtype="22261108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1261248" presetSubtype="22261108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261248" presetSubtype="22261108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261248" presetSubtype="22261108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261248" presetSubtype="22261108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500"/>
                            </p:stCondLst>
                            <p:childTnLst>
                              <p:par>
                                <p:cTn id="203" nodeType="afterEffect" fill="hold" presetClass="entr" presetID="1261248" presetSubtype="22261108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Cómo E</a:t>
            </a:r>
            <a:r>
              <a:rPr b="0" lang="es-AR" sz="4000" spc="-1" strike="noStrike">
                <a:solidFill>
                  <a:srgbClr val="cc3300"/>
                </a:solidFill>
                <a:latin typeface="Arial"/>
              </a:rPr>
              <a:t>nseña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InsightShare Video Participativo?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872040" cy="465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  <a:ea typeface="Arial"/>
              </a:rPr>
              <a:t>El Video Participativo en Pocas Palabra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1574640"/>
            <a:ext cx="8456760" cy="49262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43080">
              <a:lnSpc>
                <a:spcPct val="9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Los participantes, hombres, mujeres, jóvenes,  aprenden rápidamente a usar equipos de video mediante juegos y actividade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Los facilitadores ayudan a los grupos a identificar y analizar temas importantes en su comunidad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Breves videos y mensajes son dirigidos por los participante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El metraje se muestra a la comunidad más amplia en exhibiciones diaria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9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Un proceso dinámico de aprendizaje guiado por la comunidad se pone en movimiento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61248" presetSubtype="220893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261248" presetSubtype="220893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261248" presetSubtype="220893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261248" presetSubtype="220893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261248" presetSubtype="220893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257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  <a:ea typeface="Arial"/>
              </a:rPr>
              <a:t>¿Qué podemos hacer con ello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889760" cy="43005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>
              <a:lnSpc>
                <a:spcPct val="95000"/>
              </a:lnSpc>
              <a:spcAft>
                <a:spcPts val="12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  <a:ea typeface="Arial"/>
              </a:rPr>
              <a:t>Concientización, campañas y defensa (comunicación horizontal)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2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  <a:ea typeface="Arial"/>
              </a:rPr>
              <a:t>Compartir conocimiento e innovación (comunicación horizontal)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2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  <a:ea typeface="Arial"/>
              </a:rPr>
              <a:t>Otorgar a las personas un sentido de valía y una voz (empoderamiento y terapia)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225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  <a:ea typeface="Arial"/>
              </a:rPr>
              <a:t>Mirar el video “Insights into Participatory Video” y cuáles son cuál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261248" presetSubtype="2209067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261248" presetSubtype="2209067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261248" presetSubtype="2209067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261248" presetSubtype="2209067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  <a:ea typeface="Arial"/>
              </a:rPr>
              <a:t>¿Qué puede ofrecer el VP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561440" cy="51591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28680" indent="-289080">
              <a:lnSpc>
                <a:spcPct val="85000"/>
              </a:lnSpc>
              <a:spcAft>
                <a:spcPts val="104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V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31880" indent="-285840">
              <a:lnSpc>
                <a:spcPct val="85000"/>
              </a:lnSpc>
              <a:spcAft>
                <a:spcPts val="901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Origina interés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1880" indent="-285840">
              <a:lnSpc>
                <a:spcPct val="85000"/>
              </a:lnSpc>
              <a:spcAft>
                <a:spcPts val="901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Confiere poderes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1880" indent="-285840">
              <a:lnSpc>
                <a:spcPct val="85000"/>
              </a:lnSpc>
              <a:spcAft>
                <a:spcPts val="901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Aclara.  Qué cosa?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1880" indent="-285840">
              <a:lnSpc>
                <a:spcPct val="85000"/>
              </a:lnSpc>
              <a:spcAft>
                <a:spcPts val="901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Amplía. Qué cosa?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1880" indent="-285840">
              <a:lnSpc>
                <a:spcPct val="85000"/>
              </a:lnSpc>
              <a:spcAft>
                <a:spcPts val="901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Cataliza. Qué cosa?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1880" indent="-285840">
              <a:lnSpc>
                <a:spcPct val="85000"/>
              </a:lnSpc>
              <a:spcAft>
                <a:spcPts val="901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Es inclusivo y flexible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1880" indent="-285840">
              <a:lnSpc>
                <a:spcPct val="85000"/>
              </a:lnSpc>
              <a:spcAft>
                <a:spcPts val="901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Es accesible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1880" indent="-285840">
              <a:lnSpc>
                <a:spcPct val="85000"/>
              </a:lnSpc>
              <a:spcAft>
                <a:spcPts val="901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Equipa a las personas con habilidades y actitudes positivas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31880" indent="-285840">
              <a:lnSpc>
                <a:spcPct val="85000"/>
              </a:lnSpc>
              <a:spcAft>
                <a:spcPts val="901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</a:rPr>
              <a:t>Divulga la buena práctica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28680" indent="0">
              <a:lnSpc>
                <a:spcPct val="85000"/>
              </a:lnSpc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5769000" cy="5244840"/>
          </a:xfrm>
          <a:prstGeom prst="rect">
            <a:avLst/>
          </a:prstGeom>
          <a:ln w="12600">
            <a:solidFill>
              <a:srgbClr val="fbdf53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cc3300"/>
                </a:solidFill>
                <a:latin typeface="Arial"/>
                <a:ea typeface="Arial"/>
              </a:rPr>
              <a:t>Reflexiones sobre el Juego de los Nombre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218960"/>
            <a:ext cx="5616720" cy="53528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43080">
              <a:lnSpc>
                <a:spcPct val="85000"/>
              </a:lnSpc>
              <a:spcAft>
                <a:spcPts val="68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  <a:ea typeface="Arial"/>
              </a:rPr>
              <a:t>Quiebra el hielo.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85000"/>
              </a:lnSpc>
              <a:spcAft>
                <a:spcPts val="68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</a:rPr>
              <a:t>Presenta el equipo.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85000"/>
              </a:lnSpc>
              <a:spcAft>
                <a:spcPts val="68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  <a:ea typeface="Arial"/>
              </a:rPr>
              <a:t>Aprendizaje práctico.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85000"/>
              </a:lnSpc>
              <a:spcAft>
                <a:spcPts val="68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  <a:ea typeface="Arial"/>
              </a:rPr>
              <a:t>Entrega el control inmediatamente.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85000"/>
              </a:lnSpc>
              <a:spcAft>
                <a:spcPts val="68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</a:rPr>
              <a:t>Muestra confianza.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85000"/>
              </a:lnSpc>
              <a:spcAft>
                <a:spcPts val="68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  <a:ea typeface="Arial"/>
              </a:rPr>
              <a:t>Ecualizador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85000"/>
              </a:lnSpc>
              <a:spcAft>
                <a:spcPts val="68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  <a:ea typeface="Arial"/>
              </a:rPr>
              <a:t>Supera miedos y desarrolla confianza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382680" indent="-343080">
              <a:lnSpc>
                <a:spcPct val="85000"/>
              </a:lnSpc>
              <a:spcAft>
                <a:spcPts val="689"/>
              </a:spcAft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5f5f5f"/>
                </a:solidFill>
                <a:latin typeface="Arial"/>
                <a:ea typeface="Arial"/>
              </a:rPr>
              <a:t>Aprendizaje técnico (Ver páginas 26 y 27 del manual).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85000"/>
              </a:lnSpc>
              <a:spcAft>
                <a:spcPts val="524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5f5f5f"/>
                </a:solidFill>
                <a:latin typeface="Arial"/>
                <a:ea typeface="Arial"/>
              </a:rPr>
              <a:t>Encender/apagar el equipo.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85000"/>
              </a:lnSpc>
              <a:spcAft>
                <a:spcPts val="524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5f5f5f"/>
                </a:solidFill>
                <a:latin typeface="Arial"/>
              </a:rPr>
              <a:t>Iniciar/detener la grabación.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85000"/>
              </a:lnSpc>
              <a:spcAft>
                <a:spcPts val="524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5f5f5f"/>
                </a:solidFill>
                <a:latin typeface="Arial"/>
              </a:rPr>
              <a:t>Luz roja.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85000"/>
              </a:lnSpc>
              <a:spcAft>
                <a:spcPts val="524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5f5f5f"/>
                </a:solidFill>
                <a:latin typeface="Arial"/>
              </a:rPr>
              <a:t>Sonido.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85000"/>
              </a:lnSpc>
              <a:spcAft>
                <a:spcPts val="524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5f5f5f"/>
                </a:solidFill>
                <a:latin typeface="Arial"/>
                <a:ea typeface="Arial"/>
              </a:rPr>
              <a:t>Siluetas.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85000"/>
              </a:lnSpc>
              <a:spcAft>
                <a:spcPts val="524"/>
              </a:spcAft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5f5f5f"/>
                </a:solidFill>
                <a:latin typeface="Arial"/>
                <a:ea typeface="Arial"/>
              </a:rPr>
              <a:t>Consideraciones de sonido.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5857920" y="1490760"/>
            <a:ext cx="2895480" cy="386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500"/>
                            </p:stCondLst>
                            <p:childTnLst>
                              <p:par>
                                <p:cTn id="47" nodeType="after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" nodeType="after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" nodeType="after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7500"/>
                            </p:stCondLst>
                            <p:childTnLst>
                              <p:par>
                                <p:cTn id="59" nodeType="after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61248" presetSubtype="2212502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  <a:ea typeface="Arial"/>
              </a:rPr>
              <a:t>Otros Jueg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7280" y="1257480"/>
            <a:ext cx="7853400" cy="51717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96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  <a:ea typeface="Arial"/>
              </a:rPr>
              <a:t>Juego de Desaparición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Desarrolla la confianza para presionar “grabar” para que todos puedan hacerlo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Muestra la magia del video y la capacidad de manipular el tiempo y jugar con la realidad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960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5f5f5f"/>
                </a:solidFill>
                <a:latin typeface="Arial"/>
                <a:ea typeface="Arial"/>
              </a:rPr>
              <a:t> </a:t>
            </a:r>
            <a:r>
              <a:rPr b="0" lang="es-AR" sz="2800" spc="-1" strike="noStrike">
                <a:solidFill>
                  <a:srgbClr val="5f5f5f"/>
                </a:solidFill>
                <a:latin typeface="Arial"/>
                <a:ea typeface="Arial"/>
              </a:rPr>
              <a:t>Giro en el Cuadro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Desarrolla la confianza y la intimidad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Los participantes practican el encuadre y la visualización a través del “ojo” de la cámara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Presenta ángulos inusuale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Conexión de la cámara al televisor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5f5f5f"/>
                </a:solidFill>
                <a:latin typeface="Arial"/>
                <a:ea typeface="Arial"/>
              </a:rPr>
              <a:t>Enseña que el director está a cargo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130400" y="6426360"/>
            <a:ext cx="6248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étodo </a:t>
            </a: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del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uión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Gráfic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157880" y="5599080"/>
            <a:ext cx="3128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A2C0-9BE6-419E-A11C-20AB64EC24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1168560" y="1447920"/>
            <a:ext cx="6561000" cy="4400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11:38:22Z</dcterms:created>
  <dc:creator>Giacomo Rambaldi</dc:creator>
  <dc:description/>
  <cp:keywords>pgis training kit</cp:keywords>
  <dc:language>en-US</dc:language>
  <cp:lastModifiedBy>martens</cp:lastModifiedBy>
  <dcterms:modified xsi:type="dcterms:W3CDTF">2010-05-25T14:20:07Z</dcterms:modified>
  <cp:revision>63</cp:revision>
  <dc:subject/>
  <dc:title>Presentación - Video Participativ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