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7f7f7f"/>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C500-4DDE-48F1-9759-69343B41F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0B5B-0AE6-4690-9C00-DEE18C544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icrófonos lavalier, a veces llamados micrófonos de solapa, se prenden a la ropa del entrevistado con un clip. La posición preferida es en la solapa de una camisa o cerca de ella. Esto proporciona una captación de sonidos de corto alcance consistente y es ideal para situaciones de entrevista en las cuales cada participante tiene su propio micrófono. También significa que el sujeto no tiene que preocuparse por la técnica del micrófono.  Si hay tiempo, el cable puede ser ocultado discretamente en la ropa. Si no hay ningún lugar donde colocar el micrófono en el pecho del sujeto, el cuello proporciona una altern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micrófono lavalier debería ser colocado de manera que no se roce contra la ropa de los sujetos cuando se mueven. Los micrófonos de solapa no son ideales porque producen un sonido más turbio, pero pueden ser útiles para grabar a personas que no están acostumbradas a ser entrevistadas y para las cuales un micrófono común puede ser intimid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3ABC-3267-48C5-BCEB-CBABD5BCE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ntes de grabar una entrevista o discusión, es una buena idea que quien grabe se siente tranquilamente en la sala y simplemente escuche el ambiente. Esto creará una consciencia de diferentes ubicaciones en la sala que podrán producir mejores resultados cuando el entrevistador se aleja de ductos de aire y computadoras. Las puertas y las ventanas deberían ser cerradas, los teléfonos y parlantes de computadoras silenciados y los teléfonos celulares apagados. Si hay ruido, debería estar detrás del entrevistador, de manera que cuando el micrófono esté apuntado al entrevistado, esté directamente lejos del ruido. Tratar de no grabar cerca de ventanas,  paredes y pisos de mármol, ya que el sonido rebota en estas superficies hacia el micrófono, creando un eco hueco. </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982D-97D4-4288-AE6A-315E1529D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bueno utilizar un minuto grabando alguna pequeña conversación con el sujeto y luego escucharla antes de llevar a cabo la entrevista entera.  Esto puede ser un poco incómodo, pero si evita crear una grabación inutilizable, vale la pena. Es bueno grabar a entrevistados diciendo sus nombres, la fecha y un reconocimiento verbal de que están otorgando autorización para grabar y editar sus voces para uso en un proyecto de mapeo participativo. Esto no debería ser borrado, porque es una versión en audio de un formulario de exo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7E47-1E5C-4AA3-9022-F0BB02F42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enes graban a menudo hacen preguntas y/o conversan con la persona que está siendo grabada. Necesitan ser cuidadosos al incentivar a la persona que está siendo grabada diciendo “ajá” o “mmm” o “ya veo”. Cosas que todos dicen en la conversación diaria, para hacer saber a las personas que están escuchando y entendiendo. Estas interrupciones aparecerán en la grabación final y son a menudo muy difíciles de editar. A cambio, el asentimiento con la cabeza y las expresiones faciales van a hacer saber al entrevistado en forma no verbal que quien graba/entrevistador está intere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AEF8-4370-4C82-8201-8D5B74665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mucha frecuencia, las entrevistas son realizadas en el hogar de un entrevistado. Los entrevistados probablemente tienen lugares favoritos donde sentarse, por ejemplo, sus salas de estar. Cualquier dispositivo de grabación de audio que esté siendo usado debería ser posicionado cerca del entrevistado. Si el micrófono fuera colocado en una mesa, debe ser separado de la misma utilizando un soporte de micrófono. Si no se usara un soporte, existe el peligro de que la tapa de la mesa refleje el sonido y cause un eco o efecto hueco en la grabación final. Sería ideal si hubiera una mesa de café a un lado del sofá, donde pudiera colocarse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os de estos ruidos pueden ser minimizados sentando a los entrevistados con sus espaldas hacia el lado más tranquilo de la sala y con el micrófono posicionado frente a ellos, apuntando hacia esa área tran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preferible cerrar ventanas y apagar las computadoras, y acondicionadores de aire durante la entrevista. Si es posible, el timbre del teléfono también debería ser apagado. ¡Esto incluye a los teléfonos celul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ordar que los refrigeradores y acondicionadores de aire se prenden y apagan automáticamente y causan ruido innecesario. Esta es una buena razón para no realizar la entrevista en una cocina. Los entrevistadores siempre deberían utilizar buen criterio con respecto a si es o no recomendable detener la entrevista por un ruido alto, como por ejemplo, un avión o camión que pasa. Podría ser más importante en ese momento dejar que la persona continúe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entrevistador siempre debe equilibrar la calidad del sonido de la entrevista con la comodidad general y tranquilidad del entrevist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masiado alboroto puede hacer que una persona se sienta nerviosa e inhibida cuando sea finalmente el momento de comenzar a habl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BF1F-44F6-44F7-A55D-0CFF055C9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onsiderar dónde debería sentarse el entrevistado en una sala, los entrevistados deberían prestar atención a las cosas alrededor de la sala que podrían causar una distracción. Por ejemplo, los entrevistadores podrán preg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puerta que pueda abrirse durante la entrevis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ventana abier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  televisor o radio encendid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án cerca de un refrigerador, acondicionador de aire o computadora cuyos ventiladores tengan impacto sobre la calidad del au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A5D4-9928-475B-9CEB-402894C89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actividades de mapeo participativo, a menudo es  necesario grabar grupos de personas en diálogo entre sí y/o con un  facilitador o persona que graba. Grabar la discusión de un grupo exitosamente requiere que todos los participantes sean claramente audibles y que las personas sean fácilmente identificables. Para lograr esto, es mejor colocar el dispositivo de grabación en una ubicación cent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fuera posible, resulta útil hacer que todos los participantes se presenten a sí mismos brevemente una vez que la discusión de grupo haya comenzado. Esto será útil al tratar de identificar voces posteriormente. Otro consejo para simplificar la identificación de los participantes es hacer que el moderador llame o agradezca a los entrevistados por nombre u otro ident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aptar una discusión de grupo, quienes graban tienen un importante papel en asegurar que se produzca una grabación de audio de alta calidad. Necesitan recordar a los participantes que hablen alto si están hablando muy bajo y deberían intervenir cuando más de una persona comience a hablar al mismo tiempo. Asimismo, si se sirven bocadillos o bebidas, esto debería hacerse durante una interrupción en la sesión para evitar cualquier ruido inneces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6005-E8D3-4547-86BF-2C7505E74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macenar archivos de audio digitales con fines de archivo, como por ejemplo, cuando se graba conocimiento de los ancianos relacionado con la tierra como apoyo de actividades de mapeo participativo, no es algo tan simple. La preservación de información digital depende de tres fact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operabilidad: Crear archivos digitales en formatos estándar de propiedad no exclusiva, que puedan ser abiertos en cualquier computadora usando software libremente disponible que será soportado con 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dundancia: Almacenar archivos en más de un lugar y crear copias de respaldo múltiples en medios segur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igración: Pasar archivos a nuevos medios antes de que los antiguos medios se degraden y/o se vuelvan obsoletos y pasar archivos a nuevos formatos de archivo estándar antes de que los antiguos formatos ya no sean sopor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actual formato estándar es el de archivos WAV. Es probable que los archivos ya estén codificados o almacenados en este form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8CA1-8AE5-462F-BB30-096CB2285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uardar archivos de audio en múltiples discos duros extern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ar por lo menos dos copias en discos de CD o DVD que contengan los archivos de audio para cada entrevista, usando dos marcas diferentes de medios nuevos  de alta calida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tener los materiales de almacenamiento en más de una ubicación física. Almacenar los discos de CD y DVD en un lugar fresco y seco, lejos de la luz directa del so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erificar los archivos y medios regularmente. Transferir los archivos a nuevos medios si se sospecha de problema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el tiempo, migrar inmediatamente. No demorar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aptado de http://www.vermontfolklifecenter.org/archive/preservation-resources.s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44DA-DED5-4E6D-9191-180E54B23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grabación de audio durante actividades de mapeo participativo puede ser usado con múltiples f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empalmado junto con material de fotografía y video para crear historias digita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usado para crear podcasts para llegar a un amplio público en toda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incorporado en productos de video documental y usado para apoyar a algunos elementos de defensa de las actividades de mapeo particip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usado con fines de archivo y podría ser de gran valor para una comunidad y una familia en años posterio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ambién puede tener usos futuros no previstos. El material podría haber sido grabado con un determinado fin, pero podría tener otros fines para abordar un tema diferente en algún momento en el futuro </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919F-5951-4525-AB8B-DE39FEEE2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Unidad delinea algunos de los fundamentos de la grabación de audio, incluyendo los pasos que pueden ser dados para asegurarse de que la grabación final sea clara y audible. Desarrollará el proceso de organizar y almacenar datos de audio y hacer uso de las grabaciones para proyectos de SIGP.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F24F-736C-475C-BD5A-00FC5F84C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ayoría de los dispositivos de grabación de audio usados en el campo hoy graban y almacenan material en formato digital. Los días de los cassettes y los rollos han pasado y han sido sustituidos por dispositivos pequeños y de mano que utilizan o pequeños discos duros internos, como en una computadora o flash media, por ejemplo, compact flash o secure digital. La elección de un dispositivo de grabación dependerá del equilibrio entre el precio y las necesidades de calidad de audio. Esta Unidad no presenta una descripción de los diferentes modelos. Esta tecnología está cambiando a un ritmo vertiginoso; no obstante, los fundamentos de la grabación de audio continúan siendo los mismos. Esta sección destacará algunas de las habilidades esenciales.</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504B-D5B4-4DAF-9AB2-0B8F3CAF8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auriculares, preferentemente del tipo que cubre la oreja entera,  permiten a la persona que graba el sonido escuchar exactamente lo que está captando el micrófono, o ninguna grabación en algunos casos. Esto puede permitir la eliminación de determinados sonidos, por ejemplo, alguien que esté haciendo ruido con sus pies, que podrían no ser percibidos por el oído, pero que son captados en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BAED-F586-4B91-A3B3-C22099F20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estar plenamente conscientes de cualquier sonido que sea captado por la grabación de audio, quienes graban deberían cerrar sus ojos y escuchar. De forma ideal, la grabación de sonido debería tener lugar en estudios o laboratorios a prueba de ruidos. Sin embargo, estos lugares raras veces están disponibles, por lo que la siguiente mejor situación es encontrar una sala relativamente tranquila con la menor cantidad de ruido y distracción pos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1F7E-12A0-4349-B56B-9C8E18163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entrevistadores no deberían tener miedo de pedir a alguien que apague el televisor, radio, teléfono celular o cualquier cosa que traiga un sonido no deseado a la grabación. Hasta la grabación en una oficina puede ser más ruidosa de lo que uno podría esperar. Los acondicionadores de aire, ventiladores y computadoras crean un zumbido de fondo molesto y constante que no puede ser removido, ya que subyace en todas las partes de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058B-C27F-4FA5-AF8D-77F15ABFB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na grabación debe tener lugar en un ambiente ruidoso, captar dos o tres minutos de “sonido ambiental” al comienzo o al final de cualquier sesión de grabación. Esto puede hacerse  instalando el micrófono y grabando mientras todos los presentes están en silencio. Este sonido ambiental puede ser mezclado en la entrevista posteriormente para suavizar cualquiera de las malas ediciones y hacerlas menos aud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8233-9C0D-456C-AC05-E8C750FF2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na entrevista puede arruinarse por malas técnicas de micrófono, como por ejemplo, cuando el micrófono está demasiado cerca o demasiado lejos del hablante. Cuanto más lejos esté el entrevistado del micrófono, más ruido se introduce en la grabación. Esto hace que el entrevistado suene hueco o retumbante. Si el micrófono está demasiado cerca, una respiración fuerte, ruidos de boca seca o explosivas, o los sonidos explosivos que las personas hacen cuando dicen palabras que comienzan con la letra “p”,  pueden ser escuchad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regla de oro de la colocación del micrófono es colocar el micrófono tan cerca como sea práctico a la fuente de sonido, sin acercarse tanto que se introduzcan efectos indeseados. Un típico micrófono de mano se coloca generalmente a una distancia de 30 cm de los labios del hablante. A veces resulta difícil lograr esto, pero es importante llegar tan cerca como sea po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l objetivo es alcanzar un buen balance entre el sonido del sujeto, esto es, la voz de la persona hablando y el sonido ambiente o los otros ruidos de fondo en la sala en ese momento. En la mayoría de los casos, el sonido del sujeto debería ser el foco claro, complementado con un nivel moderado o bajo de sonido ambiente. El balance deseado variará, dependiendo de la situación y el efecto requerido. Como se discutió anteriormente, las grabaciones generalmente funcionan mejor con pocas distracciones de audio y bajo sonido ambi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3FB8-E055-4C14-8F86-9FC0773EF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entrevistar a alguien usando un micrófono de mano, el micrófono debería ser sostenido con las puntas de los dedos, no el puño entero, ya que esto reduce el ruido de manipulación y permite a los entrevistadores inclinar el micrófono más fácilmente para grabar sus propias preguntas. El micrófono puede también ser movido suavemente y sin sonido para indicar no verbalmente al entrevistado que ha transcurrido demasiado tiempo y que es momento de cerrar. El entrevistado nunca debería sostener el micrófono. Cuando esto sucede, el entrevistador pierde el control de la entrevista y la calidad de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posición ideal para el micrófono depende de qué tipo se use, pero generalmente el micrófono debería estar a 30 centímetros de la boca del hablante, a un leve ángulo de 45 grados de la esquina. Escuchar y reposicionar el micrófono si el entrevistado suena fuera de micrófono o si se escuchan demasiado explos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n muchos tipos de micrófonos, pero generalmente un micrófono omnidireccional funciona bien para la mayoría de l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B353-D55D-4BFB-B806-B94DC8430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3D195-5DFE-4248-8C1D-39587770D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CC817-C2FF-4243-BF1D-5BFFD9543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D8B1D-90A9-4C5B-84D6-03AF0A1B9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0650D-4F18-4826-8F79-C91361AF5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6B9F27-CF60-43F5-8460-D5E068AD1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3DF4E3-4B41-4E72-8FD0-FBB080073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314D0B-E698-45E4-A951-F87153CB9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40D16E-9C77-4065-A4C5-895045E6D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8B73E3-F695-426B-B857-DD515A43D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87C4D5-9532-4017-B442-8DE402E57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EFA053-857E-4AEB-91D7-7EA7B2B04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34FA4-C78C-4416-BE68-9E5AFAED9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750D22-2A60-41E8-B912-81F216D0D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0BCF5C-C094-420E-969B-7A1033651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0076C1-4CCD-478E-8969-AF17C2501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11BDF07-14A7-4367-8006-76D0DF258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0B1312-10E3-4C47-9167-4BE4D430C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35CF-83C4-4957-8E7C-E0422BA50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F6AD6-F348-4D21-94C8-DE14C1A8A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DFDC-C5D8-4132-9E1C-BD0AE1DE3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B7F68-48C7-47C1-A8F0-8D3EBE435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FEA3-5B63-40F2-BFCA-F80E3B10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5CE0-1590-405F-980F-B1A2DA58E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969A9-73E6-4985-85A8-5E2A21A42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0C67-1D54-4999-BEF2-82544D677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685E-B114-4906-8C3D-B0416FFC9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ocumentación</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969696"/>
                </a:solidFill>
                <a:latin typeface="Arial"/>
              </a:rPr>
              <a:t>Fundamentos de la Grabación de Audio</a:t>
            </a:r>
            <a:endParaRPr b="0" lang="en-US" sz="2800" spc="-1" strike="noStrike">
              <a:solidFill>
                <a:srgbClr val="5f5f5f"/>
              </a:solidFill>
              <a:latin typeface="Arial"/>
            </a:endParaRPr>
          </a:p>
        </p:txBody>
      </p:sp>
      <p:sp>
        <p:nvSpPr>
          <p:cNvPr id="93" name="Rectangle 4"/>
          <p:cNvSpPr/>
          <p:nvPr/>
        </p:nvSpPr>
        <p:spPr>
          <a:xfrm>
            <a:off x="300312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4"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4U06</a:t>
            </a:r>
            <a:endParaRPr b="0" lang="en-US" sz="1800" spc="-1" strike="noStrike">
              <a:solidFill>
                <a:srgbClr val="000000"/>
              </a:solidFill>
              <a:latin typeface="Arial"/>
            </a:endParaRPr>
          </a:p>
        </p:txBody>
      </p:sp>
      <p:pic>
        <p:nvPicPr>
          <p:cNvPr id="95"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a:t>
            </a:r>
            <a:br>
              <a:rPr sz="4400"/>
            </a:br>
            <a:r>
              <a:rPr b="0" lang="es-AR" sz="4400" spc="-1" strike="noStrike">
                <a:solidFill>
                  <a:srgbClr val="cc3300"/>
                </a:solidFill>
                <a:latin typeface="Arial"/>
              </a:rPr>
              <a:t>Micrófonos Lavalier</a:t>
            </a:r>
            <a:endParaRPr b="0" lang="en-US" sz="4400" spc="-1" strike="noStrike">
              <a:solidFill>
                <a:srgbClr val="cc3300"/>
              </a:solidFill>
              <a:latin typeface="Arial"/>
            </a:endParaRPr>
          </a:p>
        </p:txBody>
      </p:sp>
      <p:sp>
        <p:nvSpPr>
          <p:cNvPr id="113" name=""/>
          <p:cNvSpPr txBox="1"/>
          <p:nvPr/>
        </p:nvSpPr>
        <p:spPr>
          <a:xfrm>
            <a:off x="468360" y="2060640"/>
            <a:ext cx="8229600" cy="4464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prenden a la ropa del suje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ptan consistentemente sonido de corto alca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deales cuando múltiples participantes tienen sus propios micrófo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ducen un sonido más turb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rozar contra la rop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nsejos para la Grabación de Audio: Escuchar</a:t>
            </a:r>
            <a:endParaRPr b="0" lang="en-US" sz="4000" spc="-1" strike="noStrike">
              <a:solidFill>
                <a:srgbClr val="cc3300"/>
              </a:solidFill>
              <a:latin typeface="Arial"/>
            </a:endParaRPr>
          </a:p>
        </p:txBody>
      </p:sp>
      <p:sp>
        <p:nvSpPr>
          <p:cNvPr id="115"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ntarse y escuchar antes de grab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ferentes ubicaciones pueden producir mejores result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errar puertas y ventan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alquier ruido debería estar atrás del entrevistado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a:t>
            </a:r>
            <a:br>
              <a:rPr sz="4400"/>
            </a:br>
            <a:r>
              <a:rPr b="0" lang="es-AR" sz="4400" spc="-1" strike="noStrike">
                <a:solidFill>
                  <a:srgbClr val="cc3300"/>
                </a:solidFill>
                <a:latin typeface="Arial"/>
              </a:rPr>
              <a:t>Grabaciones de Prueba</a:t>
            </a:r>
            <a:endParaRPr b="0" lang="en-US" sz="4400" spc="-1" strike="noStrike">
              <a:solidFill>
                <a:srgbClr val="cc3300"/>
              </a:solidFill>
              <a:latin typeface="Arial"/>
            </a:endParaRPr>
          </a:p>
        </p:txBody>
      </p:sp>
      <p:sp>
        <p:nvSpPr>
          <p:cNvPr id="117" name=""/>
          <p:cNvSpPr txBox="1"/>
          <p:nvPr/>
        </p:nvSpPr>
        <p:spPr>
          <a:xfrm>
            <a:off x="468360" y="2349360"/>
            <a:ext cx="8229600" cy="450864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r una pequeña conversación primero y luego revisarla antes de la grabación re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r que los invitados indique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u nomb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fech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reconocimiento de autorización verbal.</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a:t>
            </a:r>
            <a:r>
              <a:rPr b="0" lang="es-AR" sz="4400" spc="-1" strike="noStrike">
                <a:solidFill>
                  <a:srgbClr val="cc3300"/>
                </a:solidFill>
                <a:latin typeface="Arial"/>
              </a:rPr>
              <a:t>	</a:t>
            </a:r>
            <a:r>
              <a:rPr b="0" lang="es-AR" sz="4400" spc="-1" strike="noStrike">
                <a:solidFill>
                  <a:srgbClr val="cc3300"/>
                </a:solidFill>
                <a:latin typeface="Arial"/>
              </a:rPr>
              <a:t>Mantenerse en Silencio</a:t>
            </a:r>
            <a:endParaRPr b="0" lang="en-US" sz="4400" spc="-1" strike="noStrike">
              <a:solidFill>
                <a:srgbClr val="cc3300"/>
              </a:solidFill>
              <a:latin typeface="Arial"/>
            </a:endParaRPr>
          </a:p>
        </p:txBody>
      </p:sp>
      <p:sp>
        <p:nvSpPr>
          <p:cNvPr id="119"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r cuidadoso con incentivos como “ajá” o “mmm”.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interrupciones son muy difíciles de ser eliminadas con la edi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asentimiento con la cabeza o las expresiones faciales son una buena alternativ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 en un Hogar</a:t>
            </a:r>
            <a:endParaRPr b="0" lang="en-US" sz="4400" spc="-1" strike="noStrike">
              <a:solidFill>
                <a:srgbClr val="cc3300"/>
              </a:solidFill>
              <a:latin typeface="Arial"/>
            </a:endParaRPr>
          </a:p>
        </p:txBody>
      </p:sp>
      <p:sp>
        <p:nvSpPr>
          <p:cNvPr id="121" name=""/>
          <p:cNvSpPr txBox="1"/>
          <p:nvPr/>
        </p:nvSpPr>
        <p:spPr>
          <a:xfrm>
            <a:off x="457200" y="1285920"/>
            <a:ext cx="8229600" cy="4525920"/>
          </a:xfrm>
          <a:prstGeom prst="rect">
            <a:avLst/>
          </a:prstGeom>
          <a:noFill/>
          <a:ln w="0">
            <a:noFill/>
          </a:ln>
        </p:spPr>
        <p:txBody>
          <a:bodyPr anchor="t">
            <a:normAutofit fontScale="84000"/>
          </a:bodyPr>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entrevistas se realizarán a menudo en el hogar del entrevistado.</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 los dispositivos cerca de los entrevistados.</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parar el micrófono de la mesa con un soporte para micrófono.</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ntar al entrevistado con la espalda hacia el lado más tranquilo de la sala.</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quilibrar la calidad del sonido con la comodidad del entrevistad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 en un Hogar</a:t>
            </a:r>
            <a:endParaRPr b="0" lang="en-US" sz="4400" spc="-1" strike="noStrike">
              <a:solidFill>
                <a:srgbClr val="cc33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 decidir dónde debería sentarse un entrevistado, los entrevistadores podrán pregunta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a puerta que pueda abri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a ventana abiert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 televisor o radio encendi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 refrigerador, acondicionador de aire o computadora próxim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rabación de Grupos</a:t>
            </a:r>
            <a:endParaRPr b="0" lang="en-US" sz="4400" spc="-1" strike="noStrike">
              <a:solidFill>
                <a:srgbClr val="cc3300"/>
              </a:solidFill>
              <a:latin typeface="Arial"/>
            </a:endParaRPr>
          </a:p>
        </p:txBody>
      </p:sp>
      <p:sp>
        <p:nvSpPr>
          <p:cNvPr id="125" name=""/>
          <p:cNvSpPr txBox="1"/>
          <p:nvPr/>
        </p:nvSpPr>
        <p:spPr>
          <a:xfrm>
            <a:off x="468360" y="1125000"/>
            <a:ext cx="8229600" cy="4526280"/>
          </a:xfrm>
          <a:prstGeom prst="rect">
            <a:avLst/>
          </a:prstGeom>
          <a:noFill/>
          <a:ln w="0">
            <a:noFill/>
          </a:ln>
        </p:spPr>
        <p:txBody>
          <a:bodyPr anchor="t">
            <a:normAutofit fontScale="85000"/>
          </a:bodyPr>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dos los participantes tienen que ser claramente audibles y fácilmente identificables.</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 el dispositivo de grabación en forma central.</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r que los participantes se presenten.</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lamar o agradecer a los entrevistados por nombre.</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cordar a los participantes que hablen algo y se aseguren que una sola persona hable por vez.</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lmacenamiento de Grabaciones</a:t>
            </a:r>
            <a:endParaRPr b="0" lang="en-US" sz="4000" spc="-1" strike="noStrike">
              <a:solidFill>
                <a:srgbClr val="cc33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preservación de la información digital depende de tres factor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teroperabilida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undanci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igració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spaldo de Grabaciones</a:t>
            </a:r>
            <a:endParaRPr b="0" lang="en-US" sz="4400" spc="-1" strike="noStrike">
              <a:solidFill>
                <a:srgbClr val="cc33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uardar los archivos en múltiples discos duros exter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por lo menos dos discos de CD o DVD con archivos de aud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ntener los materiales en más de una ubicación físic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os archivos regularm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 el tiempo, migrar inmediatamen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so de Grabaciones de Audio en Proyectos de Mapeo Participativo</a:t>
            </a:r>
            <a:endParaRPr b="0" lang="en-US" sz="4400" spc="-1" strike="noStrike">
              <a:solidFill>
                <a:srgbClr val="cc3300"/>
              </a:solidFill>
              <a:latin typeface="Arial"/>
            </a:endParaRPr>
          </a:p>
        </p:txBody>
      </p:sp>
      <p:sp>
        <p:nvSpPr>
          <p:cNvPr id="131"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grabaciones de audio pueden se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mpalmadas junto con fotografías o vide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sadas para crear podcas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corporadas en proyectos de video document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sadas con fines de archiv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estinadas para abordar diferentes temas en el futur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7" name=""/>
          <p:cNvSpPr txBox="1"/>
          <p:nvPr/>
        </p:nvSpPr>
        <p:spPr>
          <a:xfrm>
            <a:off x="457200" y="1500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segurarse de que la grabación final sea clara y audibl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sejos para hacer grabaciones de audio de alta cal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ción de audio en diferentes contex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rganización y almacenamiento de grabaciones de audi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nsejos Para la Grabación de Audio</a:t>
            </a:r>
            <a:endParaRPr b="0" lang="en-US" sz="4000" spc="-1" strike="noStrike">
              <a:solidFill>
                <a:srgbClr val="cc3300"/>
              </a:solidFill>
              <a:latin typeface="Arial"/>
            </a:endParaRPr>
          </a:p>
        </p:txBody>
      </p:sp>
      <p:sp>
        <p:nvSpPr>
          <p:cNvPr id="99" name=""/>
          <p:cNvSpPr txBox="1"/>
          <p:nvPr/>
        </p:nvSpPr>
        <p:spPr>
          <a:xfrm>
            <a:off x="0" y="1699920"/>
            <a:ext cx="8686800" cy="43974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cassettes se usan con menor frecuenci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queños dispositivos de mano que graban en formato digital son más comu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cción de un dispositivo de grabación. Equilibrar el costo con las necesidades de calidad del aud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dependientemente del dispositivos, los fundamentos continuarán siendo los mism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Auriculares</a:t>
            </a:r>
            <a:endParaRPr b="0" lang="en-US" sz="4400" spc="-1" strike="noStrike">
              <a:solidFill>
                <a:srgbClr val="cc3300"/>
              </a:solidFill>
              <a:latin typeface="Arial"/>
            </a:endParaRPr>
          </a:p>
        </p:txBody>
      </p:sp>
      <p:sp>
        <p:nvSpPr>
          <p:cNvPr id="101" name=""/>
          <p:cNvSpPr txBox="1"/>
          <p:nvPr/>
        </p:nvSpPr>
        <p:spPr>
          <a:xfrm>
            <a:off x="39528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n a la persona que está grabando escuchar exactamente lo que se está captan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 la eliminación de sonidos que de otra manera no se notarían.</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549000"/>
            <a:ext cx="8218440" cy="13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Minimizar el Ruido de Fondo</a:t>
            </a:r>
            <a:endParaRPr b="0" lang="en-US" sz="4400" spc="-1" strike="noStrike">
              <a:solidFill>
                <a:srgbClr val="cc3300"/>
              </a:solidFill>
              <a:latin typeface="Arial"/>
            </a:endParaRPr>
          </a:p>
        </p:txBody>
      </p:sp>
      <p:sp>
        <p:nvSpPr>
          <p:cNvPr id="103" name=""/>
          <p:cNvSpPr txBox="1"/>
          <p:nvPr/>
        </p:nvSpPr>
        <p:spPr>
          <a:xfrm>
            <a:off x="468360" y="2204640"/>
            <a:ext cx="8229600" cy="41655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errar los ojos y escuch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udios y laboratorios a prueba de rui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n tranquilo y libre de distracciones como sea posi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Manipulación del Ambiente</a:t>
            </a:r>
            <a:endParaRPr b="0" lang="en-US" sz="4400" spc="-1" strike="noStrike">
              <a:solidFill>
                <a:srgbClr val="cc3300"/>
              </a:solidFill>
              <a:latin typeface="Arial"/>
            </a:endParaRPr>
          </a:p>
        </p:txBody>
      </p:sp>
      <p:sp>
        <p:nvSpPr>
          <p:cNvPr id="105" name=""/>
          <p:cNvSpPr txBox="1"/>
          <p:nvPr/>
        </p:nvSpPr>
        <p:spPr>
          <a:xfrm>
            <a:off x="468360" y="2565360"/>
            <a:ext cx="8229600" cy="3733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dir a los entrevistados que apaguen el televisor, radio, teléfonos celulares, etc.</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Zumbido de fon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os ruidos no pueden ser removidos de las grabacion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Sonido Ambiental</a:t>
            </a:r>
            <a:endParaRPr b="0" lang="en-US" sz="4400" spc="-1" strike="noStrike">
              <a:solidFill>
                <a:srgbClr val="cc3300"/>
              </a:solidFill>
              <a:latin typeface="Arial"/>
            </a:endParaRPr>
          </a:p>
        </p:txBody>
      </p:sp>
      <p:sp>
        <p:nvSpPr>
          <p:cNvPr id="107"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uido de fondo antes de que se graben voc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mbién se conoce como “sonido ambi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r 2-3 minutos antes de la sesión de grab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ser usado para suavizar malas edicion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Posicionamiento del Micrófono</a:t>
            </a:r>
            <a:endParaRPr b="0" lang="en-US" sz="4400" spc="-1" strike="noStrike">
              <a:solidFill>
                <a:srgbClr val="cc3300"/>
              </a:solidFill>
              <a:latin typeface="Arial"/>
            </a:endParaRPr>
          </a:p>
        </p:txBody>
      </p:sp>
      <p:sp>
        <p:nvSpPr>
          <p:cNvPr id="109" name=""/>
          <p:cNvSpPr txBox="1"/>
          <p:nvPr/>
        </p:nvSpPr>
        <p:spPr>
          <a:xfrm>
            <a:off x="468360" y="1988640"/>
            <a:ext cx="8229600" cy="4310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fectos negativos si está demasiado lejos o demasiado cerc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n cerca como sea posible, pero no tan cerca de manera que se introduzcan efectos indese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quilibrio entr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onido del sujet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uido ambient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8218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Cómo Sostener el Micrófono</a:t>
            </a:r>
            <a:endParaRPr b="0" lang="en-US" sz="4400" spc="-1" strike="noStrike">
              <a:solidFill>
                <a:srgbClr val="cc3300"/>
              </a:solidFill>
              <a:latin typeface="Arial"/>
            </a:endParaRPr>
          </a:p>
        </p:txBody>
      </p:sp>
      <p:sp>
        <p:nvSpPr>
          <p:cNvPr id="111" name=""/>
          <p:cNvSpPr txBox="1"/>
          <p:nvPr/>
        </p:nvSpPr>
        <p:spPr>
          <a:xfrm>
            <a:off x="468360" y="2060640"/>
            <a:ext cx="8229600" cy="423864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ostenerlo con las puntas de los de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entrevistado no debería sostener el micrófon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lo a 30 centímetros de la boca del habla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crófonos omnidireccionales funcionan bien.</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eria</cp:lastModifiedBy>
  <dcterms:modified xsi:type="dcterms:W3CDTF">2010-05-05T13:25:48Z</dcterms:modified>
  <cp:revision>35</cp:revision>
  <dc:subject/>
  <dc:title>Presentación - Audio Grab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