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8DE1-173E-4A38-9481-2993045D5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5A88-888A-4D01-8C19-911BE55E9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148A-8EFF-42E3-AC90-B56B2DF68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arias metodologías de planificación diferentes se describen en Recursos Adicionales y también en el Glosario. Usted no podrá enseñar una metodología completa. La meta es ayudar a los participantes a ver el valor de un sistema coherente de planificación, monitoreo y  evalu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3AAA-9E52-4803-9EB9-7FEADFE34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sted podría hacer que los participantes discutan porqué importan estos diferentes niveles. Comprender la escala en la que se está abordando un problema ayuda a dar un paso hacia atrás para ver el panorama general, en vez de tratar siempre de abordar los síntomas inmediatos de un problema más prof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8A79-FBE7-4D5A-A50E-0DD089E86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 partir de esto, los participantes deberían poder ver la relación entre la planificación, el monitoreo y la evaluación, como parte de una metodolog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58A-C958-49C0-B5FC-34B51BBAD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quí vale la pena explorar el concepto de “grupo meta”. ¿Quiénes generarán los cambios en la situación que el mapeo intenta resolve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10B-8489-4B0B-8752-1FA959854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IOV son aquí un concepto clave. Los participantes deben poder dar ejemplos claros de IO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621B-BEEC-4BC0-91A6-CBD46D51B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quí la idea es que usted está en un espiral que se mueve hacia adelante en forma progresiva.  Usted se está moviendo a través de acciones, a reflexiones, a volver a planificar  y a acciones fres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9F3C-95F6-4319-87A6-6102EE121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 algunas personas no les gusta la idea de la evaluación, pero ésta es una herramienta muy útil para mejorar la calidad de los proyectos y aprender como equip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53C8-87FA-4DAB-AA30-BAD2B1370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F22B-86FA-4529-B428-0D26A33C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7E12-4A27-4B96-973C-CF3E6AA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9539-A703-41E9-8E7B-0713453C11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B9761-C1FF-4C44-A54D-64AF3E5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7F71-62B1-44AD-AF97-671FD33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5BEF-37C2-48E9-9686-0EFD7A6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C8DE-5959-45E5-BF27-BF509AA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F759-2141-43A3-8944-AF6E1E9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B9CF-7958-4F21-A305-D79A06FF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2DD2-E283-4828-9001-0C06775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B5A5-2E50-4E9F-B4DC-185CD342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BD5C-5D78-4CCE-9731-A888EDD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BCCC9-4AB9-4157-9549-BBFEF00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AB2EA-3BF5-4EAB-ABD8-8945ABA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CC71-AAFC-4F39-857D-E4EFF83D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CB23F-2A98-4535-88CF-4A3EF7FE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7026-14E4-4B05-A168-BC86ECD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B6CF-C8EC-400F-B93B-50EFF8C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9A1A-1A65-4067-BAC1-4873A0FF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B709-5F97-4D58-B5E8-7DFF9DF6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B198-C52A-4FC2-861B-DB89A84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CCE0-28DD-4576-A665-B3BB1217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85A3-029D-4B01-95CC-444E66C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8BB-FCD6-4B6D-B31A-6BAFFEB8A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8532-3F0D-440C-BD89-C3559ECB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y Reflexión sobre el Proceso de Map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69696"/>
                </a:solidFill>
                <a:latin typeface="Arial"/>
              </a:rPr>
              <a:t>Herramientas para el Éxito</a:t>
            </a:r>
            <a:r>
              <a:rPr b="0" lang="es-ES" sz="32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12400" y="51577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Por: Nigel Craw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dad: M1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Adopción de una Metodologí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isten distintas metodologías  para la planificación, el monitoreo y la evaluación de proyect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adopción de una metodología en particular ayuda a ser consistente y a revisar puntos clave en la planificación y en el Kit  de herramientas de evalu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Enfoque de Marco Lógico (ZOPP) y la Investigación Apreciativa son ejempl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cala de Resultad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3300"/>
                </a:solidFill>
                <a:latin typeface="Arial"/>
              </a:rPr>
              <a:t>Objetivo de desarrollo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: Es el resultado general, positivo, de largo plazo, que la comunidad bus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3300"/>
                </a:solidFill>
                <a:latin typeface="Arial"/>
              </a:rPr>
              <a:t>Propósito del proyecto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: Es el efecto inmediato de la implementación de este proyecto y debe contribuir al objetivo de desarroll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3300"/>
                </a:solidFill>
                <a:latin typeface="Arial"/>
              </a:rPr>
              <a:t>Resultados/Objetivos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: El propósito de un proyecto se compone de varios pasos y resultados más pequeños que juntos aseguran que se logra el propósito del proyecto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lanificación, Monitoreo y Evaluació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planificación, el monitoreo y la evaluación son todos parte de un solo pro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planificación establece los objetiv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monitoreo ayuda a verificar si los objetivos se están alcanzando según lo planific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evaluación mide si el propósito general del proyecto se ha alcanz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evaluación también brinda  una oportunidad para reflexionar sobre el proceso general y el empoderamien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doptar una metodología apropiada para el contex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sarrollar un análisis de la situación negativa que debe resolve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pecificar el grupo meta es decir, aquellos en la comunidad que realizarán las ac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dentificar los niveles de resultados deseados: objetivo de desarrollo, propósito del proyecto, resultados que llevan al propósito del proyec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Monitor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da resultado en el proyecto necesita un indicador que ayude a determinar si usted está logrando el resultado tal como fue planific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indicadores deben al menos brindar cantidad, calidad, tiempo y lugar para el result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monitoreo involucra la recolección de datos a medida que los eventos suced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indicadores objetivamente verificables (IOV) hacen el trabajo de usted  transparente ante los donantes, ante toda la comunidad y los demá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Diagram 4"/>
          <p:cNvGrpSpPr/>
          <p:nvPr/>
        </p:nvGrpSpPr>
        <p:grpSpPr>
          <a:xfrm>
            <a:off x="2038320" y="1361880"/>
            <a:ext cx="5317560" cy="4656600"/>
            <a:chOff x="2038320" y="1361880"/>
            <a:chExt cx="5317560" cy="4656600"/>
          </a:xfrm>
        </p:grpSpPr>
        <p:sp>
          <p:nvSpPr>
            <p:cNvPr id="106" name="_s1028"/>
            <p:cNvSpPr/>
            <p:nvPr/>
          </p:nvSpPr>
          <p:spPr>
            <a:xfrm>
              <a:off x="3085200" y="1361880"/>
              <a:ext cx="3222720" cy="32911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9"/>
            <p:cNvSpPr/>
            <p:nvPr/>
          </p:nvSpPr>
          <p:spPr>
            <a:xfrm rot="7200000">
              <a:off x="3492000" y="21744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0"/>
            <p:cNvSpPr/>
            <p:nvPr/>
          </p:nvSpPr>
          <p:spPr>
            <a:xfrm rot="14400000">
              <a:off x="2610720" y="2176200"/>
              <a:ext cx="3291120" cy="3222720"/>
            </a:xfrm>
            <a:custGeom>
              <a:avLst/>
              <a:gdLst>
                <a:gd name="textAreaLeft" fmla="*/ 0 w 3291120"/>
                <a:gd name="textAreaRight" fmla="*/ 3291480 w 329112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>
              <a:off x="5578920" y="1964880"/>
              <a:ext cx="1293480" cy="13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REFLEXIÓN 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Monitoreo -&gt; Evalu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050360" y="4668120"/>
              <a:ext cx="129348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PLANÌFICACIÓN</a:t>
              </a:r>
              <a:br>
                <a:rPr sz="1000"/>
              </a:b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/ VOLVER A PLANIFICAR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2521800" y="1965960"/>
              <a:ext cx="129384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000" spc="-1" strike="noStrike">
                  <a:solidFill>
                    <a:srgbClr val="000000"/>
                  </a:solidFill>
                  <a:latin typeface="Arial"/>
                </a:rPr>
                <a:t>A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1"/>
          <p:cNvSpPr/>
          <p:nvPr/>
        </p:nvSpPr>
        <p:spPr>
          <a:xfrm>
            <a:off x="324000" y="260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Ciclos de Planificación, Monitoreo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5f5f5f"/>
                </a:solidFill>
                <a:latin typeface="Arial"/>
              </a:rPr>
              <a:t>La evaluación puede ser sumativa, preguntar, ¿qué pasó? o formativa y preguntar ¿qué nos dice esto para el futuro?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5f5f5f"/>
                </a:solidFill>
                <a:latin typeface="Arial"/>
              </a:rPr>
              <a:t>Los proyectos se evalúan a la luz del propósito del proyecto  y de los indicadores de resultado.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5f5f5f"/>
                </a:solidFill>
                <a:latin typeface="Arial"/>
              </a:rPr>
              <a:t>La evaluación puede observar el impacto causado por el proyecto, que en ocasiones puede no ser intencional.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5f5f5f"/>
                </a:solidFill>
                <a:latin typeface="Arial"/>
              </a:rPr>
              <a:t>La evaluación puede ver los procesos, incluyendo las dinámicas humanas y el empoderamiento.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34:06Z</dcterms:created>
  <dc:creator>Nigel Crawhall</dc:creator>
  <dc:description/>
  <cp:keywords>pgis training kit</cp:keywords>
  <dc:language>en-US</dc:language>
  <cp:lastModifiedBy>Valeria</cp:lastModifiedBy>
  <dcterms:modified xsi:type="dcterms:W3CDTF">2010-04-16T14:34:32Z</dcterms:modified>
  <cp:revision>54</cp:revision>
  <dc:subject>M15 - Action planning</dc:subject>
  <dc:title>Presentación -  Evaluación y reflexión sobre el proceso de Mape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