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0" y="8664120"/>
            <a:ext cx="6856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56ECA-2855-46C3-A74F-D2D42DD060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0" y="8664480"/>
            <a:ext cx="6856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B1F52-F99D-4B3C-8040-C8F2945B9D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0" y="8664480"/>
            <a:ext cx="6856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DD76C-D0E2-484D-B9BD-113E1DF828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0" y="8664480"/>
            <a:ext cx="6856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ADDCB-75CC-46AD-8D07-F68804F4D0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  <a:ea typeface="Arial"/>
              </a:rPr>
              <a:t>Ubicar y examinar son parte de la metodología de planificación. Significa identificar quiénes son las partes interesadas y decidir cuáles necesitarán qué tipo de información y en qué forma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0" y="8664480"/>
            <a:ext cx="6856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8CBB9-9F0F-484C-B7AD-180407000B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8664480"/>
            <a:ext cx="6856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E72C9-6D4F-40BD-9C66-7E3675AC72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  <a:ea typeface="Arial"/>
              </a:rPr>
              <a:t>Vea el Glosario en la parte que trata sobre cómo se distinguen las redes y las alianzas. Esta no es una definición fija y definitiva, pero es útil para distinguir a aquellos con quienes puede compartir información y aprender de ellos, con quienes comparte sus objetivos de incidencia y con quienes se comprometerán a estrategias de cooperación más profunda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0" y="8664480"/>
            <a:ext cx="6856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6DF0D-A9CF-46A2-A6FE-8B9E6A7D4B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0" y="8664480"/>
            <a:ext cx="6856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759C1-2B9B-483A-9DDC-603195BD6C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  <a:ea typeface="Arial"/>
              </a:rPr>
              <a:t>Vale la pena conocer el nivel de experiencia de los participantes.  Esta puede variar en gran medida.  No hay mejor forma de hacerlo que de primera mano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84E5F-87E8-4497-9DF8-6382BC5E04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48BEB-48FE-40A6-A9C8-17B42A17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DD281-6CD0-4B84-8FA4-3DE251FC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DF4FE-04F1-44A6-9BA8-A0332066F3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909CB-77B8-4519-86C7-5013E6BFC3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2DB0E-4831-4182-9901-A9EEEE13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97887-BBE5-41CF-A40F-5ACBD873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623B6-704B-4DF2-8A98-7D1F2EC7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1843D-DC6F-4FDE-94F8-DCF73470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8291F-7307-4421-A613-1F071DA7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28781-1766-46F8-9C66-1AE39016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DDD7B-1D57-4C2B-A66E-E49687D7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AA85E-104A-4BA1-920B-13CE8D21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5EAC4-A5A8-4DF9-8976-4CC68AE1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F8BFA-EF9B-46C0-BE5B-A9F9B6D4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CFC6E-9BD2-4C23-8418-652D5F3D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CAC6F-A9F1-4AAF-B7F4-09CFF98641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3D1B9-B5E9-44E3-B1FC-66655DEB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7EBD1-5D18-40D2-9A85-DC4754C2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513AC-8F85-4CA5-AFFE-C50749E3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DF6E3-0A40-463B-8F0E-51DAE80C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BA9FA-EBAA-4E75-A40C-B02A6AC3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EAE7D-F897-4354-A788-07EA1CAA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C443C-9E8B-4216-B6AA-82CC4360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5713DF-6C94-468C-A89D-2FD8BCC159A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AF9285-03C7-46F2-9B9F-BA8101C872A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Proceso y Presentación de la Información para Fines de Comunicación 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lanificación y Estrategia de Comunic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594240" y="5562720"/>
            <a:ext cx="21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or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Nigel Crawh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5f5f5f"/>
                </a:solidFill>
                <a:latin typeface="Arial"/>
              </a:rPr>
              <a:t>Unidad: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 M15U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Seleccione el Medio para el Mensaje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3200" spc="-1" strike="noStrike">
                <a:solidFill>
                  <a:srgbClr val="777777"/>
                </a:solidFill>
                <a:latin typeface="Arial"/>
              </a:rPr>
              <a:t>Para que un mensaje clave sea aceptado y comprendido por diferentes actores puede ser necesario expresarlo en diferentes medi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3200" spc="-1" strike="noStrike">
                <a:solidFill>
                  <a:srgbClr val="777777"/>
                </a:solidFill>
                <a:latin typeface="Arial"/>
              </a:rPr>
              <a:t>Las opciones de medios incluyen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400" spc="-1" strike="noStrike">
                <a:solidFill>
                  <a:srgbClr val="777777"/>
                </a:solidFill>
                <a:latin typeface="Arial"/>
              </a:rPr>
              <a:t>PowerPoint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400" spc="-1" strike="noStrike">
                <a:solidFill>
                  <a:srgbClr val="777777"/>
                </a:solidFill>
                <a:latin typeface="Arial"/>
              </a:rPr>
              <a:t>Presentaciones orales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400" spc="-1" strike="noStrike">
                <a:solidFill>
                  <a:srgbClr val="777777"/>
                </a:solidFill>
                <a:latin typeface="Arial"/>
              </a:rPr>
              <a:t>Mapas de SIG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400" spc="-1" strike="noStrike">
                <a:solidFill>
                  <a:srgbClr val="777777"/>
                </a:solidFill>
                <a:latin typeface="Arial"/>
              </a:rPr>
              <a:t>Informes impreso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400" spc="-1" strike="noStrike">
                <a:solidFill>
                  <a:srgbClr val="777777"/>
                </a:solidFill>
                <a:latin typeface="Arial"/>
              </a:rPr>
              <a:t>Comunicación digital y electrónica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tos de la Comunic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Ubique y examine  a las partes interesadas que necesitan la información. Comúniquese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on la población local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on aliados, miembros de una red y vecino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on los tomadores de decisiones y las autoridades estatal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on las agencias internacionales y los foros de política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lanear para tener una Buena Comunic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comunicación eficaz exige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dentificar a los agentes de cambio que van a ser los paladines de la comunicación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dentificar a los tomadores de decisiones que pueden generar cambios positivo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Relacionarse con redes útiles o encontrar aliados para compartir su estrategi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¡Coordinarlos a todos!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des  y Alianza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s redes y las alianzas pueden fortalecer el impacto de la incidencia y atraer recurso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30840" indent="-330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os miembros de la comunidad aprenden de las redes y obtienen apoyo moral de las alianz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30840" indent="-330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s redes y las alianzas dependen de  comunicación e intercambio dinámico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30840" indent="-330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Usted debe contribuir si desea recibir alg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30840" indent="-330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s redes tienen éxito cuando tienen trabajo que hacer, cuando los miembros contribuyen, se benefician y cuando se monitorea el compromiso de los activistas individual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Medios Impres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ublicar los mapas y hacerlos disponibl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roducir informes sobre el proceso de mape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ublicar artículos sobre los mapas en revistas y en líne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roducir folletos  con las recomendacion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0320" indent="-3103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s presentaciones en PowerPoint pueden imprimirs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10320" indent="-3103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Recolectar mapas y publicar un atlas del territori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10320" indent="-3103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Hacer afiches para difundir el mensaj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10320" indent="-3103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ontactar a los periódicos para que informen  sobre el mapeo y el mensaj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Web 2.0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Los blogs en los sitios  web crean espacios para el diálogo interactivo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YouTube ofrece la oportunidad de compartir el mensaje en formato de  video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Las búsquedas y los contenidos RSS le ayudan a mantenerse informado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La nueva tecnología para correo electrónico facilita la creación de listas electrónica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Las </a:t>
            </a:r>
            <a:r>
              <a:rPr b="0" i="1" lang="es-AR" sz="2400" spc="-1" strike="noStrike">
                <a:solidFill>
                  <a:srgbClr val="5f5f5f"/>
                </a:solidFill>
                <a:latin typeface="Arial"/>
              </a:rPr>
              <a:t>listservs</a:t>
            </a: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 pueden compartir su mensaje ampliamente y atraer nueva información o alianza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Google Alert puede monitorear el impacto de los medios electrónico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9:51:53Z</dcterms:created>
  <dc:creator>Nigel Crawhall</dc:creator>
  <dc:description/>
  <cp:keywords>pgis training kit</cp:keywords>
  <dc:language>en-US</dc:language>
  <cp:lastModifiedBy>martens</cp:lastModifiedBy>
  <dcterms:modified xsi:type="dcterms:W3CDTF">2010-04-27T11:09:34Z</dcterms:modified>
  <cp:revision>45</cp:revision>
  <dc:subject/>
  <dc:title>Presentación - Proceso y presentacion de la información para fines de comunic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